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F4C-7881-4BFC-B57D-09FC004E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D04-60F2-407E-BBAE-C4C0E7E1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E27-27A3-4250-B989-C9CB8F0D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25A-BC0F-4C95-BA51-B863F306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EC0-E31B-4B7D-9038-ADB0922D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E9E-B4E1-43FA-9573-021F0B2A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FE6-4E96-4190-9E58-DDBCB9E0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E21-6233-4D22-B4F6-8A4D16A5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6F4-75B4-45B7-82F1-9D0E1C7F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E9F-75A8-4821-A893-C71529D7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0D1-BDC6-4E24-A785-75592410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8AE-9932-4FE4-B0E2-A336B528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C94D-B3E5-4762-AA0A-C7F03A906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ve all got to start som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eus Fa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us Fa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abrication of the world by the Creator in his/her form as an Artist/Crafts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the analogy or metaphor of a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ook of Job (34:4-5) Yahweh refers to creation as “laid the foundation of the earth”  and “took its measuremen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nds to the Hebrew architect image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brew, Huron, Spider Woman, Yu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C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created from clay, the ultimate symbol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created from earth (clay) exists across many different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heorize this is due to the maternal image of the earth.  Others look at the malleability and see an easy creation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foot, Hebrew, Dyak, Egyptian,Polynes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Dismember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myths involve the cosmos being created by cutting up a pre-creation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lonian, Indian, Big Veda, N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Sacri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through the sacrifice of a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dealt with as renewal through sacrifice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us, Osiris, Attis, and Dionysus all have stories of this type of my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heavily to Creation by Dismember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Secretion  (ew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what it sounds like…creation via bodily flu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focused on the ‘divinity’ of life flu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or’s bodily fluids:  feces, urine sweat, semen, spit, vomit, and blood are all used in the creation 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a solitary male god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tu, Boshongo, Chuckchee, Egyp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is a projection of the creator’s though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heory is hinted at in aboriginal dreaming 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ful supreme being preexists existence, world contained in the Mind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dhist, Laguna, Navajo, Winneb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preme Being speaks the Word and connects Logos or Cosmic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od said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rew, Christian, Mayan, Nav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l and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hought of as Creation via aborted atte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attempts to create humanity are unsucc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st M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poor or immoral behavior, may cause a fall.  Heavy on instructional mor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 may be either intentional, or crea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cludes a destruction cycle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D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reme Being sends an animal (duck, turtle into the primal wa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can often be seen as the unformed female principle, and the diver is the creator’s emissary to the princ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ver finds “earth” (sand, mud, rock, etc.) and it is brought to the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and descent have key importance in this mythic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tive American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creation void is a giant eg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s are symbolic of the beginning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connection between visible birth (hatching eggs) and universe 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ic egg is typically silver or gold, like the sun or m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ese, Finnish, Indian, Jap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s use metaphor to explain higher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 stories of mystical monsters were merely representations of the fear conqu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s need to fit their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s should be universally acknowledged images.  Or at least, universal to your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on by Division of Primordial 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of the Cosmic Egg or the separation of cosmic parts from one another to make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ny of these myths there is a newer god who must separate the “parents” to create the new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ptia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Chao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os is the Greek word for primal v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os is often seen as a swirling mass of nothingness, out of which the Creator(s) craft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, Babylonian, Japanes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Em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Native Ameri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the emergence of the people from an under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world is typically seen as a “world womb” where all things are gestated until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Ances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elief is that a prior people created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aborigines believed that their ancestors dreamed the world into 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i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reation theories in modern science have the myth of the beginning-less beg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theorize that something existed before existence as a basis for the co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sely called my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-Bang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etypal things for which to loo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arche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 for common character/deity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s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ten Creation myths use numerology relevant to the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/animus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le/Female gender roles/expectations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and mor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‘folk’ portions of the myths.  Local instruction and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need to create the culture around which you will build your myth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 cautious and thoughtful in your process, this culture must be viable for all forms of my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ortant elements to doc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– Geographic, weather, wild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-Cultural relations – gender, politics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Cultural relations – other cultures that relate directly to you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behavior – violent/pacifist, hunting/agricultural, diplomacy/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Culture’s Creation My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the state of existence pre-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your Creator(s).  Define them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Creation myth are you going to cre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your cast of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t appropriate to the culture you have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eeds to fit the geography, scientific timeframe and the world you have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reative, but at the same time, keep it reined in.  This is a primitive culture with no exposure to modern cynical, sadistic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istence of the world must be expl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Joseph Campbell, “The question being answered is not who made the world or how, but rather the need for presence of a creator being visible in all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aphors and explanations are relevant to the geography where the culture liv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panese myths have a lot to do with the ocean.  The Midwest Indian tribes do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eation myth should define the roles of men, women, animals, and possibly interrelations with other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eation myth should also include explanation of basic human behavior and possibly the separation between the god(s) an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eth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e Forbidden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to consider:  Is your societal view of your god one of perfection or imperf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is your god(dess) all-powerful, all-knowing, all-good, or any combination of these th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what are your god(s)’ limitations and why do they exist.  What characteristics of your culture are captured in that imperf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ion Arche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09480" y="1607760"/>
            <a:ext cx="7925040" cy="50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from Primordial ‘sou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from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us Fa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Dismemberment of Primordial Be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Sacri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Secr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Trial and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th D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osmic Eg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Division of Primordial Un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ha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Em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Ance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in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ordial S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exists, and then out of this something new i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begins with water, chaos, darknes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evolutionary theory and ‘Big Bang’ theories use this base to explain their belie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N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 no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nothing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ularly popular in monotheistic reli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s the god figure creates the universe from nothing, by thought, word, or breath.  Sometimes secretion is used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, Hebrew, Indian, Mayan, Ma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4:22:55Z</dcterms:created>
  <dc:creator>hamblin49</dc:creator>
  <dc:description/>
  <dc:language>en-US</dc:language>
  <cp:lastModifiedBy>SPACS</cp:lastModifiedBy>
  <dcterms:modified xsi:type="dcterms:W3CDTF">2010-05-17T19:47:09Z</dcterms:modified>
  <cp:revision>7</cp:revision>
  <dc:subject/>
  <dc:title>CREATION</dc:title>
</cp:coreProperties>
</file>