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7E9-647F-40FF-8E7B-BF6C454E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762-ED6D-458B-BC1E-76235F0C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D69-7162-43EE-91EF-97F20804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77E-81FB-48D4-8B30-84D6E8CA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7FC-D736-42D0-BE34-9FD4739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C05-E320-4CDC-9517-F1BBE6C8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285-EA6D-4FD9-8F9F-3B418DF4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A9A-5646-4F14-A081-003B03C5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5EA-52ED-4892-8E70-62318A32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1E9-3CE7-4B5A-B28D-A4EE6278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963-1BE6-4D20-8443-46EAEA5B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D29-E6EB-4764-8D67-B49AE97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24F6-5582-48B0-BC36-07BF95D61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all got to start som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us F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abrication of the world by the Creator in his/her form as an Artist/Crafts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analogy or metaphor of a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ok of Job (34:4-5) Yahweh refers to creation as “laid the foundation of the earth”  and “took its measu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nds to the Hebrew architect image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brew, Huron, Spider Woman, Yu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created from clay, the ultimate symbol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created from earth (clay) exists across many different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heorize this is due to the maternal image of the earth.  Others look at the malleability and see an easy creation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foot, Hebrew, Dyak, Egyptian,Polyne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Dismemb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yths involve the cosmos being created by cutting up a pre-creation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lonian, Indian, Big Veda, N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through the sacrifice of a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dealt with as renewal through sacrifice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s, Osiris, Attis, and Dionysus all have stories of this type of my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heavily to Creation by Dismembe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ecretion  (ew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what it sounds like…creation via bodily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ocused on the ‘divinity’ of life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or’s bodily fluids:  feces, urine sweat, semen, spit, vomit, and blood are all used in the creation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a solitary male god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tu, Boshongo, Chuckchee, Egyp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is a projection of the creator’s though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is hinted at in aboriginal dreaming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supreme being preexists existence, world contained in the Min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, Laguna, Navajo, Winneb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reme Being speaks the Word and connects Logos or Cosmic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od sai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rew, Christian, Mayan, Nav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ought of as Creation via aborted atte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ttempts to create humanity are un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poor or immoral behavior, may cause a fall.  Heavy on instructional mor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 may be either intentional, or crea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ludes a destruction cycl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Being sends an animal (duck, turtle into the primal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an often be seen as the unformed female principle, and the diver is the creator’s emissary to the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ver finds “earth” (sand, mud, rock, etc.) and it is brought to the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nd descent have key importance in this mythic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tive American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creation void is a giant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s are symbolic of the beginni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connection between visible birth (hatching eggs) and universe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egg is typically silver or gold, like the sun or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, Finnish, Indian,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use metaphor to explain higher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stories of mystical monsters were merely representations of the fear conqu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need to fit thei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should be universally acknowledged images.  Or at least, universal to you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on by Division of Primordial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of the Cosmic Egg or the separation of cosmic parts from one another to make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of these myths there is a newer god who must separate the “parents” to create the new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i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hao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the Greek word for primal v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often seen as a swirling mass of nothingness, out of which the Creator(s) craft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Babylonian, Japanes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Native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the emergence of the people from an under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world is typically seen as a “world womb” where all things are gestated until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lief is that a prior people created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aborigines believed that their ancestors dreamed the world into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reation theories in modern science have the myth of the beginning-less beg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theorize that something existed before existence as a basis for the co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ly called my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-Ba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etypal things for which to loo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arche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 for common character/deity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s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 Creation myths use numerology relevant to th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/animus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le/Female gender roles/expectation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nd mo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‘folk’ portions of the myths.  Local instruction an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eed to create the culture around which you will build your myt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 cautious and thoughtful in your process, this culture must be viable for all forms of my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ortant elements to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– Geographic, weather, wild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-Cultural relations – gender, politics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ultural relations – other cultures that relate directly to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behavior – violent/pacifist, hunting/agricultural, diplomacy/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’s Creation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he state of existence pre-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reator(s).  Define them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Creation myth are you going to cre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ast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t appropriate to the culture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eeds to fit the geography, scientific timeframe and the world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, but at the same time, keep it reined in.  This is a primitive culture with no exposure to modern cynical, sadistic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ence of the world must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Joseph Campbell, “The question being answered is not who made the world or how, but rather the need for presence of a creator being visible in all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phors and explanations are relevant to the geography where the culture liv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panese myths have a lot to do with the ocean.  The Midwest Indian trib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define the roles of men, women, animals, and possibly interrelations with other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also include explanation of basic human behavior and possibly the separation between the god(s) an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th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Forbidden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to consider:  Is your societal view of your god one of perfection or im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s your god(dess) all-powerful, all-knowing, all-good, or any combination of these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what are your god(s)’ limitations and why do they exist.  What characteristics of your culture are captured in that imper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09480" y="1607760"/>
            <a:ext cx="792504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Primordial ‘sou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smemberment of Primordial B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ecr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rial and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osmic E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vision of Primordial 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ordial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exists, and then out of this something new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gins with water, chaos, darknes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volutionary theory and ‘Big Bang’ theories use this base to explain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othing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popular in monotheistic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the god figure creates the universe from nothing, by thought, word, or breath.  Sometimes secretion is used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Hebrew, Indian, Mayan,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22:55Z</dcterms:created>
  <dc:creator>hamblin49</dc:creator>
  <dc:description/>
  <dc:language>en-US</dc:language>
  <cp:lastModifiedBy>SPACS</cp:lastModifiedBy>
  <dcterms:modified xsi:type="dcterms:W3CDTF">2010-05-17T19:47:09Z</dcterms:modified>
  <cp:revision>7</cp:revision>
  <dc:subject/>
  <dc:title>CREATION</dc:title>
</cp:coreProperties>
</file>