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AC2C-2196-4AA7-A603-22552214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E95-8F1B-44CA-A210-3D03F6F2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0769-CA0F-4797-8155-D08729A4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7D9-E1C6-4B10-8A24-1B353101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A8F4-31D4-4896-B710-1BE3D733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235E-B127-43F1-9638-2300B45A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20DE-F409-4427-ADFE-46E734E0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E81-4BA4-4F7C-830A-A7324DD9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A20D-82EC-48D6-8B7E-7662D094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AB17-0E6F-48F2-B382-DE6F7523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7060-06CA-4D1F-B5E2-0F37582B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BDE1-AF82-4C49-A169-13D41650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1E76-1E51-4527-8BA5-E8C32B3BD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ve all got to start some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eus Fa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us Fa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fabrication of the world by the Creator in his/her form as an Artist/Crafts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the analogy or metaphor of a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Book of Job (34:4-5) Yahweh refers to creation as “laid the foundation of the earth”  and “took its measuremen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ends to the Hebrew architect image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brew, Huron, Spider Woman, Yu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C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created from clay, the ultimate symbol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created from earth (clay) exists across many different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heorize this is due to the maternal image of the earth.  Others look at the malleability and see an easy creation c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foot, Hebrew, Dyak, Egyptian,Polynes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Dismember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myths involve the cosmos being created by cutting up a pre-creation 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ylonian, Indian, Big Veda, N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Sacri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through the sacrifice of a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dealt with as renewal through sacrifice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sus, Osiris, Attis, and Dionysus all have stories of this type of my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heavily to Creation by Dismember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Secretion  (ew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what it sounds like…creation via bodily flu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focused on the ‘divinity’ of life flu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or’s bodily fluids:  feces, urine sweat, semen, spit, vomit, and blood are all used in the creation of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a solitary male god fig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tu, Boshongo, Chuckchee, Egyp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Tho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is a projection of the creator’s though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heory is hinted at in aboriginal dreaming cre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ful supreme being preexists existence, world contained in the Mind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dhist, Laguna, Navajo, Winneb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preme Being speaks the Word and connects Logos or Cosmic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God said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brew, Christian, Mayan, Nav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al and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thought of as Creation via aborted atte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attempts to create humanity are unsuccess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st M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poor or immoral behavior, may cause a fall.  Heavy on instructional mor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 may be either intentional, or creat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ncludes a destruction cycle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D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reme Being sends an animal (duck, turtle into the primal wa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ter can often be seen as the unformed female principle, and the diver is the creator’s emissary to the princi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ver finds “earth” (sand, mud, rock, etc.) and it is brought to the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and descent have key importance in this mythic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Native American cre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 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creation void is a giant eg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s are symbolic of the beginning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connection between visible birth (hatching eggs) and universe cre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mic egg is typically silver or gold, like the sun or m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ese, Finnish, Indian, Japa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hs use metaphor to explain higher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 stories of mystical monsters were merely representations of the fear conqu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hors need to fit their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hors should be universally acknowledged images.  Or at least, universal to your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on by Division of Primordial 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of the Cosmic Egg or the separation of cosmic parts from one another to make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ny of these myths there is a newer god who must separate the “parents” to create the new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ptia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Cha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of Chao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os is the Greek word for primal v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os is often seen as a swirling mass of nothingness, out of which the Creator(s) craft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, Babylonian, Japanes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by Emer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Native Ameri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the emergence of the people from an under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world is typically seen as a “world womb” where all things are gestated until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Ances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belief is that a prior people created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aborigines believed that their ancestors dreamed the world into 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in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reation theories in modern science have the myth of the beginning-less begi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theorize that something existed before existence as a basis for the cos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sely called my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-Bang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etypal things for which to loo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 arche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ok for common character/deity 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s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ten Creation myths use numerology relevant to the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/animus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le/Female gender roles/expectations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 and mor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‘folk’ portions of the myths.  Local instruction and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need to create the culture around which you will build your myth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 cautious and thoughtful in your process, this culture must be viable for all forms of my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portant elements to docu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 – Geographic, weather, wild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-Cultural relations – gender, politics,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Cultural relations – other cultures that relate directly to your 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behavior – violent/pacifist, hunting/agricultural, diplomacy/confl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Culture’s Creation My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the state of existence pre-cre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your Creator(s).  Define them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Creation myth are you going to cre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your cast of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your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it appropriate to the culture you have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needs to fit the geography, scientific timeframe and the world you have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reative, but at the same time, keep it reined in.  This is a primitive culture with no exposure to modern cynical, sadistic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istence of the world must be expl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Joseph Campbell, “The question being answered is not who made the world or how, but rather the need for presence of a creator being visible in all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aphors and explanations are relevant to the geography where the culture liv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panese myths have a lot to do with the ocean.  The Midwest Indian tribes do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eation myth should define the roles of men, women, animals, and possibly interrelations with other cul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ities Par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eation myth should also include explanation of basic human behavior and possibly the separation between the god(s) an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eth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e Forbidden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stion to consider:  Is your societal view of your god one of perfection or imperf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is your god(dess) all-powerful, all-knowing, all-good, or any combination of these th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what are your god(s)’ limitations and why do they exist.  What characteristics of your culture are captured in that imperf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eation Arche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09480" y="1607760"/>
            <a:ext cx="7925040" cy="50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on from Primordial ‘soup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on from N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us Fa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C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Dismemberment of Primordial Be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Sacri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Secr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Trial and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th D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Cosmic Eg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Division of Primordial Un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Cha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by Emerg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from Ances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on in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ordial S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exists, and then out of this something new is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begins with water, chaos, darknes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evolutionary theory and ‘Big Bang’ theories use this base to explain their belie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from No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 nov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nothing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ularly popular in monotheistic reli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 nihil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hs the god figure creates the universe from nothing, by thought, word, or breath.  Sometimes secretion is used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, Hebrew, Indian, Mayan, Ma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4:22:55Z</dcterms:created>
  <dc:creator>hamblin49</dc:creator>
  <dc:description/>
  <dc:language>en-US</dc:language>
  <cp:lastModifiedBy>SPACS</cp:lastModifiedBy>
  <dcterms:modified xsi:type="dcterms:W3CDTF">2010-05-17T19:47:09Z</dcterms:modified>
  <cp:revision>7</cp:revision>
  <dc:subject/>
  <dc:title>CREATION</dc:title>
</cp:coreProperties>
</file>