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2487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411F55-3DA0-489A-A1D0-48B2724629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108EA-5337-40E7-8166-4D3961E8F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93BBC3-4749-4416-A98D-ACF6457A5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BEA64E-2082-44D8-A8A4-E79578C563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F1B981-0EEE-473A-AB2A-1736277896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051463-254C-4B38-AF15-9229E60DEC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C6F346-2107-4D5D-9E7A-90036B97FA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5C0DB9-F3BC-4958-958A-13B35BD82F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8C1F25-EB21-4006-845B-266661EC8A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FC1402-B267-4D48-B1D3-FA70151217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9DAD0-8FB8-4023-9E0C-C2E688CA4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CAE31-F980-4D10-A9B4-F0EC10CA3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CAA3F-BB05-4669-9D61-4BC42DA44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98D00-341A-47DC-8614-5C7D00528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762711-A86B-4C04-AA47-6EE07AD286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471FE4-ED9F-4EA3-9263-900839B8D6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CF8F34-52F9-4A38-B2E8-F366FDCD57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7BE8A-500F-42F9-B904-DE040A68E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1CC84-E651-4771-8E39-E8D0521EB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47334-9734-4FD8-9278-95987BA55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7148D-3872-46CF-B29E-784CAA901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6E746-80A7-4541-8343-8DB5E964F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F5166-653B-4A83-BDD8-73E7D534D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F3E09-F8B2-466A-9429-02E39C1F5D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69466-D0B3-44D7-97F1-A5215F849BB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44C2E-0713-4192-B215-8769F565D14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2b2b2"/>
                </a:solidFill>
                <a:latin typeface="Arial"/>
              </a:rPr>
              <a:t>Candide</a:t>
            </a:r>
            <a:r>
              <a:rPr b="0" lang="en-US" sz="4800" spc="-1" strike="noStrike">
                <a:solidFill>
                  <a:srgbClr val="b2b2b2"/>
                </a:solidFill>
                <a:latin typeface="Arial"/>
              </a:rPr>
              <a:t> by Voltaire</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ES</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Voltaire cont.</a:t>
            </a:r>
            <a:endParaRPr b="0" lang="en-US" sz="4400" spc="-1" strike="noStrike">
              <a:solidFill>
                <a:srgbClr val="b2b2b2"/>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 famous cry was “Crush the infamous thing (superstition)!”</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constantly fought against the system that tortured and plundered in the name of religion</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Men…enriched by your sweat and misery…made you superstitious, not that you might fear God, but that you might fear </a:t>
            </a:r>
            <a:r>
              <a:rPr b="0" i="1" lang="en-US" sz="2800" spc="-1" strike="noStrike">
                <a:solidFill>
                  <a:srgbClr val="ffffff"/>
                </a:solidFill>
                <a:latin typeface="Arial"/>
              </a:rPr>
              <a:t>them</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as NOT an atheist</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Voltaire cont.</a:t>
            </a:r>
            <a:endParaRPr b="0" lang="en-US" sz="4400" spc="-1" strike="noStrike">
              <a:solidFill>
                <a:srgbClr val="b2b2b2"/>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ed “the fountainhead of the Enlightenment and the intellectual spearhead of the French Revolution”</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servative in all but religion</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lieved in a God who was a creator and punisher of evil, but he attacked any religion he felt to be guilty of superstition, intolerance, or persecution</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 town—Ferney (teacher will comment on)</a:t>
            </a: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otes by and about Voltaire</a:t>
            </a:r>
            <a:endParaRPr b="0" lang="en-US" sz="4400" spc="-1" strike="noStrike">
              <a:solidFill>
                <a:srgbClr val="b2b2b2"/>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taire: “If God did not exist, it would be necessary to invent Him.”</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ctor Hugo: “He was an age. To name Voltaire is to characterize the entire eighteenth centur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l Durant: “Italy had a Renaissance, Germany had a Reformation, but France had Voltaire.”</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Influences on </a:t>
            </a:r>
            <a:r>
              <a:rPr b="0" i="1" lang="en-US" sz="4400" spc="-1" strike="noStrike">
                <a:solidFill>
                  <a:srgbClr val="b2b2b2"/>
                </a:solidFill>
                <a:latin typeface="Arial"/>
              </a:rPr>
              <a:t>Candide</a:t>
            </a:r>
            <a:endParaRPr b="0" lang="en-US" sz="4400" spc="-1" strike="noStrike">
              <a:solidFill>
                <a:srgbClr val="b2b2b2"/>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ibnitz, Pope, and Rousseau :Optimism</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ven Years War: between France and Prussia—very bloody wa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isbon earthquake: Voltaire wrote </a:t>
            </a:r>
            <a:r>
              <a:rPr b="0" i="1" lang="en-US" sz="3200" spc="-1" strike="noStrike">
                <a:solidFill>
                  <a:srgbClr val="ffffff"/>
                </a:solidFill>
                <a:latin typeface="Arial"/>
              </a:rPr>
              <a:t>Candide </a:t>
            </a:r>
            <a:r>
              <a:rPr b="0" lang="en-US" sz="3200" spc="-1" strike="noStrike">
                <a:solidFill>
                  <a:srgbClr val="ffffff"/>
                </a:solidFill>
                <a:latin typeface="Arial"/>
              </a:rPr>
              <a:t> as a direct response to this event in 1755; the quake, a tidal wave, and a resulting fire left 30,000-40,000 dead.</a:t>
            </a: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Influences cont.</a:t>
            </a:r>
            <a:endParaRPr b="0" lang="en-US" sz="4400" spc="-1" strike="noStrike">
              <a:solidFill>
                <a:srgbClr val="b2b2b2"/>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ers of optimism explained horrors away with the idea that it was all for the best: the living would inherit from the dead; the city would be rebuilt, providing jobs. If it had not happened there, another place would have suffered.</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taire did not accept this. He wrote </a:t>
            </a:r>
            <a:r>
              <a:rPr b="0" i="1" lang="en-US" sz="2800" spc="-1" strike="noStrike">
                <a:solidFill>
                  <a:srgbClr val="ffffff"/>
                </a:solidFill>
                <a:latin typeface="Arial"/>
              </a:rPr>
              <a:t>Candide</a:t>
            </a:r>
            <a:r>
              <a:rPr b="0" lang="en-US" sz="2800" spc="-1" strike="noStrike">
                <a:solidFill>
                  <a:srgbClr val="ffffff"/>
                </a:solidFill>
                <a:latin typeface="Arial"/>
              </a:rPr>
              <a:t> to illustrate what he perceived as the stupidity of this type of optimism. He wrote the whole novel in three days at the age of sixty-fiv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echnique in </a:t>
            </a:r>
            <a:r>
              <a:rPr b="0" i="1" lang="en-US" sz="4400" spc="-1" strike="noStrike">
                <a:solidFill>
                  <a:srgbClr val="b2b2b2"/>
                </a:solidFill>
                <a:latin typeface="Arial"/>
              </a:rPr>
              <a:t>Candide</a:t>
            </a:r>
            <a:endParaRPr b="0" lang="en-US" sz="4400" spc="-1" strike="noStrike">
              <a:solidFill>
                <a:srgbClr val="b2b2b2"/>
              </a:solidFill>
              <a:latin typeface="Arial"/>
            </a:endParaRPr>
          </a:p>
        </p:txBody>
      </p:sp>
      <p:sp>
        <p:nvSpPr>
          <p:cNvPr id="127"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taire intends for </a:t>
            </a:r>
            <a:r>
              <a:rPr b="0" i="1" lang="en-US" sz="3200" spc="-1" strike="noStrike">
                <a:solidFill>
                  <a:srgbClr val="ffffff"/>
                </a:solidFill>
                <a:latin typeface="Arial"/>
              </a:rPr>
              <a:t>Candide</a:t>
            </a:r>
            <a:r>
              <a:rPr b="0" lang="en-US" sz="3200" spc="-1" strike="noStrike">
                <a:solidFill>
                  <a:srgbClr val="ffffff"/>
                </a:solidFill>
                <a:latin typeface="Arial"/>
              </a:rPr>
              <a:t> to be a satirical parody. He makes it a parody on the popular adventure novel, and he attacks nearly everything and everybody. It deals with the problem of evil, both natural and man-made.</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tire is used to mock Rousseau and those that abuse power.</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 the Reader’s Guide for more on technique.</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en-US" sz="2800" spc="-1" strike="noStrike">
                <a:solidFill>
                  <a:srgbClr val="b2b2b2"/>
                </a:solidFill>
                <a:latin typeface="Arial"/>
              </a:rPr>
              <a:t>CANDIDE</a:t>
            </a:r>
            <a:r>
              <a:rPr b="1" lang="en-US" sz="2800" spc="-1" strike="noStrike">
                <a:solidFill>
                  <a:srgbClr val="b2b2b2"/>
                </a:solidFill>
                <a:latin typeface="Arial"/>
              </a:rPr>
              <a:t> (CH 1, 2, 17, 18, 19, 30, and supplements) Background</a:t>
            </a:r>
            <a:br>
              <a:rPr sz="2800"/>
            </a:br>
            <a:endParaRPr b="0" lang="en-US" sz="2800" spc="-1" strike="noStrike">
              <a:solidFill>
                <a:srgbClr val="b2b2b2"/>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andide</a:t>
            </a:r>
            <a:r>
              <a:rPr b="0" lang="en-US" sz="3200" spc="-1" strike="noStrike">
                <a:solidFill>
                  <a:srgbClr val="ffffff"/>
                </a:solidFill>
                <a:latin typeface="Arial"/>
              </a:rPr>
              <a:t> is subtitled “Optimism” and tells a tale of the woes that befall a naïve simpleton who is brought up to believe that this world is the best of all possible worlds. The point of Voltaire’s story is to show how Candide’s optimism is foolish in a world in which people’s lives are shaped for the most part by cruel and incomprehensible for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131" name="PlaceHolder 2"/>
          <p:cNvSpPr>
            <a:spLocks noGrp="1"/>
          </p:cNvSpPr>
          <p:nvPr>
            <p:ph/>
          </p:nvPr>
        </p:nvSpPr>
        <p:spPr>
          <a:xfrm>
            <a:off x="457200" y="457200"/>
            <a:ext cx="8229600" cy="5673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lot of </a:t>
            </a:r>
            <a:r>
              <a:rPr b="0" i="1" lang="en-US" sz="2800" spc="-1" strike="noStrike">
                <a:solidFill>
                  <a:srgbClr val="ffffff"/>
                </a:solidFill>
                <a:latin typeface="Arial"/>
              </a:rPr>
              <a:t>Candide</a:t>
            </a:r>
            <a:r>
              <a:rPr b="0" lang="en-US" sz="2800" spc="-1" strike="noStrike">
                <a:solidFill>
                  <a:srgbClr val="ffffff"/>
                </a:solidFill>
                <a:latin typeface="Arial"/>
              </a:rPr>
              <a:t> takes the form of a quest: the young man’s quest for union with his beloved, Cunegonde. They go through a series of separations and reunions, as Cunegonde is taken as booty by the Bulgarians, held prisoner by the Grand Inquisitor, and forcibly kept as a mistress by the Governor of Buenos Aires—in this, the best of all possible worlds. What happens to Candide himself is no better, but the two lovers somehow survive. The tale is told with great verve and hilarity, and, like all quests of this kind, the journey involves much suffering but ends in wisdo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32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133" name="PlaceHolder 2"/>
          <p:cNvSpPr>
            <a:spLocks noGrp="1"/>
          </p:cNvSpPr>
          <p:nvPr>
            <p:ph/>
          </p:nvPr>
        </p:nvSpPr>
        <p:spPr>
          <a:xfrm>
            <a:off x="457200" y="380880"/>
            <a:ext cx="8229600" cy="5749920"/>
          </a:xfrm>
          <a:prstGeom prst="rect">
            <a:avLst/>
          </a:prstGeom>
          <a:noFill/>
          <a:ln w="0">
            <a:noFill/>
          </a:ln>
        </p:spPr>
        <p:txBody>
          <a:bodyPr anchor="t">
            <a:normAutofit fontScale="95000"/>
          </a:bodyPr>
          <a:p>
            <a:pPr marL="325800" indent="-325800">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oltaire makes fun of both the adventure novels and the pastoral romance novels of his time: shipwrecks, kidnappings by rival suitors, unexpected reunions between long-lost characters, love-sick heroes, far-off (and made-up) settings. This entire book is a parody (mimics another style for the purpose of ridiculing it. Ex: Weird Al Yancovic’s parodies on famous songs).</a:t>
            </a:r>
            <a:endParaRPr b="0" lang="en-US" sz="3600" spc="-1" strike="noStrike">
              <a:solidFill>
                <a:srgbClr val="ffffff"/>
              </a:solidFill>
              <a:latin typeface="Arial"/>
            </a:endParaRPr>
          </a:p>
          <a:p>
            <a:pPr marL="32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2b2b2"/>
                </a:solidFill>
                <a:latin typeface="Arial"/>
              </a:rPr>
              <a:t>Literary Focus</a:t>
            </a:r>
            <a:endParaRPr b="0" lang="en-US" sz="4400" spc="-1" strike="noStrike">
              <a:solidFill>
                <a:srgbClr val="b2b2b2"/>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tire</a:t>
            </a:r>
            <a:r>
              <a:rPr b="0" lang="en-US" sz="2800" spc="-1" strike="noStrike">
                <a:solidFill>
                  <a:srgbClr val="ffffff"/>
                </a:solidFill>
                <a:latin typeface="Arial"/>
              </a:rPr>
              <a:t> is writing that ridicules human weakness, vice, or folly in order to bring about social reform. An expert satirist like Voltaire uses a variety of tools to expose his subject to ridicule—from witty barbs to heavy bludgeons that flatten his opponent’s sacred cows. As Voltaire exposes one absurdity after another, readers become convinced that they would be fools not to agree with his point of view.</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ime Period</a:t>
            </a:r>
            <a:endParaRPr b="0" lang="en-US" sz="4400" spc="-1" strike="noStrike">
              <a:solidFill>
                <a:srgbClr val="b2b2b2"/>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lightenment—18</a:t>
            </a:r>
            <a:r>
              <a:rPr b="0" lang="en-US" sz="3200" spc="-1" strike="noStrike" baseline="30000">
                <a:solidFill>
                  <a:srgbClr val="ffffff"/>
                </a:solidFill>
                <a:latin typeface="Arial"/>
              </a:rPr>
              <a:t>th</a:t>
            </a:r>
            <a:r>
              <a:rPr b="0" lang="en-US" sz="3200" spc="-1" strike="noStrike">
                <a:solidFill>
                  <a:srgbClr val="ffffff"/>
                </a:solidFill>
                <a:latin typeface="Arial"/>
              </a:rPr>
              <a:t> century France and England</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k.a. the Age of Reas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mate of Inquir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Lessoning Control of the Church</a:t>
            </a:r>
            <a:endParaRPr b="0" lang="en-US" sz="4400" spc="-1" strike="noStrike">
              <a:solidFill>
                <a:srgbClr val="b2b2b2"/>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testant Reformati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inting Pres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tific Development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ew World (America!)</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ilosophies of the Time</a:t>
            </a:r>
            <a:endParaRPr b="0" lang="en-US" sz="4400" spc="-1" strike="noStrike">
              <a:solidFill>
                <a:srgbClr val="b2b2b2"/>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tionalism: Rene Descartes (math)– humans, by reason alone, can discover universal truth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tionalism: Sir Isaac Newton—mechanical science. All truth found in nature; rejection of supernatural religion. Emphasis placed on principles of deduction (1687)</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ilosophy cont.</a:t>
            </a:r>
            <a:endParaRPr b="0" lang="en-US" sz="4400" spc="-1" strike="noStrike">
              <a:solidFill>
                <a:srgbClr val="b2b2b2"/>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ism—the clockmaker God: God made the world, then he let it alone; no divine interventi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timism</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Gottfried Wilhelm Leibnitz—German mathematician and scientist. Founder of the philosophy of optimism.</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70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109" name="PlaceHolder 2"/>
          <p:cNvSpPr>
            <a:spLocks noGrp="1"/>
          </p:cNvSpPr>
          <p:nvPr>
            <p:ph/>
          </p:nvPr>
        </p:nvSpPr>
        <p:spPr>
          <a:xfrm>
            <a:off x="457200" y="457200"/>
            <a:ext cx="8229600" cy="556272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ibnitz cont.—world is organized according to a pre-established harmony. There is a reason for everything that happens. Followed two main assumptions: 1) God is perfect; therefor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Of all the worlds God could have created, he must have made this one perfect, the bes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ibnitz believed evil had a beneficial value.</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2) Alexander Pope (1688-1744)</a:t>
            </a:r>
            <a:endParaRPr b="0" lang="en-US" sz="4400" spc="-1" strike="noStrike">
              <a:solidFill>
                <a:srgbClr val="b2b2b2"/>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glish poet—wrote heavily about belief of optimism</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taire knew Pope in England (during V’s exile) and admired him until V. decided that optimism was a bunch of hooe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little learning is a dangerous thing”</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hatever is, is right”</a:t>
            </a: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3) Jean Jacques Rousseau (1712-1778)</a:t>
            </a:r>
            <a:endParaRPr b="0" lang="en-US" sz="4000" spc="-1" strike="noStrike">
              <a:solidFill>
                <a:srgbClr val="b2b2b2"/>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manity is naturally good but is corrupted by the environment, education, and governmen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society brings out aggression and egotism, it is better for man to be a “noble savag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usseau sides with Pope and Leibnitz</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Voltaire (1694-1778)</a:t>
            </a:r>
            <a:endParaRPr b="0" lang="en-US" sz="44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nch philosopher and rational skeptic</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lieved in writing the truth</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championed knowledge against ignorance, reason against superstition, skepticism against theology</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ice imprisoned in the Bastille b/c of his writing and his big mouth</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ice exiled</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arly everything he published was banned, burned or suppressed</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4:39:59Z</dcterms:created>
  <dc:creator>OCPS</dc:creator>
  <dc:description/>
  <dc:language>en-US</dc:language>
  <cp:lastModifiedBy>Anne Rogalski</cp:lastModifiedBy>
  <dcterms:modified xsi:type="dcterms:W3CDTF">2010-04-26T00:58:51Z</dcterms:modified>
  <cp:revision>7</cp:revision>
  <dc:subject/>
  <dc:title>Candide by Voltaire</dc:title>
</cp:coreProperties>
</file>