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4.png" ContentType="image/png"/>
  <Override PartName="/ppt/media/image23.jpeg" ContentType="image/jpeg"/>
  <Override PartName="/ppt/media/image19.jpeg" ContentType="image/jpe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F229-50AC-4912-B6C2-697992670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4000" cy="2495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960" y="4511160"/>
            <a:ext cx="9144000" cy="2495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0AE6-EC72-4624-B9A7-24C93B7AA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495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495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7960" y="4511160"/>
            <a:ext cx="4462200" cy="2495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3720" y="4511160"/>
            <a:ext cx="4462200" cy="2495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D965-1C84-4CB7-85C7-1D5530D61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4080" cy="2495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9640" y="1778040"/>
            <a:ext cx="2944080" cy="2495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91320" y="1778040"/>
            <a:ext cx="2944080" cy="2495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7960" y="4511160"/>
            <a:ext cx="2944080" cy="2495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9640" y="4511160"/>
            <a:ext cx="2944080" cy="2495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91320" y="4511160"/>
            <a:ext cx="2944080" cy="2495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766C-57A3-4160-9A10-67C7FEF59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4000" cy="52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522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EE02-50D7-4E30-B2DC-C198C197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4000" cy="5232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63B3-A475-440C-9BB9-9E21EE3D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5232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5232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39BA-0012-460E-8DF9-45CF5D5D2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1BD1-6C34-4B2A-8ACF-8245549AB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400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52280"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FB87-B016-4EEC-9470-1507BD4A2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495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5232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7960" y="4511160"/>
            <a:ext cx="4462200" cy="2495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E5E8-B055-4BE3-ADBF-AE43F47A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5232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495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3720" y="4511160"/>
            <a:ext cx="4462200" cy="2495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D848-232F-4D1D-8940-F6D977A7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495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495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960" y="4511160"/>
            <a:ext cx="9144000" cy="2495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E1AC-7F61-4B42-B9C7-EB31F430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232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608040" indent="-455760">
              <a:spcBef>
                <a:spcPts val="774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lvl="1" marL="963720" indent="-314280">
              <a:spcBef>
                <a:spcPts val="774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lvl="2" marL="1258920" indent="-252360">
              <a:spcBef>
                <a:spcPts val="774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lvl="3" marL="1503360" indent="-201600">
              <a:spcBef>
                <a:spcPts val="774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lvl="4" marL="1716120" indent="-201600">
              <a:spcBef>
                <a:spcPts val="774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lvl="5" marL="1716120" indent="-201600">
              <a:spcBef>
                <a:spcPts val="774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lvl="6" marL="1716120" indent="-201600">
              <a:spcBef>
                <a:spcPts val="774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7960" y="7129080"/>
            <a:ext cx="237024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1840" y="7129080"/>
            <a:ext cx="321624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805960" y="7129080"/>
            <a:ext cx="84600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507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3E2E2-AD90-4B0B-90F4-D0A5A3FEDB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1270080" y="3048120"/>
            <a:ext cx="7134120" cy="20653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6603840" y="4572000"/>
            <a:ext cx="2667240" cy="26668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2108160" y="3048120"/>
            <a:ext cx="51944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9" descr="http://www.toughquip.com/images/EquipmentEngineImages/Cat-Equipment-Engine.gif"/>
          <p:cNvPicPr/>
          <p:nvPr/>
        </p:nvPicPr>
        <p:blipFill>
          <a:blip r:embed="rId3"/>
          <a:stretch/>
        </p:blipFill>
        <p:spPr>
          <a:xfrm>
            <a:off x="431640" y="434340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6" descr=""/>
          <p:cNvPicPr/>
          <p:nvPr/>
        </p:nvPicPr>
        <p:blipFill>
          <a:blip r:embed="rId4"/>
          <a:stretch/>
        </p:blipFill>
        <p:spPr>
          <a:xfrm>
            <a:off x="1030320" y="1743120"/>
            <a:ext cx="771192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Rectangle 1" descr=""/>
          <p:cNvPicPr/>
          <p:nvPr/>
        </p:nvPicPr>
        <p:blipFill>
          <a:blip r:embed="rId1"/>
          <a:stretch/>
        </p:blipFill>
        <p:spPr>
          <a:xfrm>
            <a:off x="549360" y="347760"/>
            <a:ext cx="9064440" cy="1388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2"/>
          <a:stretch/>
        </p:blipFill>
        <p:spPr>
          <a:xfrm>
            <a:off x="3048120" y="1778040"/>
            <a:ext cx="3768480" cy="51116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2482920" y="1905120"/>
            <a:ext cx="51940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Rectangle 1" descr=""/>
          <p:cNvPicPr/>
          <p:nvPr/>
        </p:nvPicPr>
        <p:blipFill>
          <a:blip r:embed="rId1"/>
          <a:stretch/>
        </p:blipFill>
        <p:spPr>
          <a:xfrm>
            <a:off x="549360" y="347760"/>
            <a:ext cx="9064440" cy="13888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552600" y="1828800"/>
            <a:ext cx="9055080" cy="62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5760" indent="-3412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re power and torque at a lower RPM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5760" indent="-3412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el economy is 25-30% higher in a diesel than a comparable gasoline engin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5760" indent="-3412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ewer harmful emissions = better for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5760" indent="-3412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re robust, it will outlast a gass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itle 1" descr=""/>
          <p:cNvPicPr/>
          <p:nvPr/>
        </p:nvPicPr>
        <p:blipFill>
          <a:blip r:embed="rId1"/>
          <a:stretch/>
        </p:blipFill>
        <p:spPr>
          <a:xfrm>
            <a:off x="500040" y="298440"/>
            <a:ext cx="9156600" cy="1281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507960" y="1778040"/>
            <a:ext cx="9144000" cy="5232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608040" indent="-455760">
              <a:spcBef>
                <a:spcPts val="774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Commercial Trucks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marL="608040" indent="-455760">
              <a:spcBef>
                <a:spcPts val="774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Buses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marL="608040" indent="-455760">
              <a:spcBef>
                <a:spcPts val="774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Heavy Construction Equipment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marL="608040" indent="-455760">
              <a:spcBef>
                <a:spcPts val="774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Cars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marL="608040" indent="-455760">
              <a:spcBef>
                <a:spcPts val="774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Generators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marL="608040" indent="-455760">
              <a:spcBef>
                <a:spcPts val="774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Power back-up units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marL="608040" indent="-455760">
              <a:spcBef>
                <a:spcPts val="774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And more…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marL="608040" indent="-455760">
              <a:spcBef>
                <a:spcPts val="774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Rectangle 1" descr=""/>
          <p:cNvPicPr/>
          <p:nvPr/>
        </p:nvPicPr>
        <p:blipFill>
          <a:blip r:embed="rId1"/>
          <a:stretch/>
        </p:blipFill>
        <p:spPr>
          <a:xfrm>
            <a:off x="244440" y="60480"/>
            <a:ext cx="9674280" cy="1164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-330120" y="16002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1117440" y="2133720"/>
            <a:ext cx="7861320" cy="40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Rectangle 1" descr=""/>
          <p:cNvPicPr/>
          <p:nvPr/>
        </p:nvPicPr>
        <p:blipFill>
          <a:blip r:embed="rId1"/>
          <a:stretch/>
        </p:blipFill>
        <p:spPr>
          <a:xfrm>
            <a:off x="244440" y="60480"/>
            <a:ext cx="9674280" cy="1164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306360" y="1622520"/>
            <a:ext cx="2881440" cy="2809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3"/>
          <a:stretch/>
        </p:blipFill>
        <p:spPr>
          <a:xfrm>
            <a:off x="4064040" y="1806480"/>
            <a:ext cx="5194440" cy="5002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4"/>
          <a:stretch/>
        </p:blipFill>
        <p:spPr>
          <a:xfrm>
            <a:off x="307800" y="4675320"/>
            <a:ext cx="300708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Rectangle 1" descr=""/>
          <p:cNvPicPr/>
          <p:nvPr/>
        </p:nvPicPr>
        <p:blipFill>
          <a:blip r:embed="rId1"/>
          <a:stretch/>
        </p:blipFill>
        <p:spPr>
          <a:xfrm>
            <a:off x="249120" y="73080"/>
            <a:ext cx="9680760" cy="16272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2"/>
          <a:stretch/>
        </p:blipFill>
        <p:spPr>
          <a:xfrm>
            <a:off x="716040" y="1835280"/>
            <a:ext cx="2670120" cy="2263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"/>
          <p:cNvPicPr/>
          <p:nvPr/>
        </p:nvPicPr>
        <p:blipFill>
          <a:blip r:embed="rId3"/>
          <a:stretch/>
        </p:blipFill>
        <p:spPr>
          <a:xfrm>
            <a:off x="7620120" y="4572000"/>
            <a:ext cx="2185920" cy="2502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"/>
          <p:cNvPicPr/>
          <p:nvPr/>
        </p:nvPicPr>
        <p:blipFill>
          <a:blip r:embed="rId4"/>
          <a:stretch/>
        </p:blipFill>
        <p:spPr>
          <a:xfrm>
            <a:off x="609480" y="4775040"/>
            <a:ext cx="2014560" cy="1970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"/>
          <p:cNvPicPr/>
          <p:nvPr/>
        </p:nvPicPr>
        <p:blipFill>
          <a:blip r:embed="rId5"/>
          <a:stretch/>
        </p:blipFill>
        <p:spPr>
          <a:xfrm>
            <a:off x="4165560" y="1924200"/>
            <a:ext cx="4983120" cy="1585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"/>
          <p:cNvPicPr/>
          <p:nvPr/>
        </p:nvPicPr>
        <p:blipFill>
          <a:blip r:embed="rId6"/>
          <a:stretch/>
        </p:blipFill>
        <p:spPr>
          <a:xfrm>
            <a:off x="3454560" y="4978440"/>
            <a:ext cx="340344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Rectangle 1" descr=""/>
          <p:cNvPicPr/>
          <p:nvPr/>
        </p:nvPicPr>
        <p:blipFill>
          <a:blip r:embed="rId1"/>
          <a:stretch/>
        </p:blipFill>
        <p:spPr>
          <a:xfrm>
            <a:off x="249120" y="73080"/>
            <a:ext cx="9680760" cy="15429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70" name="Picture 5" descr="http://www.trad.co.jp/english/products/image/egr4_e.jpg"/>
          <p:cNvPicPr/>
          <p:nvPr/>
        </p:nvPicPr>
        <p:blipFill>
          <a:blip r:embed="rId2"/>
          <a:stretch/>
        </p:blipFill>
        <p:spPr>
          <a:xfrm>
            <a:off x="584280" y="1295280"/>
            <a:ext cx="428616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Rectangle 1" descr=""/>
          <p:cNvPicPr/>
          <p:nvPr/>
        </p:nvPicPr>
        <p:blipFill>
          <a:blip r:embed="rId1"/>
          <a:stretch/>
        </p:blipFill>
        <p:spPr>
          <a:xfrm>
            <a:off x="549360" y="347760"/>
            <a:ext cx="9064440" cy="13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Me</cp:lastModifiedBy>
  <dcterms:modified xsi:type="dcterms:W3CDTF">2009-11-05T16:51:31Z</dcterms:modified>
  <cp:revision>18</cp:revision>
  <dc:subject/>
  <dc:title>PowerPoint Presentation</dc:title>
</cp:coreProperties>
</file>