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4.png" ContentType="image/png"/>
  <Override PartName="/ppt/media/image23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6AE9-2EBB-41E0-ACED-9407506FF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511160"/>
            <a:ext cx="914400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E7C7-49AE-4AC3-9D8C-EE5EA753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511160"/>
            <a:ext cx="446220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720" y="4511160"/>
            <a:ext cx="446220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EA28-59C6-4062-B135-E544F4F3D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408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640" y="1778040"/>
            <a:ext cx="294408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1320" y="1778040"/>
            <a:ext cx="294408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511160"/>
            <a:ext cx="294408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640" y="4511160"/>
            <a:ext cx="294408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1320" y="4511160"/>
            <a:ext cx="294408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82CA-71B1-41DB-BFB4-626A6AFF7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4000" cy="52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22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BC43-700A-4D97-AE8E-A9430E6A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5232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3331-88D9-42C9-8168-77080570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232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232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B7B3-FC29-4B97-AA41-1205B5ED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9FDD-0D95-45EF-875C-E660BE10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228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8417-D7AD-48FD-A45B-32E5B64C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232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511160"/>
            <a:ext cx="446220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CDDB-EE02-4D4C-A0FF-DED31EE3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232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720" y="4511160"/>
            <a:ext cx="446220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93DC-3410-4FA1-A220-82A28014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511160"/>
            <a:ext cx="914400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2B8A-A504-44BA-BC06-73717E03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232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608040" indent="-455760">
              <a:spcBef>
                <a:spcPts val="774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1" marL="963720" indent="-314280">
              <a:spcBef>
                <a:spcPts val="774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2" marL="1258920" indent="-252360">
              <a:spcBef>
                <a:spcPts val="774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3" marL="1503360" indent="-201600">
              <a:spcBef>
                <a:spcPts val="774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4" marL="1716120" indent="-201600">
              <a:spcBef>
                <a:spcPts val="774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5" marL="1716120" indent="-201600">
              <a:spcBef>
                <a:spcPts val="774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6" marL="1716120" indent="-201600">
              <a:spcBef>
                <a:spcPts val="774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960" y="7129080"/>
            <a:ext cx="2370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1840" y="7129080"/>
            <a:ext cx="3216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805960" y="7129080"/>
            <a:ext cx="84600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507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F986-0912-46E2-8F02-24080D6980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1270080" y="3048120"/>
            <a:ext cx="7134120" cy="20653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6603840" y="4572000"/>
            <a:ext cx="2667240" cy="26668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2108160" y="3048120"/>
            <a:ext cx="51944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9" descr="http://www.toughquip.com/images/EquipmentEngineImages/Cat-Equipment-Engine.gif"/>
          <p:cNvPicPr/>
          <p:nvPr/>
        </p:nvPicPr>
        <p:blipFill>
          <a:blip r:embed="rId3"/>
          <a:stretch/>
        </p:blipFill>
        <p:spPr>
          <a:xfrm>
            <a:off x="431640" y="43434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6" descr=""/>
          <p:cNvPicPr/>
          <p:nvPr/>
        </p:nvPicPr>
        <p:blipFill>
          <a:blip r:embed="rId4"/>
          <a:stretch/>
        </p:blipFill>
        <p:spPr>
          <a:xfrm>
            <a:off x="1030320" y="1743120"/>
            <a:ext cx="771192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Rectangle 1" descr=""/>
          <p:cNvPicPr/>
          <p:nvPr/>
        </p:nvPicPr>
        <p:blipFill>
          <a:blip r:embed="rId1"/>
          <a:stretch/>
        </p:blipFill>
        <p:spPr>
          <a:xfrm>
            <a:off x="549360" y="347760"/>
            <a:ext cx="9064440" cy="1388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3048120" y="1778040"/>
            <a:ext cx="3768480" cy="51116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2482920" y="1905120"/>
            <a:ext cx="51940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Rectangle 1" descr=""/>
          <p:cNvPicPr/>
          <p:nvPr/>
        </p:nvPicPr>
        <p:blipFill>
          <a:blip r:embed="rId1"/>
          <a:stretch/>
        </p:blipFill>
        <p:spPr>
          <a:xfrm>
            <a:off x="549360" y="347760"/>
            <a:ext cx="9064440" cy="13888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552600" y="1828800"/>
            <a:ext cx="9055080" cy="62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3412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re power and torque at a lower RP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3412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el economy is 25-30% higher in a diesel than a comparable gasoline engi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3412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wer harmful emissions = better for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3412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re robust, it will outlast a gass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tle 1" descr=""/>
          <p:cNvPicPr/>
          <p:nvPr/>
        </p:nvPicPr>
        <p:blipFill>
          <a:blip r:embed="rId1"/>
          <a:stretch/>
        </p:blipFill>
        <p:spPr>
          <a:xfrm>
            <a:off x="500040" y="298440"/>
            <a:ext cx="9156600" cy="1281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507960" y="1778040"/>
            <a:ext cx="9144000" cy="5232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608040" indent="-455760">
              <a:spcBef>
                <a:spcPts val="77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Commercial Trucks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608040" indent="-455760">
              <a:spcBef>
                <a:spcPts val="77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Buses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608040" indent="-455760">
              <a:spcBef>
                <a:spcPts val="77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Heavy Construction Equipment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608040" indent="-455760">
              <a:spcBef>
                <a:spcPts val="77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Cars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608040" indent="-455760">
              <a:spcBef>
                <a:spcPts val="77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Generators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608040" indent="-455760">
              <a:spcBef>
                <a:spcPts val="77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Power back-up units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608040" indent="-455760">
              <a:spcBef>
                <a:spcPts val="77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And more…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608040" indent="-455760">
              <a:spcBef>
                <a:spcPts val="77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Rectangle 1" descr=""/>
          <p:cNvPicPr/>
          <p:nvPr/>
        </p:nvPicPr>
        <p:blipFill>
          <a:blip r:embed="rId1"/>
          <a:stretch/>
        </p:blipFill>
        <p:spPr>
          <a:xfrm>
            <a:off x="244440" y="60480"/>
            <a:ext cx="9674280" cy="1164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-330120" y="16002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117440" y="2133720"/>
            <a:ext cx="786132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Rectangle 1" descr=""/>
          <p:cNvPicPr/>
          <p:nvPr/>
        </p:nvPicPr>
        <p:blipFill>
          <a:blip r:embed="rId1"/>
          <a:stretch/>
        </p:blipFill>
        <p:spPr>
          <a:xfrm>
            <a:off x="244440" y="60480"/>
            <a:ext cx="9674280" cy="1164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306360" y="1622520"/>
            <a:ext cx="2881440" cy="2809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4064040" y="1806480"/>
            <a:ext cx="5194440" cy="5002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4"/>
          <a:stretch/>
        </p:blipFill>
        <p:spPr>
          <a:xfrm>
            <a:off x="307800" y="4675320"/>
            <a:ext cx="30070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Rectangle 1" descr=""/>
          <p:cNvPicPr/>
          <p:nvPr/>
        </p:nvPicPr>
        <p:blipFill>
          <a:blip r:embed="rId1"/>
          <a:stretch/>
        </p:blipFill>
        <p:spPr>
          <a:xfrm>
            <a:off x="249120" y="73080"/>
            <a:ext cx="9680760" cy="1627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716040" y="1835280"/>
            <a:ext cx="2670120" cy="2263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3"/>
          <a:stretch/>
        </p:blipFill>
        <p:spPr>
          <a:xfrm>
            <a:off x="7620120" y="4572000"/>
            <a:ext cx="2185920" cy="2502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4"/>
          <a:stretch/>
        </p:blipFill>
        <p:spPr>
          <a:xfrm>
            <a:off x="609480" y="4775040"/>
            <a:ext cx="2014560" cy="1970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5"/>
          <a:stretch/>
        </p:blipFill>
        <p:spPr>
          <a:xfrm>
            <a:off x="4165560" y="1924200"/>
            <a:ext cx="4983120" cy="1585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6"/>
          <a:stretch/>
        </p:blipFill>
        <p:spPr>
          <a:xfrm>
            <a:off x="3454560" y="4978440"/>
            <a:ext cx="340344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Rectangle 1" descr=""/>
          <p:cNvPicPr/>
          <p:nvPr/>
        </p:nvPicPr>
        <p:blipFill>
          <a:blip r:embed="rId1"/>
          <a:stretch/>
        </p:blipFill>
        <p:spPr>
          <a:xfrm>
            <a:off x="249120" y="73080"/>
            <a:ext cx="9680760" cy="1542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70" name="Picture 5" descr="http://www.trad.co.jp/english/products/image/egr4_e.jpg"/>
          <p:cNvPicPr/>
          <p:nvPr/>
        </p:nvPicPr>
        <p:blipFill>
          <a:blip r:embed="rId2"/>
          <a:stretch/>
        </p:blipFill>
        <p:spPr>
          <a:xfrm>
            <a:off x="584280" y="1295280"/>
            <a:ext cx="428616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Rectangle 1" descr=""/>
          <p:cNvPicPr/>
          <p:nvPr/>
        </p:nvPicPr>
        <p:blipFill>
          <a:blip r:embed="rId1"/>
          <a:stretch/>
        </p:blipFill>
        <p:spPr>
          <a:xfrm>
            <a:off x="549360" y="347760"/>
            <a:ext cx="906444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Me</cp:lastModifiedBy>
  <dcterms:modified xsi:type="dcterms:W3CDTF">2009-11-05T16:51:31Z</dcterms:modified>
  <cp:revision>18</cp:revision>
  <dc:subject/>
  <dc:title>PowerPoint Presentation</dc:title>
</cp:coreProperties>
</file>