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C86-A900-41D9-BA35-DED6F8EA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11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878-0B43-4086-8E31-D7A36E31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41A-E51A-4C3D-BA90-89611D0B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511160"/>
            <a:ext cx="294408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112-5B3A-4CF4-BCF1-EB31FD3D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22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F7C-2162-414A-AEF1-0D1DF1C0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1EF-A78C-42B8-AA8A-2CE62875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561-B0C0-4A03-8CBF-30CECD69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071-69BD-46F4-82B6-48319B7E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52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462-EDC9-41C6-800A-84A84A8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0C1-09F5-453B-BD87-3373AF74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51116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B0A-85F6-49F4-BF8E-A01A2E5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11160"/>
            <a:ext cx="9144000" cy="2495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557-896F-48A9-8B19-566F4A6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963720" indent="-314280">
              <a:spcBef>
                <a:spcPts val="774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2" marL="1258920" indent="-252360">
              <a:spcBef>
                <a:spcPts val="774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3" marL="1503360" indent="-201600">
              <a:spcBef>
                <a:spcPts val="774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4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5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6" marL="1716120" indent="-201600">
              <a:spcBef>
                <a:spcPts val="774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129080"/>
            <a:ext cx="2370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129080"/>
            <a:ext cx="3216240" cy="406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05960" y="7129080"/>
            <a:ext cx="84600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4E00-5BEF-4121-A097-720AE805C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270080" y="3048120"/>
            <a:ext cx="7134120" cy="2065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6603840" y="457200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108160" y="3048120"/>
            <a:ext cx="519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http://www.toughquip.com/images/EquipmentEngineImages/Cat-Equipment-Engine.gif"/>
          <p:cNvPicPr/>
          <p:nvPr/>
        </p:nvPicPr>
        <p:blipFill>
          <a:blip r:embed="rId3"/>
          <a:stretch/>
        </p:blipFill>
        <p:spPr>
          <a:xfrm>
            <a:off x="431640" y="4343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6" descr=""/>
          <p:cNvPicPr/>
          <p:nvPr/>
        </p:nvPicPr>
        <p:blipFill>
          <a:blip r:embed="rId4"/>
          <a:stretch/>
        </p:blipFill>
        <p:spPr>
          <a:xfrm>
            <a:off x="1030320" y="1743120"/>
            <a:ext cx="77119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048120" y="1778040"/>
            <a:ext cx="3768480" cy="5111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482920" y="1905120"/>
            <a:ext cx="51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552600" y="1828800"/>
            <a:ext cx="9055080" cy="62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power and torque at a lower RP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el economy is 25-30% higher in a diesel than a comparable gasoline engi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wer harmful emissions = better for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3412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robust, it will outlast a gas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500040" y="298440"/>
            <a:ext cx="9156600" cy="128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7960" y="1778040"/>
            <a:ext cx="9144000" cy="5232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ommercial Truck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Buse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Heavy Construction Equipmen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ar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Generator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Power back-up units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And more…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608040" indent="-455760">
              <a:spcBef>
                <a:spcPts val="774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1" descr=""/>
          <p:cNvPicPr/>
          <p:nvPr/>
        </p:nvPicPr>
        <p:blipFill>
          <a:blip r:embed="rId1"/>
          <a:stretch/>
        </p:blipFill>
        <p:spPr>
          <a:xfrm>
            <a:off x="244440" y="60480"/>
            <a:ext cx="9674280" cy="116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-330120" y="16002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117440" y="2133720"/>
            <a:ext cx="78613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244440" y="60480"/>
            <a:ext cx="9674280" cy="116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06360" y="1622520"/>
            <a:ext cx="2881440" cy="28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064040" y="1806480"/>
            <a:ext cx="5194440" cy="500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307800" y="4675320"/>
            <a:ext cx="3007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9680760" cy="162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16040" y="1835280"/>
            <a:ext cx="2670120" cy="226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>
            <a:off x="7620120" y="4572000"/>
            <a:ext cx="2185920" cy="250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609480" y="4775040"/>
            <a:ext cx="20145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5"/>
          <a:stretch/>
        </p:blipFill>
        <p:spPr>
          <a:xfrm>
            <a:off x="4165560" y="1924200"/>
            <a:ext cx="4983120" cy="1585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6"/>
          <a:stretch/>
        </p:blipFill>
        <p:spPr>
          <a:xfrm>
            <a:off x="3454560" y="4978440"/>
            <a:ext cx="34034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1" descr=""/>
          <p:cNvPicPr/>
          <p:nvPr/>
        </p:nvPicPr>
        <p:blipFill>
          <a:blip r:embed="rId1"/>
          <a:stretch/>
        </p:blipFill>
        <p:spPr>
          <a:xfrm>
            <a:off x="249120" y="73080"/>
            <a:ext cx="9680760" cy="1542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0" name="Picture 5" descr="http://www.trad.co.jp/english/products/image/egr4_e.jpg"/>
          <p:cNvPicPr/>
          <p:nvPr/>
        </p:nvPicPr>
        <p:blipFill>
          <a:blip r:embed="rId2"/>
          <a:stretch/>
        </p:blipFill>
        <p:spPr>
          <a:xfrm>
            <a:off x="584280" y="1295280"/>
            <a:ext cx="4286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549360" y="347760"/>
            <a:ext cx="90644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e</cp:lastModifiedBy>
  <dcterms:modified xsi:type="dcterms:W3CDTF">2009-11-05T16:51:31Z</dcterms:modified>
  <cp:revision>18</cp:revision>
  <dc:subject/>
  <dc:title>PowerPoint Presentation</dc:title>
</cp:coreProperties>
</file>