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E68-155A-4266-ADD2-AB77E4F7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111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D36-99A8-4BC4-A38A-80CE3572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6A1-F428-4F5C-A72B-BA979D73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0BC-E011-4B88-BBAB-0D072892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22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418-6E36-411E-831C-13E5C405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E4D-EE11-46D9-A374-4DF5997D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35C-45A2-4BD3-A620-3FFB96F8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0F1-0A33-4EEF-A2BB-0ED89479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22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7E7-AB5E-4C16-A2A0-CBE19FB6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747-DC3B-4130-A4FB-820EC117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524-763F-4CDB-B9A3-13F93814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2D0-A5D7-4212-92F3-D528A033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963720" indent="-314280">
              <a:spcBef>
                <a:spcPts val="774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2" marL="1258920" indent="-252360">
              <a:spcBef>
                <a:spcPts val="774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3" marL="1503360" indent="-201600">
              <a:spcBef>
                <a:spcPts val="774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4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5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6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12908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129080"/>
            <a:ext cx="3216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05960" y="7129080"/>
            <a:ext cx="846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D3F9-4127-4E40-BFE5-8CC298983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270080" y="3048120"/>
            <a:ext cx="7134120" cy="2065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6603840" y="45720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108160" y="3048120"/>
            <a:ext cx="5194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http://www.toughquip.com/images/EquipmentEngineImages/Cat-Equipment-Engine.gif"/>
          <p:cNvPicPr/>
          <p:nvPr/>
        </p:nvPicPr>
        <p:blipFill>
          <a:blip r:embed="rId3"/>
          <a:stretch/>
        </p:blipFill>
        <p:spPr>
          <a:xfrm>
            <a:off x="431640" y="4343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6" descr=""/>
          <p:cNvPicPr/>
          <p:nvPr/>
        </p:nvPicPr>
        <p:blipFill>
          <a:blip r:embed="rId4"/>
          <a:stretch/>
        </p:blipFill>
        <p:spPr>
          <a:xfrm>
            <a:off x="1030320" y="1743120"/>
            <a:ext cx="77119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3048120" y="1778040"/>
            <a:ext cx="3768480" cy="5111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52600" y="1828800"/>
            <a:ext cx="9055080" cy="62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power and torque at a lower RP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el economy is 25-30% higher in a diesel than a comparable gasoline eng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wer harmful emissions = better for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robust, it will outlast a gas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500040" y="298440"/>
            <a:ext cx="9156600" cy="128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ommercial Truck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Buse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Heavy Construction Equipment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ar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Generator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Power back-up unit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And more…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1" descr=""/>
          <p:cNvPicPr/>
          <p:nvPr/>
        </p:nvPicPr>
        <p:blipFill>
          <a:blip r:embed="rId1"/>
          <a:stretch/>
        </p:blipFill>
        <p:spPr>
          <a:xfrm>
            <a:off x="244440" y="60480"/>
            <a:ext cx="9674280" cy="1164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-330120" y="16002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117440" y="2133720"/>
            <a:ext cx="78613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244440" y="60480"/>
            <a:ext cx="9674280" cy="116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06360" y="1622520"/>
            <a:ext cx="2881440" cy="28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4064040" y="1806480"/>
            <a:ext cx="5194440" cy="500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307800" y="4675320"/>
            <a:ext cx="3007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1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9680760" cy="162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716040" y="1835280"/>
            <a:ext cx="2670120" cy="226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7620120" y="4572000"/>
            <a:ext cx="2185920" cy="250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609480" y="4775040"/>
            <a:ext cx="2014560" cy="19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5"/>
          <a:stretch/>
        </p:blipFill>
        <p:spPr>
          <a:xfrm>
            <a:off x="4165560" y="1924200"/>
            <a:ext cx="4983120" cy="1585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6"/>
          <a:stretch/>
        </p:blipFill>
        <p:spPr>
          <a:xfrm>
            <a:off x="3454560" y="4978440"/>
            <a:ext cx="34034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1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9680760" cy="1542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0" name="Picture 5" descr="http://www.trad.co.jp/english/products/image/egr4_e.jpg"/>
          <p:cNvPicPr/>
          <p:nvPr/>
        </p:nvPicPr>
        <p:blipFill>
          <a:blip r:embed="rId2"/>
          <a:stretch/>
        </p:blipFill>
        <p:spPr>
          <a:xfrm>
            <a:off x="584280" y="1295280"/>
            <a:ext cx="4286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e</cp:lastModifiedBy>
  <dcterms:modified xsi:type="dcterms:W3CDTF">2009-11-05T16:51:31Z</dcterms:modified>
  <cp:revision>18</cp:revision>
  <dc:subject/>
  <dc:title>PowerPoint Presentation</dc:title>
</cp:coreProperties>
</file>