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82F7-C064-4772-B3F7-64F548E56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E5CD-BFBE-4CFA-A004-C8749E62E6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7907-8B1F-4AC8-8DF3-8B422BB344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177D-5665-4FDB-B9DC-1C0AA54D61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697F-2544-4D51-88CA-92F581198B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36DA-0A90-4EC3-9A17-F75BC8BD24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540F-060F-415C-B6F9-C7E5EB27B4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A0F0-2DA5-4CCD-83A8-947B9776E3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7A01-C63B-4F5C-826D-150F986A7F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BEDE-9514-419C-89F5-0651F2C1F0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A596-3813-4008-83D7-E9FAFC6B7A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C459-44CA-4FDD-95CB-784950D7D8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8B90-5D86-4314-97EE-3A9A4736D7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A463-45CF-41E8-A146-9B965F877E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F599-50AB-4282-904F-881F0840E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CB3E0-8C64-42D1-932B-35FC64D00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A7F8B-EFCE-4CC9-90DE-152653C1F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FA1D8-DFDD-4D04-900D-41C26DBF1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CD154-A67D-46FB-A05B-EF5CEECA6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E1F85-995E-4C29-85D8-62D57ADA1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E477D-20AD-47D7-B435-1FF5071D8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714BD-7518-484C-997C-D1C8D283B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B77CD-2A2D-4E8E-AF0C-36A105D66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C43E5-A2BF-4E96-985E-FEFA1AB73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C3EE1-7691-4A71-A949-F0812C657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82FCF-6919-4BD6-ACAA-BB2260DAB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7A090-5241-4D14-91D9-01BC26E1A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423EB-82EC-43E1-8E6A-07294F4AB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B7763-431D-4B7E-BCAA-0A3383FC1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4EE2B-127E-4B98-89E9-723CA7CB2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8C9DB-C533-4B3F-8222-BEF8D6611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7F1A1-B3CB-428A-9C83-C63A291E1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B8140-8D09-402D-B9EA-EFD0F6E75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89FE6-2568-474F-A72B-C287530C3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A3319-11D3-451D-83C2-DE20DBB5F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ABDFB-AD0C-4D3F-8B72-6B9C646E4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E3AD-B18A-4B3D-A8F6-CE2B95CDB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3B5DD-EA1A-4DEB-B5F9-EF2AEDE6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D2C4-9035-4D91-BCD8-5CEE5AC40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F8FC-D3EA-4E4E-88C0-01A3739ED83D}"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79E9-CB26-4F4D-B191-8749B583F0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32C8-18E3-4944-88ED-0C5AE2E4DB94}"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D5E6-8B35-4F2B-BA02-FDCC8979D6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hyperlink" Target="http://www.wmich.edu/thirdcoastwp/corey.html" TargetMode="External"/><Relationship Id="rId4" Type="http://schemas.openxmlformats.org/officeDocument/2006/relationships/slide" Target="slide4.xml"/><Relationship Id="rId5" Type="http://schemas.openxmlformats.org/officeDocument/2006/relationships/slide" Target="slide14.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gitales.us/index.php" TargetMode="External"/><Relationship Id="rId3" Type="http://schemas.openxmlformats.org/officeDocument/2006/relationships/hyperlink" Target="http://www.storycenter.org/" TargetMode="External"/><Relationship Id="rId4" Type="http://schemas.openxmlformats.org/officeDocument/2006/relationships/hyperlink" Target="http://electronicportfolios.org/digistory/"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160"/>
            <a:ext cx="7772400" cy="990360"/>
          </a:xfrm>
          <a:prstGeom prst="rect">
            <a:avLst/>
          </a:prstGeom>
          <a:noFill/>
          <a:ln w="0">
            <a:noFill/>
          </a:ln>
          <a:effectLst>
            <a:outerShdw dist="36147" dir="8100000" blurRad="0" rotWithShape="0">
              <a:srgbClr val="000000">
                <a:alpha val="75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 Telling</a:t>
            </a:r>
            <a:endParaRPr b="1" lang="en-US" sz="4400" spc="-1" strike="noStrike">
              <a:solidFill>
                <a:srgbClr val="ffd467"/>
              </a:solidFill>
              <a:latin typeface="Times New Roman"/>
            </a:endParaRPr>
          </a:p>
        </p:txBody>
      </p:sp>
      <p:pic>
        <p:nvPicPr>
          <p:cNvPr id="90" name="Picture 4" descr=""/>
          <p:cNvPicPr/>
          <p:nvPr/>
        </p:nvPicPr>
        <p:blipFill>
          <a:blip r:embed="rId2"/>
          <a:stretch/>
        </p:blipFill>
        <p:spPr>
          <a:xfrm>
            <a:off x="3238560" y="2743200"/>
            <a:ext cx="2081160" cy="2495520"/>
          </a:xfrm>
          <a:prstGeom prst="rect">
            <a:avLst/>
          </a:prstGeom>
          <a:ln w="0">
            <a:noFill/>
          </a:ln>
        </p:spPr>
      </p:pic>
      <p:sp>
        <p:nvSpPr>
          <p:cNvPr id="91" name="AutoShape 5">
            <a:hlinkClick r:id="" action="ppaction://hlinkshowjump?jump=nextslide"/>
          </p:cNvPr>
          <p:cNvSpPr/>
          <p:nvPr/>
        </p:nvSpPr>
        <p:spPr>
          <a:xfrm>
            <a:off x="716292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5CA1-E6C7-4C93-8FF1-6318DEA07FA2}"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oundtrack</a:t>
            </a:r>
            <a:endParaRPr b="1" lang="en-US" sz="4400" spc="-1" strike="noStrike">
              <a:solidFill>
                <a:srgbClr val="ffd467"/>
              </a:solidFill>
              <a:latin typeface="Times New Roman"/>
            </a:endParaRPr>
          </a:p>
        </p:txBody>
      </p:sp>
      <p:sp>
        <p:nvSpPr>
          <p:cNvPr id="143" name="PlaceHolder 2"/>
          <p:cNvSpPr>
            <a:spLocks noGrp="1"/>
          </p:cNvSpPr>
          <p:nvPr>
            <p:ph/>
          </p:nvPr>
        </p:nvSpPr>
        <p:spPr>
          <a:xfrm>
            <a:off x="685800" y="167652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sets th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is to match the music to the story.</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l music, without words, works the best to create an appropriat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cus should be the narration and the music should support and enhance the storytelling.</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nly copyright-free music! (Soundzaboun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4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D83B-5AC5-4CE6-926C-DBEAF120BF89}"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conomy</a:t>
            </a:r>
            <a:endParaRPr b="1" lang="en-US" sz="4400" spc="-1" strike="noStrike">
              <a:solidFill>
                <a:srgbClr val="ffd467"/>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least amount of images required to tell the story.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election of pictures and drawings should illustrate the theme without becoming a distrac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many images tend to confuse the audience.</a:t>
            </a:r>
            <a:endParaRPr b="0" lang="en-US" sz="3200" spc="-1" strike="noStrike">
              <a:solidFill>
                <a:srgbClr val="ffffff"/>
              </a:solidFill>
              <a:latin typeface="Arial"/>
            </a:endParaRPr>
          </a:p>
        </p:txBody>
      </p:sp>
      <p:sp>
        <p:nvSpPr>
          <p:cNvPr id="15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8793-3CB7-4E00-BCEB-C6C4FA0AE50E}"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5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acing</a:t>
            </a:r>
            <a:endParaRPr b="1" lang="en-US" sz="4400" spc="-1" strike="noStrike">
              <a:solidFill>
                <a:srgbClr val="ffd467"/>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the pace of the story can be very effective.  The narrative can have pauses, the music can change tempo, and the images can be set to enter at different rates of speed.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pace allows the audience to concentrate, think, and maintain interest.</a:t>
            </a:r>
            <a:endParaRPr b="0" lang="en-US" sz="3200" spc="-1" strike="noStrike">
              <a:solidFill>
                <a:srgbClr val="ffffff"/>
              </a:solidFill>
              <a:latin typeface="Arial"/>
            </a:endParaRPr>
          </a:p>
        </p:txBody>
      </p:sp>
      <p:sp>
        <p:nvSpPr>
          <p:cNvPr id="15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2E84-B07A-4AE1-95CC-AB02F68177F0}"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Bibliography</a:t>
            </a:r>
            <a:endParaRPr b="1" lang="en-US" sz="4400" spc="-1" strike="noStrike">
              <a:solidFill>
                <a:srgbClr val="ffd467"/>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Shoemaker for WLCS, Walled Lake Consolidated School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 Banaszewski • Educator/Multimedia Author, Maria Hastings School, Lexington, MA</a:t>
            </a:r>
            <a:endParaRPr b="0" lang="en-US" sz="3200" spc="-1" strike="noStrike">
              <a:solidFill>
                <a:srgbClr val="ffffff"/>
              </a:solidFill>
              <a:latin typeface="Arial"/>
            </a:endParaRPr>
          </a:p>
        </p:txBody>
      </p:sp>
      <p:sp>
        <p:nvSpPr>
          <p:cNvPr id="16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9CAC-A50F-4E04-9355-1B4A7C12A93D}"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resentation</a:t>
            </a:r>
            <a:endParaRPr b="1" lang="en-US" sz="4400" spc="-1" strike="noStrike">
              <a:solidFill>
                <a:srgbClr val="ffd467"/>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time Movie (iMovie, MovieMaker)</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erStudi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note (Appl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Movie Editors (Casablanca, Final Cut Pro)</a:t>
            </a:r>
            <a:endParaRPr b="0" lang="en-US" sz="3200" spc="-1" strike="noStrike">
              <a:solidFill>
                <a:srgbClr val="ffffff"/>
              </a:solidFill>
              <a:latin typeface="Arial"/>
            </a:endParaRPr>
          </a:p>
        </p:txBody>
      </p:sp>
      <p:sp>
        <p:nvSpPr>
          <p:cNvPr id="16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BC58-6E9A-483A-8BBB-58263AD0DD00}"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94" name="PlaceHolder 1"/>
          <p:cNvSpPr>
            <a:spLocks noGrp="1"/>
          </p:cNvSpPr>
          <p:nvPr>
            <p:ph type="title"/>
          </p:nvPr>
        </p:nvSpPr>
        <p:spPr>
          <a:xfrm>
            <a:off x="685800" y="304560"/>
            <a:ext cx="7772400" cy="114300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telling</a:t>
            </a:r>
            <a:endParaRPr b="1" lang="en-US" sz="4400" spc="-1" strike="noStrike">
              <a:solidFill>
                <a:srgbClr val="ffd467"/>
              </a:solidFill>
              <a:latin typeface="Times New Roman"/>
            </a:endParaRPr>
          </a:p>
        </p:txBody>
      </p:sp>
      <p:sp>
        <p:nvSpPr>
          <p:cNvPr id="95" name="Rectangle 4"/>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gital storytelling begins with the notion that in the not too distant future, sharing one’s stories through the multiple mediums of digital imagery, text, voice, sound , music, video and animation will be the principle hobby of the world’s people.”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nymous</a:t>
            </a:r>
            <a:endParaRPr b="0" lang="en-US" sz="2400" spc="-1" strike="noStrike">
              <a:solidFill>
                <a:srgbClr val="ffffff"/>
              </a:solidFill>
              <a:latin typeface="Arial"/>
            </a:endParaRPr>
          </a:p>
        </p:txBody>
      </p:sp>
      <p:sp>
        <p:nvSpPr>
          <p:cNvPr id="96" name="WordArt 5"/>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97"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ABD7-6C51-4AA2-AF4D-A132C3675B03}"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ontents</a:t>
            </a:r>
            <a:endParaRPr b="1" lang="en-US" sz="4400" spc="-1" strike="noStrike">
              <a:solidFill>
                <a:srgbClr val="ffd467"/>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Seven Element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orey Vide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Helpful Web Sit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Presentation</a:t>
            </a:r>
            <a:endParaRPr b="0" lang="en-US" sz="3200" spc="-1" strike="noStrike">
              <a:solidFill>
                <a:srgbClr val="ffffff"/>
              </a:solidFill>
              <a:latin typeface="Arial"/>
            </a:endParaRPr>
          </a:p>
        </p:txBody>
      </p:sp>
      <p:sp>
        <p:nvSpPr>
          <p:cNvPr id="102" name="AutoShape 4">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926C-FB4D-4FA2-8FAB-82B38CEEC06D}"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5"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Websites</a:t>
            </a:r>
            <a:endParaRPr b="1" lang="en-US" sz="4400" spc="-1" strike="noStrike">
              <a:solidFill>
                <a:srgbClr val="ffd467"/>
              </a:solidFill>
              <a:latin typeface="Times New Roman"/>
            </a:endParaRPr>
          </a:p>
        </p:txBody>
      </p:sp>
      <p:sp>
        <p:nvSpPr>
          <p:cNvPr id="106" name="PlaceHolder 2"/>
          <p:cNvSpPr>
            <a:spLocks noGrp="1"/>
          </p:cNvSpPr>
          <p:nvPr>
            <p:ph/>
          </p:nvPr>
        </p:nvSpPr>
        <p:spPr>
          <a:xfrm>
            <a:off x="609480" y="2514240"/>
            <a:ext cx="7772400" cy="20574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rPr>
              <a:t>Digital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enter for Digital Storytell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rPr>
              <a:t>A Collection of Sites</a:t>
            </a:r>
            <a:endParaRPr b="0" lang="en-US" sz="3200" spc="-1" strike="noStrike">
              <a:solidFill>
                <a:srgbClr val="ffffff"/>
              </a:solidFill>
              <a:latin typeface="Arial"/>
            </a:endParaRPr>
          </a:p>
        </p:txBody>
      </p:sp>
      <p:sp>
        <p:nvSpPr>
          <p:cNvPr id="107"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08" name="Rectangle 5"/>
          <p:cNvSpPr/>
          <p:nvPr/>
        </p:nvSpPr>
        <p:spPr>
          <a:xfrm>
            <a:off x="6297480" y="2635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1028-E5A2-4E1B-8C5F-5B8F523D5630}"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even Elements</a:t>
            </a:r>
            <a:endParaRPr b="1" lang="en-US" sz="4400" spc="-1" strike="noStrike">
              <a:solidFill>
                <a:srgbClr val="ffd467"/>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A Point of View</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ction="ppaction://hlinksldjump"/>
              </a:rPr>
              <a:t>A Dramatic Ques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Emotional Cont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The Gift of Your Voic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6" action="ppaction://hlinksldjump"/>
              </a:rPr>
              <a:t>The Power of the Soundtrack</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7" action="ppaction://hlinksldjump"/>
              </a:rPr>
              <a:t>Econom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8" action="ppaction://hlinksldjump"/>
              </a:rPr>
              <a:t>Pacing</a:t>
            </a:r>
            <a:endParaRPr b="0" lang="en-US" sz="3200" spc="-1" strike="noStrike">
              <a:solidFill>
                <a:srgbClr val="ffffff"/>
              </a:solidFill>
              <a:latin typeface="Arial"/>
            </a:endParaRPr>
          </a:p>
        </p:txBody>
      </p:sp>
      <p:sp>
        <p:nvSpPr>
          <p:cNvPr id="11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1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7BA4-E841-4852-94F9-357CBFD6CD4C}"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Point of View</a:t>
            </a:r>
            <a:endParaRPr b="1" lang="en-US" sz="4400" spc="-1" strike="noStrike">
              <a:solidFill>
                <a:srgbClr val="ffd467"/>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tories are told to make a 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s the author, need to figure out what you intend the viewer to “get.” What message are you trying to convey? In other words, what is the theme?</a:t>
            </a:r>
            <a:endParaRPr b="0" lang="en-US" sz="3200" spc="-1" strike="noStrike">
              <a:solidFill>
                <a:srgbClr val="ffffff"/>
              </a:solidFill>
              <a:latin typeface="Arial"/>
            </a:endParaRPr>
          </a:p>
        </p:txBody>
      </p:sp>
      <p:sp>
        <p:nvSpPr>
          <p:cNvPr id="12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1467-BA04-4162-ADD0-3D14351AC09C}"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2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Dramatic Question</a:t>
            </a:r>
            <a:endParaRPr b="1" lang="en-US" sz="4400" spc="-1" strike="noStrike">
              <a:solidFill>
                <a:srgbClr val="ffd467"/>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story has a “hook” that will hold the attention of the audience until the story is over.</a:t>
            </a:r>
            <a:endParaRPr b="0" lang="en-US" sz="3200" spc="-1" strike="noStrike">
              <a:solidFill>
                <a:srgbClr val="ffffff"/>
              </a:solidFill>
              <a:latin typeface="Arial"/>
            </a:endParaRPr>
          </a:p>
        </p:txBody>
      </p:sp>
      <p:sp>
        <p:nvSpPr>
          <p:cNvPr id="12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3478-2CAC-4135-A9EC-5539E146CABA}"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motional Content</a:t>
            </a:r>
            <a:endParaRPr b="1" lang="en-US" sz="4400" spc="-1" strike="noStrike">
              <a:solidFill>
                <a:srgbClr val="ffd467"/>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ory that deals with our emotions,      - such as loss, love, loneliness, courage, acceptance, rejection, hardship, etc. - will help the audience maintain their attention.</a:t>
            </a:r>
            <a:endParaRPr b="0" lang="en-US" sz="3200" spc="-1" strike="noStrike">
              <a:solidFill>
                <a:srgbClr val="ffffff"/>
              </a:solidFill>
              <a:latin typeface="Arial"/>
            </a:endParaRPr>
          </a:p>
        </p:txBody>
      </p:sp>
      <p:sp>
        <p:nvSpPr>
          <p:cNvPr id="13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82BA-4DAF-4A8D-ACE2-45709AE216DB}"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Your Voice</a:t>
            </a:r>
            <a:endParaRPr b="1" lang="en-US" sz="4400" spc="-1" strike="noStrike">
              <a:solidFill>
                <a:srgbClr val="ffd467"/>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y you use your voice can impact the story you tell.  </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e of Voice:  Slow, Fast, Loud, Sof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The tone of the storyteller’s voice provides the drama and sets the mood, while engaging the reader.   It draws the reader into the plot development through the use of story elements.</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tion:  You don’t want your final project to sound like you are reading your paper.  Practice!</a:t>
            </a:r>
            <a:endParaRPr b="0" lang="en-US" sz="2800" spc="-1" strike="noStrike">
              <a:solidFill>
                <a:srgbClr val="ffffff"/>
              </a:solidFill>
              <a:latin typeface="Arial"/>
            </a:endParaRPr>
          </a:p>
        </p:txBody>
      </p:sp>
      <p:sp>
        <p:nvSpPr>
          <p:cNvPr id="13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2T21:01:07Z</dcterms:created>
  <dc:creator>MAGGIE VERES</dc:creator>
  <dc:description/>
  <dc:language>en-US</dc:language>
  <cp:lastModifiedBy>Anne Rogalski</cp:lastModifiedBy>
  <dcterms:modified xsi:type="dcterms:W3CDTF">2012-05-20T22:49:19Z</dcterms:modified>
  <cp:revision>31</cp:revision>
  <dc:subject/>
  <dc:title>Digital Story Telling</dc:title>
</cp:coreProperties>
</file>