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F37D-0961-4CF7-B601-94E174489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F002-0407-4A2F-B55A-48323DF22B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9206-2888-4E69-838F-18932E38CA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version, he got his revenge on Hera (for throwing him out) by building a golden throne – it was a trap.  They had to invite him back and get him drunk before he released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4658-6D92-4330-99D0-BDC5094547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is sons with Aphrodite was known for his enormous man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C49B-7101-4052-A06B-A4B8C56B2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os is his brother (several Erotes – all look pretty much alike)  He has long hair and butterfly wings and is the avenger of love scor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0AD1-C7A6-4291-9EF7-223D96292C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vers of Zeu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ISTO – forest nymph, gave birth to Arcas.  Zeus changed her into a bear to hide her from Hera.  She was accidentally shot by her friend, Artemis.  Zeus placed her in the sky as a constellation (Ursa Maj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A – Zeus came in the shape of a b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OPE – daughter of a river god.  Zeus came in the form of a sat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AE – Zeus came in the form of a golden rain shower, gave birth to Pers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E – gave birht to Dionysus – Hera tricked her to ask to see Zeus in all his glory.  It fried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cules’ mom he came in the shape of her hus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o – came in the form of a sw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0891-E9E3-485E-9F4D-C6CCFC9EE1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mom, Leto, is a titan (daughter of Coeus and Phoebe) and worshipped by the Greeks.  Hera sent a giant serpent to kill her for sleeping with Zeus, but she go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llo defeated a python at Delphi in order to claim the ora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A3D3-AC71-4798-9CFD-A2C7643004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by Hepheastus with Ares.  Everyone laughed at Hepha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d Adonis but had to share him with Perse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son with Hermes named Hermaphroditos – he was loved by a water nymph but he did not return her attentions.  When he bathed in some waters, she merged with him to be with him forever.  The result was a female b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2F0-2981-42FF-A1D9-072D851F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FA9-914D-4D47-B722-1C1E3F41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AAA-FC6E-4F53-87F3-83B7666E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748-7BC4-473B-9A07-B4A94A03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0972-CC03-4EB8-B307-BB6BBE85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5F70-E104-4616-8781-E5F7F990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84E9-4910-45A1-8125-D1291BAC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C264-1140-4E45-8D22-A2BA091D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B89B-EF75-43FD-A20E-F274C3C8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8EFC-D3CB-43C7-9E19-6B333D27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39F5-E7A4-40EC-A6BB-FA404661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F6F-2D27-4C54-A8F5-87317108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C076-6776-49D1-ABD6-CD2DD03E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000B-7796-42F7-9DD5-5F35D8EB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CDC7-C528-4BF7-A4EE-E0E922DE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EB63-7EC0-4063-A18B-71A44D29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BBAF-3946-4F0C-9398-44B874CC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5B0-9ECD-4192-808E-B5DF4F6A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B47-1507-4456-B519-AF78B869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3BC-DB52-42AF-91BA-EF0E33D6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CCC-14BD-41BF-9198-C3FF97B9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03E-4334-40FA-BBF9-B100427F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A9F-F954-4B83-9DFC-2A041A91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43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253-9C79-4A63-96CD-C4A080BB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DE5F-4F33-44BB-B167-72621E3B287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FD3F-B943-437B-AF54-BD15B225163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hyperlink" Target="http://images.google.com/imgres?imgurl=http://www.ai.mit.edu/people/paulfitz/plank/vulcan/spock2.GIF&amp;imgrefurl=http://people.csail.mit.edu/paulfitz/plank/s202_o_spock.html&amp;h=475&amp;w=396&amp;sz=49&amp;hl=en&amp;start=19&amp;tbnid=oCf3W7tb8PEf1M:&amp;tbnh=129&amp;tbnw=108&amp;prev=/images?q=vulcan&amp;svnum=10&amp;hl=en" TargetMode="External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ews.cornell.edu/photos/hermes.spaceref300.jpg&amp;imgrefurl=http://www.news.cornell.edu/releases/Oct03/Arecibo.asteroid.deb.html&amp;h=1080&amp;w=1440&amp;sz=271&amp;hl=en&amp;start=15&amp;tbnid=lTtXsuxAifGkOM:&amp;tbnh=113&amp;tbnw=150&amp;prev=/images?q=hermes&amp;svnum=10&amp;hl=en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hyperlink" Target="http://www.edmunds.com/media/2003/naias/mercury.messenger/mercury.messenger.f34.500.jpg" TargetMode="External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disney.go.com/vault/archives/characterstandard/images/pluto_portrait.jpg&amp;imgrefurl=http://disney.go.com/vault/archives/characterstandard/pluto/pluto.html&amp;h=250&amp;w=200&amp;sz=8&amp;hl=en&amp;start=3&amp;tbnid=z48AF6lUYOEFLM:&amp;tbnh=111&amp;tbnw=89&amp;prev=/images?q=pluto&amp;svnum=10&amp;hl=en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img.search.com/d/d9/300px-25143_Itokawa_051101-2_ISAS-JAXA.jpg&amp;imgrefurl=http://www.search.com/reference/Apollo_asteroid&amp;h=180&amp;w=300&amp;sz=10&amp;hl=en&amp;start=11&amp;tbnid=WVjvhOdSXB0OkM:&amp;tbnh=70&amp;tbnw=116&amp;prev=/images?q=apollo+asteroid&amp;svnum=10&amp;hl=en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library.thinkquest.org/12659/media/solar_system/venus/venus.jpg&amp;imgrefurl=http://library.thinkquest.org/12659/solar_system/venus/index.html&amp;h=320&amp;w=420&amp;sz=15&amp;hl=en&amp;start=3&amp;tbnid=xG43emN8mYMK6M:&amp;tbnh=95&amp;tbnw=125&amp;prev=/images?q=Venus&amp;svnum=10&amp;hl=e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hyperlink" Target="http://www.geocities.com/Vienna/9938/images/10498b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5486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ddee"/>
                </a:solidFill>
                <a:latin typeface="Arial"/>
              </a:rPr>
              <a:t>The Greek / Roman Gods &amp; Goddesses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040" y="5943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 Unknow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allas Athena / Minerv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wisdom and defensive w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of Zeus and Metis (titan) – she popped out of his head after he swallowed the pregnant Me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carries a shield with Medusa’s head on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ui%20god%20select%20athena"/>
          <p:cNvPicPr/>
          <p:nvPr/>
        </p:nvPicPr>
        <p:blipFill>
          <a:blip r:embed="rId2"/>
          <a:stretch/>
        </p:blipFill>
        <p:spPr>
          <a:xfrm>
            <a:off x="5791320" y="13716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inerva the missing robot"/>
          <p:cNvPicPr/>
          <p:nvPr/>
        </p:nvPicPr>
        <p:blipFill>
          <a:blip r:embed="rId3"/>
          <a:stretch/>
        </p:blipFill>
        <p:spPr>
          <a:xfrm>
            <a:off x="7769160" y="4952880"/>
            <a:ext cx="1120680" cy="1419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5867280" y="4952880"/>
            <a:ext cx="1752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inerva was a tiny robot designed by the Japanese to land on an asteroid, but got lost in space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phaestus / Vulcan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d of fire and the fo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 of Zeus and He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gl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me because he was thrown off Mt. Olympus for interfering with a fight between Hera and Ze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sband to Aphrod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ApolloVulcanVelazquez"/>
          <p:cNvPicPr/>
          <p:nvPr/>
        </p:nvPicPr>
        <p:blipFill>
          <a:blip r:embed="rId2"/>
          <a:stretch/>
        </p:blipFill>
        <p:spPr>
          <a:xfrm>
            <a:off x="4705200" y="3200400"/>
            <a:ext cx="4438800" cy="3413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Vulcan"/>
          <p:cNvPicPr/>
          <p:nvPr/>
        </p:nvPicPr>
        <p:blipFill>
          <a:blip r:embed="rId3"/>
          <a:stretch/>
        </p:blipFill>
        <p:spPr>
          <a:xfrm>
            <a:off x="6553080" y="838080"/>
            <a:ext cx="1609920" cy="160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spock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5410080"/>
            <a:ext cx="1028880" cy="1228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vulcan"/>
          <p:cNvPicPr/>
          <p:nvPr/>
        </p:nvPicPr>
        <p:blipFill>
          <a:blip r:embed="rId6"/>
          <a:stretch/>
        </p:blipFill>
        <p:spPr>
          <a:xfrm>
            <a:off x="1371600" y="4248000"/>
            <a:ext cx="19461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rmes / Mercury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24280" y="137124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senger god and the god of thie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k Trickster fig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f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Ma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s Aphrod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ks believed he guided souls to H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herm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1814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Hermes-med"/>
          <p:cNvPicPr/>
          <p:nvPr/>
        </p:nvPicPr>
        <p:blipFill>
          <a:blip r:embed="rId4"/>
          <a:stretch/>
        </p:blipFill>
        <p:spPr>
          <a:xfrm>
            <a:off x="380880" y="1143000"/>
            <a:ext cx="3048120" cy="277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mercury"/>
          <p:cNvPicPr/>
          <p:nvPr/>
        </p:nvPicPr>
        <p:blipFill>
          <a:blip r:embed="rId5"/>
          <a:stretch/>
        </p:blipFill>
        <p:spPr>
          <a:xfrm>
            <a:off x="2819520" y="4495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FTD"/>
          <p:cNvPicPr/>
          <p:nvPr/>
        </p:nvPicPr>
        <p:blipFill>
          <a:blip r:embed="rId6"/>
          <a:stretch/>
        </p:blipFill>
        <p:spPr>
          <a:xfrm>
            <a:off x="2666880" y="2286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4"/>
          <p:cNvSpPr/>
          <p:nvPr/>
        </p:nvSpPr>
        <p:spPr>
          <a:xfrm>
            <a:off x="4952880" y="563868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ercury revolves around the sun so fast, it was named for the messenger god.   One year is faster than one day on Mercury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52280" y="49528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The Hermes Asteroid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3" name="Picture 17" descr="mercur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3962520"/>
            <a:ext cx="15238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stia / Vest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us’ sister – Oldest of the original go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dess of the hearth and h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ve up her spot on Mt. Olympus for Dionys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shipped dai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virgin priestesses served her for 30 year time perio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pretty much nothing in myth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hestia"/>
          <p:cNvPicPr/>
          <p:nvPr/>
        </p:nvPicPr>
        <p:blipFill>
          <a:blip r:embed="rId2"/>
          <a:stretch/>
        </p:blipFill>
        <p:spPr>
          <a:xfrm>
            <a:off x="6095880" y="1295280"/>
            <a:ext cx="2775240" cy="312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vesta-f0"/>
          <p:cNvPicPr/>
          <p:nvPr/>
        </p:nvPicPr>
        <p:blipFill>
          <a:blip r:embed="rId3"/>
          <a:stretch/>
        </p:blipFill>
        <p:spPr>
          <a:xfrm>
            <a:off x="5562720" y="4800600"/>
            <a:ext cx="1406520" cy="1447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72388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steroid Ves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Eros / Cupid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14440" y="16761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Ares and Aphrod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ten portrayed as a child, but not always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wing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s a bow and arrow – arrows cause one to fall in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mma’s bo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True color image of the Eros asteroid as seen by the NEAR spacecraft."/>
          <p:cNvPicPr/>
          <p:nvPr/>
        </p:nvPicPr>
        <p:blipFill>
          <a:blip r:embed="rId2"/>
          <a:stretch/>
        </p:blipFill>
        <p:spPr>
          <a:xfrm>
            <a:off x="7315200" y="52578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4876920" y="6248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ros is a near earth astero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10" descr="00000001"/>
          <p:cNvPicPr/>
          <p:nvPr/>
        </p:nvPicPr>
        <p:blipFill>
          <a:blip r:embed="rId3"/>
          <a:stretch/>
        </p:blipFill>
        <p:spPr>
          <a:xfrm>
            <a:off x="1676520" y="3505320"/>
            <a:ext cx="2381040" cy="3047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upid1"/>
          <p:cNvPicPr/>
          <p:nvPr/>
        </p:nvPicPr>
        <p:blipFill>
          <a:blip r:embed="rId4"/>
          <a:stretch/>
        </p:blipFill>
        <p:spPr>
          <a:xfrm>
            <a:off x="0" y="1143000"/>
            <a:ext cx="225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Demeter / Cere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vege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powers of growth and resurr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 daughter is Perse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ceres"/>
          <p:cNvPicPr/>
          <p:nvPr/>
        </p:nvPicPr>
        <p:blipFill>
          <a:blip r:embed="rId2"/>
          <a:stretch/>
        </p:blipFill>
        <p:spPr>
          <a:xfrm>
            <a:off x="5638680" y="533520"/>
            <a:ext cx="3267360" cy="552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Asteroid Ceres"/>
          <p:cNvPicPr/>
          <p:nvPr/>
        </p:nvPicPr>
        <p:blipFill>
          <a:blip r:embed="rId3"/>
          <a:stretch/>
        </p:blipFill>
        <p:spPr>
          <a:xfrm>
            <a:off x="457200" y="502920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2133720" y="525780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The asteroid Ceres was the first asteroid ever discovered and is one of the largest (about the size of Texas).  It almost became a designated as a planet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Dionysus / Bacchu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n of Zeus and Seme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d of wine and happin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some areas of Greece, his worship was outlawed (too dirt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bacchus"/>
          <p:cNvPicPr/>
          <p:nvPr/>
        </p:nvPicPr>
        <p:blipFill>
          <a:blip r:embed="rId2"/>
          <a:stretch/>
        </p:blipFill>
        <p:spPr>
          <a:xfrm>
            <a:off x="5029200" y="609480"/>
            <a:ext cx="3789360" cy="4496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2063_bacchus-s04"/>
          <p:cNvPicPr/>
          <p:nvPr/>
        </p:nvPicPr>
        <p:blipFill>
          <a:blip r:embed="rId3"/>
          <a:stretch/>
        </p:blipFill>
        <p:spPr>
          <a:xfrm>
            <a:off x="4648320" y="525780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6553080" y="5638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Bacchus asteroi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Zeus / Jupiter</a:t>
            </a:r>
            <a:endParaRPr b="1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4343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ng of the g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a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s Thunderbolts as his we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manizer – married his own s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power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791320" y="1447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400800" y="1752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5" name="Picture 7" descr="zeus_bw2"/>
          <p:cNvPicPr/>
          <p:nvPr/>
        </p:nvPicPr>
        <p:blipFill>
          <a:blip r:embed="rId2"/>
          <a:stretch/>
        </p:blipFill>
        <p:spPr>
          <a:xfrm>
            <a:off x="5448240" y="1676520"/>
            <a:ext cx="3695760" cy="3247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im-jupiter"/>
          <p:cNvPicPr/>
          <p:nvPr/>
        </p:nvPicPr>
        <p:blipFill>
          <a:blip r:embed="rId3"/>
          <a:stretch/>
        </p:blipFill>
        <p:spPr>
          <a:xfrm>
            <a:off x="7543800" y="5029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MacOS" descr=""/>
          <p:cNvPicPr/>
          <p:nvPr/>
        </p:nvPicPr>
        <p:blipFill>
          <a:blip r:embed="rId4"/>
          <a:stretch/>
        </p:blipFill>
        <p:spPr>
          <a:xfrm>
            <a:off x="4343400" y="563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4876920" y="502920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Jupiter is so named because it is so big – it is the “King of Planets”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600200" y="563868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usic is Gustav Holst’s “Jupiter, Bringer of Jollity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196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oseidon / Neptune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the sea and earthquak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hor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ident is wea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phitrite is his wif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us’ bro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st powerf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neptune"/>
          <p:cNvPicPr/>
          <p:nvPr/>
        </p:nvPicPr>
        <p:blipFill>
          <a:blip r:embed="rId2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oseidon"/>
          <p:cNvPicPr/>
          <p:nvPr/>
        </p:nvPicPr>
        <p:blipFill>
          <a:blip r:embed="rId3"/>
          <a:stretch/>
        </p:blipFill>
        <p:spPr>
          <a:xfrm>
            <a:off x="6172200" y="838080"/>
            <a:ext cx="2676600" cy="3810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5105520" y="47242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ptune is so named because the blue looks like wat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5" name="MacOS" descr=""/>
          <p:cNvPicPr/>
          <p:nvPr/>
        </p:nvPicPr>
        <p:blipFill>
          <a:blip r:embed="rId4"/>
          <a:stretch/>
        </p:blipFill>
        <p:spPr>
          <a:xfrm>
            <a:off x="48006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1295280" y="60120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Music is Gustav Holst’s “Neptune, the Mystic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1009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ades / Pluto / Di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14440" y="16765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 of the Underworld and Weal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ng of the dead but he is not De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us’ bro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 of Cronos and Rh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 a helmet that makes the wearer invi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ephone (Spring) is his w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EVIL! (but he is unpity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st powerfu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Hades"/>
          <p:cNvPicPr/>
          <p:nvPr/>
        </p:nvPicPr>
        <p:blipFill>
          <a:blip r:embed="rId2"/>
          <a:stretch/>
        </p:blipFill>
        <p:spPr>
          <a:xfrm>
            <a:off x="1219320" y="1447920"/>
            <a:ext cx="267012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pluto"/>
          <p:cNvPicPr/>
          <p:nvPr/>
        </p:nvPicPr>
        <p:blipFill>
          <a:blip r:embed="rId3"/>
          <a:stretch/>
        </p:blipFill>
        <p:spPr>
          <a:xfrm>
            <a:off x="0" y="4648320"/>
            <a:ext cx="2133720" cy="165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pluto_portrai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38280" y="495288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180px-Hades2"/>
          <p:cNvPicPr/>
          <p:nvPr/>
        </p:nvPicPr>
        <p:blipFill>
          <a:blip r:embed="rId6"/>
          <a:stretch/>
        </p:blipFill>
        <p:spPr>
          <a:xfrm>
            <a:off x="8004240" y="4800600"/>
            <a:ext cx="11397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era / Juno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en of the g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ctor of marri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fe/sister of Ze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acock is her symbol (because of the eye-loo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ws are sacred to her (ox-eyed Her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alo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hera"/>
          <p:cNvPicPr/>
          <p:nvPr/>
        </p:nvPicPr>
        <p:blipFill>
          <a:blip r:embed="rId2"/>
          <a:stretch/>
        </p:blipFill>
        <p:spPr>
          <a:xfrm>
            <a:off x="5867280" y="457200"/>
            <a:ext cx="3019680" cy="499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3Juno"/>
          <p:cNvPicPr/>
          <p:nvPr/>
        </p:nvPicPr>
        <p:blipFill>
          <a:blip r:embed="rId3"/>
          <a:stretch/>
        </p:blipFill>
        <p:spPr>
          <a:xfrm>
            <a:off x="4495680" y="5257800"/>
            <a:ext cx="1049400" cy="1600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5638680" y="5562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o planet, but there is an asteroid named after her plus a city in Alask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Phoebus Apollo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truth, light, archery, and hea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n god in some myths (Helios is the sun god in other myth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Le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lves, dolphins, and crows are sacred to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 the Oracle of Delp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apollo"/>
          <p:cNvPicPr/>
          <p:nvPr/>
        </p:nvPicPr>
        <p:blipFill>
          <a:blip r:embed="rId2"/>
          <a:stretch/>
        </p:blipFill>
        <p:spPr>
          <a:xfrm>
            <a:off x="5486400" y="685800"/>
            <a:ext cx="333216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300px-25143_Itokawa_051101-2_ISAS-JAX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5105520"/>
            <a:ext cx="1105200" cy="666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6858000" y="50292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pollo asteroids are near-earth asteroid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rtemis / Diana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ollo’s Twin sis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the hunt, wild things, and crossw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is the moon goddess someti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gin godd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Diana, she is also a goddess of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gs are sac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space_Satellite_Navigation_Artemis"/>
          <p:cNvPicPr/>
          <p:nvPr/>
        </p:nvPicPr>
        <p:blipFill>
          <a:blip r:embed="rId2"/>
          <a:stretch/>
        </p:blipFill>
        <p:spPr>
          <a:xfrm>
            <a:off x="4800600" y="4616280"/>
            <a:ext cx="2209680" cy="1565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7162920" y="4572000"/>
            <a:ext cx="1828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Artemis navigation satelli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7" name="Picture 8" descr="artemis16"/>
          <p:cNvPicPr/>
          <p:nvPr/>
        </p:nvPicPr>
        <p:blipFill>
          <a:blip r:embed="rId3"/>
          <a:stretch/>
        </p:blipFill>
        <p:spPr>
          <a:xfrm>
            <a:off x="5638680" y="609480"/>
            <a:ext cx="24768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phrodite / Venu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276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dess of beauty and l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her of Eros/Cup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fe of Hephaestus/Vulcan but lover of Ares/Mars and other gu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aphrodite_2"/>
          <p:cNvPicPr/>
          <p:nvPr/>
        </p:nvPicPr>
        <p:blipFill>
          <a:blip r:embed="rId2"/>
          <a:stretch/>
        </p:blipFill>
        <p:spPr>
          <a:xfrm>
            <a:off x="3809880" y="1066680"/>
            <a:ext cx="533412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04920" y="5334120"/>
            <a:ext cx="50292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rn from the foam in the sea caused by the attack of Cronos/ Saturn on Ouranus/Uranu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2" name="Picture 8" descr="venu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05920" y="4495680"/>
            <a:ext cx="1190520" cy="905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6095880" y="46483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enus is so named because it is a beautiful planet and can be easily seen with just the ey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4" name="MacOS" descr=""/>
          <p:cNvPicPr/>
          <p:nvPr/>
        </p:nvPicPr>
        <p:blipFill>
          <a:blip r:embed="rId5"/>
          <a:stretch/>
        </p:blipFill>
        <p:spPr>
          <a:xfrm>
            <a:off x="518148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1"/>
          <p:cNvSpPr/>
          <p:nvPr/>
        </p:nvSpPr>
        <p:spPr>
          <a:xfrm>
            <a:off x="3657600" y="64771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ustav Holst’s “Venus, Bringer of Peace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3450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Ares / Mars</a:t>
            </a:r>
            <a:endParaRPr b="1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Zeus and Hera, but both hat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omans glorify him, but the Greeks make him out to be a cow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has three children with Aphrodite: Phobos (panic) and Deimos (fear) are tw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Mars and its moons-Deimos and Phobos"/>
          <p:cNvPicPr/>
          <p:nvPr/>
        </p:nvPicPr>
        <p:blipFill>
          <a:blip r:embed="rId2"/>
          <a:stretch/>
        </p:blipFill>
        <p:spPr>
          <a:xfrm>
            <a:off x="5638680" y="4038480"/>
            <a:ext cx="1905120" cy="1552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7772400" y="396252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s and its moons, Phobos and Deim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Picture 8" descr="10498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563868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res__God_of_War_by_flondo"/>
          <p:cNvPicPr/>
          <p:nvPr/>
        </p:nvPicPr>
        <p:blipFill>
          <a:blip r:embed="rId5"/>
          <a:stretch/>
        </p:blipFill>
        <p:spPr>
          <a:xfrm>
            <a:off x="5410080" y="9144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2" name="MacOS" descr=""/>
          <p:cNvPicPr/>
          <p:nvPr/>
        </p:nvPicPr>
        <p:blipFill>
          <a:blip r:embed="rId6"/>
          <a:stretch/>
        </p:blipFill>
        <p:spPr>
          <a:xfrm>
            <a:off x="54100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1523880" y="60958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Gustav Holst’s “Mars, Bringer of War”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7426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7:28:48Z</dcterms:created>
  <dc:creator>DPS</dc:creator>
  <dc:description/>
  <dc:language>en-US</dc:language>
  <cp:lastModifiedBy>Anne Rogalski</cp:lastModifiedBy>
  <dcterms:modified xsi:type="dcterms:W3CDTF">2010-01-24T15:28:13Z</dcterms:modified>
  <cp:revision>21</cp:revision>
  <dc:subject/>
  <dc:title>The Greek / Roman Gods &amp; Goddesses</dc:title>
</cp:coreProperties>
</file>