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4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34.jpeg" ContentType="image/jpeg"/>
  <Override PartName="/ppt/media/image36.png" ContentType="image/png"/>
  <Override PartName="/ppt/media/image40.png" ContentType="image/png"/>
  <Override PartName="/ppt/media/image9.jpeg" ContentType="image/jpeg"/>
  <Override PartName="/ppt/media/image55.png" ContentType="image/png"/>
  <Override PartName="/ppt/media/image45.jpeg" ContentType="image/jpeg"/>
  <Override PartName="/ppt/media/image46.png" ContentType="image/png"/>
  <Override PartName="/ppt/media/image43.png" ContentType="image/png"/>
  <Override PartName="/ppt/media/image53.jpeg" ContentType="image/jpeg"/>
  <Override PartName="/ppt/media/image47.jpeg" ContentType="image/jpeg"/>
  <Override PartName="/ppt/media/image51.jpeg" ContentType="image/jpeg"/>
  <Override PartName="/ppt/media/image48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91960" y="70344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9118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008240" y="891180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E6D3416-258F-4F13-ADC5-6906149E6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605E421-FEEA-4EE9-8638-3ADC4E977AE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8997981-20F7-417B-A4CC-0DCD5975B86B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4C28BA5-3FE0-42EA-90CC-F015E6F7EE5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E6F3026-A7B6-4549-98E9-75BD8066FD0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76CC888-C449-4C06-8CBA-2D05D4A499A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C2757F7-A931-4E3C-B6F7-6B320E29F08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EF08AAC-4C0D-40FC-BFB1-EF902EDE791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CB917B8-E150-44A7-8873-1F7006D465B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65F0933-F0E5-4F60-A7B9-2860F3CAEF0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19C37A7-0E25-40F2-94CF-96A5C47CF1E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DBD54BE-3EBF-42D8-BC0D-1E8AFF6E1A2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CA3390E-7E38-4902-ABDF-CE3F710A2B8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7F5DD81-B73A-47F4-A6DC-4204FC3CAAB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08842A0-0D4C-455B-BDD7-11FCEFF173EF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0AA8683-D4BA-4F48-8C2C-229B1C21A34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B346CB7-0BAD-4A0A-AE61-6C952D424FFE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0288D0B-32A2-4370-AB75-59962EC4EC8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C41B6F3-34E2-4245-82B7-AE684C6545FA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C4836BD-5A21-4E32-933E-6E02C3F789A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3C25E5F-5D1E-4DD6-B7E8-2F337B0E1F9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FF3FCEB-3E65-4B9E-AFD4-AA56148D510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C1FD7CE-300F-4C5B-B000-10D8AA3E35E7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189584F-C954-4FCD-9EAB-E8C99F5E5912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863D616-B9EE-465B-AF4F-E059377B0CD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DE45714-0EA6-4B69-B62F-E5576956D2FC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27F5117-6AEA-400F-9951-3A829397215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54C58B5-2213-487D-B130-5CDCFB90791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CE6BDD6-F7F2-4D95-ADE5-47D82B31990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5369ECD-3182-4104-9E54-3E0BA11CD7F6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555A256-03D5-441B-8E67-4B7C3DF57B6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CAA1417-D443-401F-B90D-C45F9DF2D089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B9A3EE6-1A04-4DDD-82FD-ED0E69766DB8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C6CD496-3344-4CBE-8E96-414EFDA5E3F1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FFD9FA2-296A-4FF5-BC1F-EE86C36CBAA5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70B636B-FEE5-4CEF-94F3-04888201A2A0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DAB-B86A-4267-8284-7C379AEF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003E-D594-48CC-B173-3A06A31D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C897-A595-4257-983F-9FCDFAF6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50D-80EA-4955-8774-ABE4A982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3396-031F-4CCB-91CD-D3764845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68CE-8E73-4CA3-A620-9BAA64D1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04E6-0305-45F0-92BA-FF740903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706E-605C-4DEC-BC42-3E1B73DE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98F4-AA22-48F3-9E31-5FA9529E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0B2D-4CD1-4FC0-8C16-184FC3EE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1122-B162-49A0-BB69-457B7BEA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8B73-6FC0-4AEC-8C6F-43E03013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A201-3DD9-4227-A591-E84ADB4C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746A-3ABD-42C0-8D72-AEF3CD89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F9E2-60EE-4A75-8372-96DE0D60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75FB-07A7-45D8-90A6-E98CAB0F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BB9E-42A4-4592-85C1-00B38AC3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3AF1-39FC-4834-858C-D21C06EC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90E9-0E04-4956-8441-B89A17B8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D084-D0C1-4AE3-9E44-2117EECB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48BA-333C-4D68-9D78-184B69CE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6F9-19D8-4E6F-929B-FE973D45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A911-1AE7-4D10-9DAE-9150FC98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C781-B888-4242-AD56-08891CB3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F638-0049-450D-8CB1-9493A967A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17B5-AF32-420E-97C6-64DB8650C6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reek and Roman Mytholog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Review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Principal Gods and Goddess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3276720" y="601992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  <a:ea typeface="Tahoma"/>
              </a:rPr>
              <a:t>Author Unknow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e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5" name="Picture 4" descr="angryzeus"/>
          <p:cNvPicPr/>
          <p:nvPr/>
        </p:nvPicPr>
        <p:blipFill>
          <a:blip r:embed="rId2"/>
          <a:stretch/>
        </p:blipFill>
        <p:spPr>
          <a:xfrm>
            <a:off x="228600" y="2590920"/>
            <a:ext cx="3657600" cy="3560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zeus1"/>
          <p:cNvPicPr/>
          <p:nvPr/>
        </p:nvPicPr>
        <p:blipFill>
          <a:blip r:embed="rId3"/>
          <a:stretch/>
        </p:blipFill>
        <p:spPr>
          <a:xfrm>
            <a:off x="4343400" y="609480"/>
            <a:ext cx="457200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r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Jun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Zeus’s sister and wif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Jealous protector of marri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unished the women Zeus fell in love wi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9" name="Picture 4" descr="hera2"/>
          <p:cNvPicPr/>
          <p:nvPr/>
        </p:nvPicPr>
        <p:blipFill>
          <a:blip r:embed="rId2"/>
          <a:stretch/>
        </p:blipFill>
        <p:spPr>
          <a:xfrm>
            <a:off x="5334120" y="685800"/>
            <a:ext cx="272088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oseid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Neptu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the Seas and Wa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Earthshaker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2" name="Picture 4" descr="poseidon1"/>
          <p:cNvPicPr/>
          <p:nvPr/>
        </p:nvPicPr>
        <p:blipFill>
          <a:blip r:embed="rId2"/>
          <a:stretch/>
        </p:blipFill>
        <p:spPr>
          <a:xfrm>
            <a:off x="5029200" y="4191120"/>
            <a:ext cx="3809880" cy="2371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poseidon2"/>
          <p:cNvPicPr/>
          <p:nvPr/>
        </p:nvPicPr>
        <p:blipFill>
          <a:blip r:embed="rId3"/>
          <a:stretch/>
        </p:blipFill>
        <p:spPr>
          <a:xfrm>
            <a:off x="5638680" y="914400"/>
            <a:ext cx="30862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Plut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the Underworld/ Dea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Kidnapped Persepho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6" name="Picture 4" descr="hades001"/>
          <p:cNvPicPr/>
          <p:nvPr/>
        </p:nvPicPr>
        <p:blipFill>
          <a:blip r:embed="rId2"/>
          <a:stretch/>
        </p:blipFill>
        <p:spPr>
          <a:xfrm>
            <a:off x="5105520" y="304920"/>
            <a:ext cx="2438280" cy="3809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hades&amp;persephone"/>
          <p:cNvPicPr/>
          <p:nvPr/>
        </p:nvPicPr>
        <p:blipFill>
          <a:blip r:embed="rId3"/>
          <a:stretch/>
        </p:blipFill>
        <p:spPr>
          <a:xfrm>
            <a:off x="4114800" y="4343400"/>
            <a:ext cx="45435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sti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Vest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Hom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werful Protecto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30" name="Picture 4" descr="hestia1"/>
          <p:cNvPicPr/>
          <p:nvPr/>
        </p:nvPicPr>
        <p:blipFill>
          <a:blip r:embed="rId2"/>
          <a:stretch/>
        </p:blipFill>
        <p:spPr>
          <a:xfrm>
            <a:off x="3962520" y="457200"/>
            <a:ext cx="2108160" cy="4317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hestia2b"/>
          <p:cNvPicPr/>
          <p:nvPr/>
        </p:nvPicPr>
        <p:blipFill>
          <a:blip r:embed="rId3"/>
          <a:stretch/>
        </p:blipFill>
        <p:spPr>
          <a:xfrm>
            <a:off x="6400800" y="1295280"/>
            <a:ext cx="238752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met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Cer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the Harves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Goddess of the Ear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34" name="Picture 4" descr="demeter3"/>
          <p:cNvPicPr/>
          <p:nvPr/>
        </p:nvPicPr>
        <p:blipFill>
          <a:blip r:embed="rId2"/>
          <a:stretch/>
        </p:blipFill>
        <p:spPr>
          <a:xfrm>
            <a:off x="5867280" y="304920"/>
            <a:ext cx="2924280" cy="3933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demeter1"/>
          <p:cNvPicPr/>
          <p:nvPr/>
        </p:nvPicPr>
        <p:blipFill>
          <a:blip r:embed="rId3"/>
          <a:stretch/>
        </p:blipFill>
        <p:spPr>
          <a:xfrm>
            <a:off x="4419720" y="4317840"/>
            <a:ext cx="2565360" cy="254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demeter4"/>
          <p:cNvPicPr/>
          <p:nvPr/>
        </p:nvPicPr>
        <p:blipFill>
          <a:blip r:embed="rId4"/>
          <a:stretch/>
        </p:blipFill>
        <p:spPr>
          <a:xfrm>
            <a:off x="3657600" y="990720"/>
            <a:ext cx="1873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0960" y="45684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then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10080" y="205740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Minerv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Wisdom and Wa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rang from Zeus’s hea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39" name="Picture 4" descr="athena1"/>
          <p:cNvPicPr/>
          <p:nvPr/>
        </p:nvPicPr>
        <p:blipFill>
          <a:blip r:embed="rId2"/>
          <a:stretch/>
        </p:blipFill>
        <p:spPr>
          <a:xfrm>
            <a:off x="0" y="0"/>
            <a:ext cx="2468520" cy="3581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thena2"/>
          <p:cNvPicPr/>
          <p:nvPr/>
        </p:nvPicPr>
        <p:blipFill>
          <a:blip r:embed="rId3"/>
          <a:stretch/>
        </p:blipFill>
        <p:spPr>
          <a:xfrm>
            <a:off x="2666880" y="762120"/>
            <a:ext cx="2683080" cy="4052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thena3"/>
          <p:cNvPicPr/>
          <p:nvPr/>
        </p:nvPicPr>
        <p:blipFill>
          <a:blip r:embed="rId4"/>
          <a:stretch/>
        </p:blipFill>
        <p:spPr>
          <a:xfrm>
            <a:off x="1066680" y="3343320"/>
            <a:ext cx="18194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Ma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Wa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on of Zeus and He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odthirsty and mercil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44" name="Picture 4" descr="ares1"/>
          <p:cNvPicPr/>
          <p:nvPr/>
        </p:nvPicPr>
        <p:blipFill>
          <a:blip r:embed="rId2"/>
          <a:stretch/>
        </p:blipFill>
        <p:spPr>
          <a:xfrm>
            <a:off x="6477120" y="2743200"/>
            <a:ext cx="2381040" cy="3809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ares2"/>
          <p:cNvPicPr/>
          <p:nvPr/>
        </p:nvPicPr>
        <p:blipFill>
          <a:blip r:embed="rId3"/>
          <a:stretch/>
        </p:blipFill>
        <p:spPr>
          <a:xfrm>
            <a:off x="4114800" y="533520"/>
            <a:ext cx="25909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phaest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Vulcan (Mulciber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Fire/For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on of Zeus and He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Kind, unlike his broth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48" name="Picture 4" descr="hephaestus4"/>
          <p:cNvPicPr/>
          <p:nvPr/>
        </p:nvPicPr>
        <p:blipFill>
          <a:blip r:embed="rId2"/>
          <a:stretch/>
        </p:blipFill>
        <p:spPr>
          <a:xfrm>
            <a:off x="5334120" y="3809880"/>
            <a:ext cx="3571920" cy="2857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hephaestus2"/>
          <p:cNvPicPr/>
          <p:nvPr/>
        </p:nvPicPr>
        <p:blipFill>
          <a:blip r:embed="rId3"/>
          <a:stretch/>
        </p:blipFill>
        <p:spPr>
          <a:xfrm>
            <a:off x="6324480" y="152280"/>
            <a:ext cx="2600280" cy="2610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ephaestus1"/>
          <p:cNvPicPr/>
          <p:nvPr/>
        </p:nvPicPr>
        <p:blipFill>
          <a:blip r:embed="rId4"/>
          <a:stretch/>
        </p:blipFill>
        <p:spPr>
          <a:xfrm>
            <a:off x="3962520" y="609480"/>
            <a:ext cx="2057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pol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Apoll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Light/Sun and Musi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other of Artemi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53" name="Picture 4" descr="apollo1"/>
          <p:cNvPicPr/>
          <p:nvPr/>
        </p:nvPicPr>
        <p:blipFill>
          <a:blip r:embed="rId2"/>
          <a:stretch/>
        </p:blipFill>
        <p:spPr>
          <a:xfrm>
            <a:off x="4038480" y="304920"/>
            <a:ext cx="2943360" cy="3638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apollo2"/>
          <p:cNvPicPr/>
          <p:nvPr/>
        </p:nvPicPr>
        <p:blipFill>
          <a:blip r:embed="rId3"/>
          <a:stretch/>
        </p:blipFill>
        <p:spPr>
          <a:xfrm>
            <a:off x="4724280" y="3581280"/>
            <a:ext cx="38386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a myth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traditional story rooted in primitive folk beliefs of cultur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the supernatural to interpret natural eve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xplains the culture’s view of the universe and the nature of human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rtem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Dian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the Moon/ Hu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ster to Apoll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57" name="Picture 5" descr="artemis3"/>
          <p:cNvPicPr/>
          <p:nvPr/>
        </p:nvPicPr>
        <p:blipFill>
          <a:blip r:embed="rId2"/>
          <a:stretch/>
        </p:blipFill>
        <p:spPr>
          <a:xfrm>
            <a:off x="6400800" y="152280"/>
            <a:ext cx="261000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artemis5"/>
          <p:cNvPicPr/>
          <p:nvPr/>
        </p:nvPicPr>
        <p:blipFill>
          <a:blip r:embed="rId3"/>
          <a:stretch/>
        </p:blipFill>
        <p:spPr>
          <a:xfrm>
            <a:off x="3962520" y="380880"/>
            <a:ext cx="2324160" cy="3076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artemis2"/>
          <p:cNvPicPr/>
          <p:nvPr/>
        </p:nvPicPr>
        <p:blipFill>
          <a:blip r:embed="rId4"/>
          <a:stretch/>
        </p:blipFill>
        <p:spPr>
          <a:xfrm>
            <a:off x="3886200" y="3581280"/>
            <a:ext cx="41148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rm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Mercur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ssenger of the Go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ppears in more myths than any other charact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62" name="Picture 4" descr="hermes1"/>
          <p:cNvPicPr/>
          <p:nvPr/>
        </p:nvPicPr>
        <p:blipFill>
          <a:blip r:embed="rId2"/>
          <a:stretch/>
        </p:blipFill>
        <p:spPr>
          <a:xfrm>
            <a:off x="4114800" y="228600"/>
            <a:ext cx="2438280" cy="362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hermes2"/>
          <p:cNvPicPr/>
          <p:nvPr/>
        </p:nvPicPr>
        <p:blipFill>
          <a:blip r:embed="rId3"/>
          <a:stretch/>
        </p:blipFill>
        <p:spPr>
          <a:xfrm>
            <a:off x="6172200" y="274320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phrodi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Ven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Love and Beau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rang from the ocean fo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66" name="Picture 4" descr="aphrodite1"/>
          <p:cNvPicPr/>
          <p:nvPr/>
        </p:nvPicPr>
        <p:blipFill>
          <a:blip r:embed="rId2"/>
          <a:stretch/>
        </p:blipFill>
        <p:spPr>
          <a:xfrm>
            <a:off x="3505320" y="3124080"/>
            <a:ext cx="5487840" cy="3543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aphrodite2"/>
          <p:cNvPicPr/>
          <p:nvPr/>
        </p:nvPicPr>
        <p:blipFill>
          <a:blip r:embed="rId3"/>
          <a:stretch/>
        </p:blipFill>
        <p:spPr>
          <a:xfrm>
            <a:off x="3809880" y="304920"/>
            <a:ext cx="4802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onys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Bacch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of W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tron god of the Greek st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God of the Ear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0" name="Picture 4" descr="dionysus1"/>
          <p:cNvPicPr/>
          <p:nvPr/>
        </p:nvPicPr>
        <p:blipFill>
          <a:blip r:embed="rId2"/>
          <a:stretch/>
        </p:blipFill>
        <p:spPr>
          <a:xfrm>
            <a:off x="5257800" y="685800"/>
            <a:ext cx="2417760" cy="2819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dionysus2"/>
          <p:cNvPicPr/>
          <p:nvPr/>
        </p:nvPicPr>
        <p:blipFill>
          <a:blip r:embed="rId3"/>
          <a:stretch/>
        </p:blipFill>
        <p:spPr>
          <a:xfrm>
            <a:off x="4114800" y="4114800"/>
            <a:ext cx="4724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ersepho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oman Name: Proserpin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oddess of the Underworl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aughter of Zeus and Demet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bducted by Had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4" name="Picture 4" descr="persephone1"/>
          <p:cNvPicPr/>
          <p:nvPr/>
        </p:nvPicPr>
        <p:blipFill>
          <a:blip r:embed="rId2"/>
          <a:stretch/>
        </p:blipFill>
        <p:spPr>
          <a:xfrm>
            <a:off x="3733920" y="457200"/>
            <a:ext cx="1736640" cy="3429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persephone2"/>
          <p:cNvPicPr/>
          <p:nvPr/>
        </p:nvPicPr>
        <p:blipFill>
          <a:blip r:embed="rId3"/>
          <a:stretch/>
        </p:blipFill>
        <p:spPr>
          <a:xfrm>
            <a:off x="5702400" y="2374920"/>
            <a:ext cx="34416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b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Juventa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You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pbearer to the Go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stored youth to the ag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8" name="Picture 4" descr="Hebe1"/>
          <p:cNvPicPr/>
          <p:nvPr/>
        </p:nvPicPr>
        <p:blipFill>
          <a:blip r:embed="rId2"/>
          <a:stretch/>
        </p:blipFill>
        <p:spPr>
          <a:xfrm>
            <a:off x="6629400" y="533520"/>
            <a:ext cx="2044800" cy="4711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hebe2"/>
          <p:cNvPicPr/>
          <p:nvPr/>
        </p:nvPicPr>
        <p:blipFill>
          <a:blip r:embed="rId3"/>
          <a:stretch/>
        </p:blipFill>
        <p:spPr>
          <a:xfrm>
            <a:off x="4267080" y="3048120"/>
            <a:ext cx="22003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r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Cup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oung God of Lov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on of Aphrodite and Hephaest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82" name="Picture 4" descr="eros1"/>
          <p:cNvPicPr/>
          <p:nvPr/>
        </p:nvPicPr>
        <p:blipFill>
          <a:blip r:embed="rId2"/>
          <a:stretch/>
        </p:blipFill>
        <p:spPr>
          <a:xfrm>
            <a:off x="3962520" y="30492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eros"/>
          <p:cNvPicPr/>
          <p:nvPr/>
        </p:nvPicPr>
        <p:blipFill>
          <a:blip r:embed="rId3"/>
          <a:stretch/>
        </p:blipFill>
        <p:spPr>
          <a:xfrm>
            <a:off x="6172200" y="2666880"/>
            <a:ext cx="205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r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dess of the Rainbow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ssenger for Zeus and He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ughter of the titan Thaumus and the nymph Elect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86" name="Picture 4" descr="Iris"/>
          <p:cNvPicPr/>
          <p:nvPr/>
        </p:nvPicPr>
        <p:blipFill>
          <a:blip r:embed="rId2"/>
          <a:stretch/>
        </p:blipFill>
        <p:spPr>
          <a:xfrm>
            <a:off x="4724280" y="1905120"/>
            <a:ext cx="390852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Mu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ine daughters of Zeus and Mnemosyn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spired artists of all kin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oddesses who presided over the arts and scienc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e is happy whom the muses love.”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90" name="Picture 5" descr="muses"/>
          <p:cNvPicPr/>
          <p:nvPr/>
        </p:nvPicPr>
        <p:blipFill>
          <a:blip r:embed="rId2"/>
          <a:stretch/>
        </p:blipFill>
        <p:spPr>
          <a:xfrm>
            <a:off x="2362320" y="4267080"/>
            <a:ext cx="4343400" cy="19814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0" y="6324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Clio, Urania, Thalia, Melpomene, Erato, Calliope, Euterpe, Terpsichore, Polyhymni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Gra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ree Goddesses of Grace and Beau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give life its bloom.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glaia (Splendor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uphrosyne (Mirth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60640" indent="-260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alia (Good Cheer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94" name="Picture 4" descr="graces2"/>
          <p:cNvPicPr/>
          <p:nvPr/>
        </p:nvPicPr>
        <p:blipFill>
          <a:blip r:embed="rId2"/>
          <a:stretch/>
        </p:blipFill>
        <p:spPr>
          <a:xfrm>
            <a:off x="5105520" y="2514600"/>
            <a:ext cx="35812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 the beginning..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as Chaos (shapeless nothingnes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aos had two children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ight (darknes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rebus (death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ll was black, empty, silent, endless.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ysteriously, Love was born of darkness and death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Erinnyes (The Furie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Furiae or Dirae (The Furie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ree Goddesses of Vengea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isiphon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lecto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egaer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punish evildoer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97" name="Picture 4" descr="erinyes2"/>
          <p:cNvPicPr/>
          <p:nvPr/>
        </p:nvPicPr>
        <p:blipFill>
          <a:blip r:embed="rId2"/>
          <a:stretch/>
        </p:blipFill>
        <p:spPr>
          <a:xfrm>
            <a:off x="5410080" y="1752480"/>
            <a:ext cx="33022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Parcae, Moira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ree sis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lotho (“The Spinner”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achesis (“The disposer of lots”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tropos (“The cutter”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weave, measure, and cut the thread of life for human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00" name="Picture 4" descr="fates"/>
          <p:cNvPicPr/>
          <p:nvPr/>
        </p:nvPicPr>
        <p:blipFill>
          <a:blip r:embed="rId2"/>
          <a:stretch/>
        </p:blipFill>
        <p:spPr>
          <a:xfrm>
            <a:off x="6629400" y="228600"/>
            <a:ext cx="2181240" cy="2647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fates5"/>
          <p:cNvPicPr/>
          <p:nvPr/>
        </p:nvPicPr>
        <p:blipFill>
          <a:blip r:embed="rId3"/>
          <a:stretch/>
        </p:blipFill>
        <p:spPr>
          <a:xfrm>
            <a:off x="5791320" y="5203800"/>
            <a:ext cx="33526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Saty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s of the woods and mountai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epherd gods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at men (like Pa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panions of Dionys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like to drink, dance, and chase nymph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04" name="Picture 4" descr="pan1"/>
          <p:cNvPicPr/>
          <p:nvPr/>
        </p:nvPicPr>
        <p:blipFill>
          <a:blip r:embed="rId2"/>
          <a:stretch/>
        </p:blipFill>
        <p:spPr>
          <a:xfrm>
            <a:off x="5029200" y="2819520"/>
            <a:ext cx="2571840" cy="3781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pan5"/>
          <p:cNvPicPr/>
          <p:nvPr/>
        </p:nvPicPr>
        <p:blipFill>
          <a:blip r:embed="rId3"/>
          <a:stretch/>
        </p:blipFill>
        <p:spPr>
          <a:xfrm>
            <a:off x="0" y="0"/>
            <a:ext cx="1189080" cy="1535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pan2"/>
          <p:cNvPicPr/>
          <p:nvPr/>
        </p:nvPicPr>
        <p:blipFill>
          <a:blip r:embed="rId4"/>
          <a:stretch/>
        </p:blipFill>
        <p:spPr>
          <a:xfrm>
            <a:off x="6095880" y="609480"/>
            <a:ext cx="265752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Gorg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ree snake-haired mons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dusa is most well-know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ir look turns men to ston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09" name="Picture 4" descr="medusa"/>
          <p:cNvPicPr/>
          <p:nvPr/>
        </p:nvPicPr>
        <p:blipFill>
          <a:blip r:embed="rId2"/>
          <a:stretch/>
        </p:blipFill>
        <p:spPr>
          <a:xfrm>
            <a:off x="6754680" y="0"/>
            <a:ext cx="2389320" cy="2895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medusa3"/>
          <p:cNvPicPr/>
          <p:nvPr/>
        </p:nvPicPr>
        <p:blipFill>
          <a:blip r:embed="rId3"/>
          <a:stretch/>
        </p:blipFill>
        <p:spPr>
          <a:xfrm>
            <a:off x="6324480" y="3733920"/>
            <a:ext cx="2616480" cy="2946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medusa1"/>
          <p:cNvPicPr/>
          <p:nvPr/>
        </p:nvPicPr>
        <p:blipFill>
          <a:blip r:embed="rId4"/>
          <a:stretch/>
        </p:blipFill>
        <p:spPr>
          <a:xfrm>
            <a:off x="4419720" y="2057400"/>
            <a:ext cx="2171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Centau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alf man, half hors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vage creatures (except Chiro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llowers of Dionys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14" name="Picture 4" descr="centaurs3"/>
          <p:cNvPicPr/>
          <p:nvPr/>
        </p:nvPicPr>
        <p:blipFill>
          <a:blip r:embed="rId2"/>
          <a:stretch/>
        </p:blipFill>
        <p:spPr>
          <a:xfrm>
            <a:off x="5791320" y="228600"/>
            <a:ext cx="3174840" cy="237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centaurs4"/>
          <p:cNvPicPr/>
          <p:nvPr/>
        </p:nvPicPr>
        <p:blipFill>
          <a:blip r:embed="rId3"/>
          <a:stretch/>
        </p:blipFill>
        <p:spPr>
          <a:xfrm>
            <a:off x="4267080" y="3200400"/>
            <a:ext cx="434340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ur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raphics in this presentation were taken from the following web sites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bulfinch.org/fables/search.htm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pantheon.org/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messagenet.com/myths/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mythman.com/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eb.uvic.ca/grs/bowman/myth/index.htm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paleothea.com/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53760" indent="-251280"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http://www.entrenet.com/%7Egroedmed/greekm/myth.htm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s presentation is for educational purposes only; it has not been and should not be sold or used as a vehicle to make money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nd then..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Love was born, order and beauty began to flourish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ve created Light and Day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arth was creat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he was the solid ground, but also a personality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Earth bore Heaven to cover her and be a home for the god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irst Par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ther Earth = Gaea (Gaia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ather Heaven = Ouranos (Uranu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y had three kinds of children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ree monsters with 100 hands and 50 hea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ree cyclop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tita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hese were the first characters that had the appearance of life, although it was unlike any life known to man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Titans (The Elder God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re were many of them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ormous size, incredible strengt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onos (Saturn): Ruler of the tita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hea: Wife of Cron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cean: River that encircled the worl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apetus: Father of Prometheus,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pimetheus, and Atlas (also titan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Principal Go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ronos and Rhea were parents of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Zeus (Jupiter, Jove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Poseidon (Neptune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ades (Pluto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era (Juno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estia (Vesta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emeter (Ceres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Other Olympians includ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thena (Minerva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res (Mar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Hebe (Juventa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Hephaestus (Vulcan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pollo (Apollo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rtemis (Diana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Hermes (Mercury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phrodite (Venu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Dionysus (Bacchus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Persephone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Olympia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9" name="Picture 1027" descr="olympiancouncil"/>
          <p:cNvPicPr/>
          <p:nvPr/>
        </p:nvPicPr>
        <p:blipFill>
          <a:blip r:embed="rId2"/>
          <a:stretch/>
        </p:blipFill>
        <p:spPr>
          <a:xfrm>
            <a:off x="4191120" y="457200"/>
            <a:ext cx="466092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28" descr="mtolympus"/>
          <p:cNvPicPr/>
          <p:nvPr/>
        </p:nvPicPr>
        <p:blipFill>
          <a:blip r:embed="rId3"/>
          <a:stretch/>
        </p:blipFill>
        <p:spPr>
          <a:xfrm>
            <a:off x="533520" y="2133720"/>
            <a:ext cx="3305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eu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man Name: Jupiter (also Jov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upreme god of the Olympian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athered many characters in mytholog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3" name="Picture 5" descr="zeus"/>
          <p:cNvPicPr/>
          <p:nvPr/>
        </p:nvPicPr>
        <p:blipFill>
          <a:blip r:embed="rId2"/>
          <a:stretch/>
        </p:blipFill>
        <p:spPr>
          <a:xfrm>
            <a:off x="4952880" y="990720"/>
            <a:ext cx="3886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7:54:21Z</dcterms:created>
  <dc:creator>Fairfield Junior High</dc:creator>
  <dc:description/>
  <dc:language>en-US</dc:language>
  <cp:lastModifiedBy>Anne Rogalski</cp:lastModifiedBy>
  <cp:lastPrinted>2009-03-08T05:55:41Z</cp:lastPrinted>
  <dcterms:modified xsi:type="dcterms:W3CDTF">2010-01-24T15:19:09Z</dcterms:modified>
  <cp:revision>56</cp:revision>
  <dc:subject/>
  <dc:title>Greek and Roman Mythology</dc:title>
</cp:coreProperties>
</file>