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55.png" ContentType="image/pn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CD0E40-3A45-47D4-90B1-64BDB1B7F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F343AF1-A3C5-4338-95DF-E995233A195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E35652-5118-4028-8511-C997C28644C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972346-4AB7-461A-B4CE-46883A5E65C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F64D93-65DD-4869-91FB-E28C42984A9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15A4D01-6D3F-4CF5-8F09-8CBE4ADFD7C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8F9104-CF99-4F3E-9E45-F947E0731B9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22ADAF6-F52B-4E90-AAB1-15255A2920B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EECF60-74FF-4DFC-A376-181F7CACDB0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72B5CE-A1A2-4B07-8F66-7852CE580D8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FB7EB5-87F5-454E-BACF-9E2899FAC79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C00E8D-FDF7-4742-ADD1-0D6E29B527D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1965BF2-076E-4622-9866-502FE282E26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CC0112-57C2-4457-BC9E-97F6C8C2BBC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5DBB18-71D7-4DC4-9975-CA92484E12C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637FCBE-AB33-4975-AD21-41B40E537BF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91F4F3-5903-40D4-B21B-5B2D43706E4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F95F84-081C-4B6B-ADD3-C9299FD66B7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7B4535-2989-46FB-B3EA-5969F5B4793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A2A26B-2307-463E-ABAF-D70E2AE2824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954778-750A-474E-BE80-AAFB5006304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593E73-210A-4073-891F-13CC37A4A12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3F586C-DA6C-4D65-85C3-EB33095B1DF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449A96-4F89-4A0F-BC46-EAA70B0CF66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1E11F08-220F-422B-9649-57549A7759F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093C934-8FD1-4DA3-A31D-3115340830E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6082F9-CA72-47D5-B993-CF9B422A38E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4E5CE9-3521-462C-8ABD-06607523F97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5947C4-4C21-4E47-B16B-F2E845C079B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A20172-E211-466E-A7EF-EF8098707EE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4E25220-33AB-4532-BDD4-8549B79757A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323E1B-9CF2-404F-B5E4-BC4EF460BA0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39016C1-AB12-4B54-9E01-BCED24BDF51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9CACF9C-60B5-4AC0-A48B-D23C75D1020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2F8425-3B55-4A76-BC62-39615F031BD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464A61E-04C9-43AF-9EFD-1BC47A00C6F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B27-D89E-4795-8CAE-260F91CA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6F6-65C0-4295-8301-446BE231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645-81A3-4789-950A-34368632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8E1-669B-4F22-8AC1-69AE01D8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DB88-7E0F-4639-917A-8B6186B7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BB82-1A1C-414B-A2C9-9CA04359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4F24-8971-4FE9-8946-019CC82D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1648-EE13-483D-95E7-DE9EF87A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157B-F1C1-4E49-94E0-6FFA14DE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8DEB-0E71-4AC7-A41A-7F302662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3F65-730C-4774-BE74-636D17E9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F20-69C4-4330-ACFE-4839347A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3EB9-689C-46C4-B49D-D5278803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9872-656D-462F-AE3A-E90227A4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DB6F-AD73-42AD-ABC4-6041D3C7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A9A9-2977-4786-BB64-E846224F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4F63-273F-4947-A7F8-AE5582E3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A81-85CE-4569-BAEF-214804E2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130-98BC-4CFC-BB71-C56B3DF1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869-EF29-4019-8C83-C08E9A96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ED0-DFE3-41CD-9970-0467923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C3C-1186-44BA-BD83-FF636B41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E36-5B7F-47F0-9FA5-8F19E74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778-F6FF-49DE-AC1F-7E6967B7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D8E5-26A2-436E-BF16-616F9E76A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186B-9F0B-4FDD-8E81-3F8D55043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reek and Roman Mytholog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Revie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incipal Gods and Godde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276720" y="601992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ahoma"/>
              </a:rPr>
              <a:t>Author Unknow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Picture 4" descr="angryzeus"/>
          <p:cNvPicPr/>
          <p:nvPr/>
        </p:nvPicPr>
        <p:blipFill>
          <a:blip r:embed="rId2"/>
          <a:stretch/>
        </p:blipFill>
        <p:spPr>
          <a:xfrm>
            <a:off x="228600" y="2590920"/>
            <a:ext cx="3657600" cy="356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zeus1"/>
          <p:cNvPicPr/>
          <p:nvPr/>
        </p:nvPicPr>
        <p:blipFill>
          <a:blip r:embed="rId3"/>
          <a:stretch/>
        </p:blipFill>
        <p:spPr>
          <a:xfrm>
            <a:off x="4343400" y="609480"/>
            <a:ext cx="45720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Zeus’s sister and wif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ealous protector of marri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nished the women Zeus fell in love wi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9" name="Picture 4" descr="hera2"/>
          <p:cNvPicPr/>
          <p:nvPr/>
        </p:nvPicPr>
        <p:blipFill>
          <a:blip r:embed="rId2"/>
          <a:stretch/>
        </p:blipFill>
        <p:spPr>
          <a:xfrm>
            <a:off x="5334120" y="685800"/>
            <a:ext cx="27208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seid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Neptu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Seas and Wa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shaker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2" name="Picture 4" descr="poseidon1"/>
          <p:cNvPicPr/>
          <p:nvPr/>
        </p:nvPicPr>
        <p:blipFill>
          <a:blip r:embed="rId2"/>
          <a:stretch/>
        </p:blipFill>
        <p:spPr>
          <a:xfrm>
            <a:off x="5029200" y="4191120"/>
            <a:ext cx="3809880" cy="23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seidon2"/>
          <p:cNvPicPr/>
          <p:nvPr/>
        </p:nvPicPr>
        <p:blipFill>
          <a:blip r:embed="rId3"/>
          <a:stretch/>
        </p:blipFill>
        <p:spPr>
          <a:xfrm>
            <a:off x="5638680" y="914400"/>
            <a:ext cx="3086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lu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Underworld/ D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dnapped Persepho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Picture 4" descr="hades001"/>
          <p:cNvPicPr/>
          <p:nvPr/>
        </p:nvPicPr>
        <p:blipFill>
          <a:blip r:embed="rId2"/>
          <a:stretch/>
        </p:blipFill>
        <p:spPr>
          <a:xfrm>
            <a:off x="5105520" y="304920"/>
            <a:ext cx="243828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hades&amp;persephone"/>
          <p:cNvPicPr/>
          <p:nvPr/>
        </p:nvPicPr>
        <p:blipFill>
          <a:blip r:embed="rId3"/>
          <a:stretch/>
        </p:blipFill>
        <p:spPr>
          <a:xfrm>
            <a:off x="4114800" y="4343400"/>
            <a:ext cx="4543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st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st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Hom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werful Protect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0" name="Picture 4" descr="hestia1"/>
          <p:cNvPicPr/>
          <p:nvPr/>
        </p:nvPicPr>
        <p:blipFill>
          <a:blip r:embed="rId2"/>
          <a:stretch/>
        </p:blipFill>
        <p:spPr>
          <a:xfrm>
            <a:off x="3962520" y="457200"/>
            <a:ext cx="2108160" cy="431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estia2b"/>
          <p:cNvPicPr/>
          <p:nvPr/>
        </p:nvPicPr>
        <p:blipFill>
          <a:blip r:embed="rId3"/>
          <a:stretch/>
        </p:blipFill>
        <p:spPr>
          <a:xfrm>
            <a:off x="6400800" y="1295280"/>
            <a:ext cx="23875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me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e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Harve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dess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4" name="Picture 4" descr="demeter3"/>
          <p:cNvPicPr/>
          <p:nvPr/>
        </p:nvPicPr>
        <p:blipFill>
          <a:blip r:embed="rId2"/>
          <a:stretch/>
        </p:blipFill>
        <p:spPr>
          <a:xfrm>
            <a:off x="5867280" y="304920"/>
            <a:ext cx="2924280" cy="393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emeter1"/>
          <p:cNvPicPr/>
          <p:nvPr/>
        </p:nvPicPr>
        <p:blipFill>
          <a:blip r:embed="rId3"/>
          <a:stretch/>
        </p:blipFill>
        <p:spPr>
          <a:xfrm>
            <a:off x="4419720" y="4317840"/>
            <a:ext cx="2565360" cy="254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emeter4"/>
          <p:cNvPicPr/>
          <p:nvPr/>
        </p:nvPicPr>
        <p:blipFill>
          <a:blip r:embed="rId4"/>
          <a:stretch/>
        </p:blipFill>
        <p:spPr>
          <a:xfrm>
            <a:off x="3657600" y="990720"/>
            <a:ext cx="187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0960" y="4568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the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100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inerv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Wisdom and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Zeus’s h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9" name="Picture 4" descr="athena1"/>
          <p:cNvPicPr/>
          <p:nvPr/>
        </p:nvPicPr>
        <p:blipFill>
          <a:blip r:embed="rId2"/>
          <a:stretch/>
        </p:blipFill>
        <p:spPr>
          <a:xfrm>
            <a:off x="0" y="0"/>
            <a:ext cx="246852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thena2"/>
          <p:cNvPicPr/>
          <p:nvPr/>
        </p:nvPicPr>
        <p:blipFill>
          <a:blip r:embed="rId3"/>
          <a:stretch/>
        </p:blipFill>
        <p:spPr>
          <a:xfrm>
            <a:off x="2666880" y="762120"/>
            <a:ext cx="2683080" cy="405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thena3"/>
          <p:cNvPicPr/>
          <p:nvPr/>
        </p:nvPicPr>
        <p:blipFill>
          <a:blip r:embed="rId4"/>
          <a:stretch/>
        </p:blipFill>
        <p:spPr>
          <a:xfrm>
            <a:off x="1066680" y="3343320"/>
            <a:ext cx="1819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a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odthirsty and mercil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4" name="Picture 4" descr="ares1"/>
          <p:cNvPicPr/>
          <p:nvPr/>
        </p:nvPicPr>
        <p:blipFill>
          <a:blip r:embed="rId2"/>
          <a:stretch/>
        </p:blipFill>
        <p:spPr>
          <a:xfrm>
            <a:off x="6477120" y="274320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ares2"/>
          <p:cNvPicPr/>
          <p:nvPr/>
        </p:nvPicPr>
        <p:blipFill>
          <a:blip r:embed="rId3"/>
          <a:stretch/>
        </p:blipFill>
        <p:spPr>
          <a:xfrm>
            <a:off x="4114800" y="533520"/>
            <a:ext cx="2590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phaest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ulcan (Mulcib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Fire/For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nd, unlike his broth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8" name="Picture 4" descr="hephaestus4"/>
          <p:cNvPicPr/>
          <p:nvPr/>
        </p:nvPicPr>
        <p:blipFill>
          <a:blip r:embed="rId2"/>
          <a:stretch/>
        </p:blipFill>
        <p:spPr>
          <a:xfrm>
            <a:off x="5334120" y="380988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hephaestus2"/>
          <p:cNvPicPr/>
          <p:nvPr/>
        </p:nvPicPr>
        <p:blipFill>
          <a:blip r:embed="rId3"/>
          <a:stretch/>
        </p:blipFill>
        <p:spPr>
          <a:xfrm>
            <a:off x="6324480" y="152280"/>
            <a:ext cx="2600280" cy="261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ephaestus1"/>
          <p:cNvPicPr/>
          <p:nvPr/>
        </p:nvPicPr>
        <p:blipFill>
          <a:blip r:embed="rId4"/>
          <a:stretch/>
        </p:blipFill>
        <p:spPr>
          <a:xfrm>
            <a:off x="3962520" y="609480"/>
            <a:ext cx="2057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ol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Light/Sun and Mus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ther of Artemi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3" name="Picture 4" descr="apollo1"/>
          <p:cNvPicPr/>
          <p:nvPr/>
        </p:nvPicPr>
        <p:blipFill>
          <a:blip r:embed="rId2"/>
          <a:stretch/>
        </p:blipFill>
        <p:spPr>
          <a:xfrm>
            <a:off x="4038480" y="304920"/>
            <a:ext cx="2943360" cy="3638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pollo2"/>
          <p:cNvPicPr/>
          <p:nvPr/>
        </p:nvPicPr>
        <p:blipFill>
          <a:blip r:embed="rId3"/>
          <a:stretch/>
        </p:blipFill>
        <p:spPr>
          <a:xfrm>
            <a:off x="4724280" y="3581280"/>
            <a:ext cx="3838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a myth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traditional story rooted in primitive folk beliefs of cultu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the supernatural to interpret natural eve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plains the culture’s view of the universe and the nature of human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tem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Dian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Moon/ Hu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ster to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7" name="Picture 5" descr="artemis3"/>
          <p:cNvPicPr/>
          <p:nvPr/>
        </p:nvPicPr>
        <p:blipFill>
          <a:blip r:embed="rId2"/>
          <a:stretch/>
        </p:blipFill>
        <p:spPr>
          <a:xfrm>
            <a:off x="6400800" y="152280"/>
            <a:ext cx="26100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rtemis5"/>
          <p:cNvPicPr/>
          <p:nvPr/>
        </p:nvPicPr>
        <p:blipFill>
          <a:blip r:embed="rId3"/>
          <a:stretch/>
        </p:blipFill>
        <p:spPr>
          <a:xfrm>
            <a:off x="3962520" y="380880"/>
            <a:ext cx="2324160" cy="30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artemis2"/>
          <p:cNvPicPr/>
          <p:nvPr/>
        </p:nvPicPr>
        <p:blipFill>
          <a:blip r:embed="rId4"/>
          <a:stretch/>
        </p:blipFill>
        <p:spPr>
          <a:xfrm>
            <a:off x="3886200" y="3581280"/>
            <a:ext cx="41148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m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ercu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of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ppears in more myths than any other charac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2" name="Picture 4" descr="hermes1"/>
          <p:cNvPicPr/>
          <p:nvPr/>
        </p:nvPicPr>
        <p:blipFill>
          <a:blip r:embed="rId2"/>
          <a:stretch/>
        </p:blipFill>
        <p:spPr>
          <a:xfrm>
            <a:off x="4114800" y="228600"/>
            <a:ext cx="2438280" cy="362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hermes2"/>
          <p:cNvPicPr/>
          <p:nvPr/>
        </p:nvPicPr>
        <p:blipFill>
          <a:blip r:embed="rId3"/>
          <a:stretch/>
        </p:blipFill>
        <p:spPr>
          <a:xfrm>
            <a:off x="6172200" y="27432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hrodi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n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Lov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the ocean fo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6" name="Picture 4" descr="aphrodite1"/>
          <p:cNvPicPr/>
          <p:nvPr/>
        </p:nvPicPr>
        <p:blipFill>
          <a:blip r:embed="rId2"/>
          <a:stretch/>
        </p:blipFill>
        <p:spPr>
          <a:xfrm>
            <a:off x="3505320" y="3124080"/>
            <a:ext cx="5487840" cy="354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phrodite2"/>
          <p:cNvPicPr/>
          <p:nvPr/>
        </p:nvPicPr>
        <p:blipFill>
          <a:blip r:embed="rId3"/>
          <a:stretch/>
        </p:blipFill>
        <p:spPr>
          <a:xfrm>
            <a:off x="3809880" y="304920"/>
            <a:ext cx="4802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onys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Bacch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ron god of the Greek st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0" name="Picture 4" descr="dionysus1"/>
          <p:cNvPicPr/>
          <p:nvPr/>
        </p:nvPicPr>
        <p:blipFill>
          <a:blip r:embed="rId2"/>
          <a:stretch/>
        </p:blipFill>
        <p:spPr>
          <a:xfrm>
            <a:off x="5257800" y="685800"/>
            <a:ext cx="2417760" cy="281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dionysus2"/>
          <p:cNvPicPr/>
          <p:nvPr/>
        </p:nvPicPr>
        <p:blipFill>
          <a:blip r:embed="rId3"/>
          <a:stretch/>
        </p:blipFill>
        <p:spPr>
          <a:xfrm>
            <a:off x="4114800" y="4114800"/>
            <a:ext cx="4724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erseph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oman Name: Proserpin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 of the Underworl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ughter of Zeus and Deme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bducted by Ha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4" name="Picture 4" descr="persephone1"/>
          <p:cNvPicPr/>
          <p:nvPr/>
        </p:nvPicPr>
        <p:blipFill>
          <a:blip r:embed="rId2"/>
          <a:stretch/>
        </p:blipFill>
        <p:spPr>
          <a:xfrm>
            <a:off x="3733920" y="457200"/>
            <a:ext cx="173664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ersephone2"/>
          <p:cNvPicPr/>
          <p:nvPr/>
        </p:nvPicPr>
        <p:blipFill>
          <a:blip r:embed="rId3"/>
          <a:stretch/>
        </p:blipFill>
        <p:spPr>
          <a:xfrm>
            <a:off x="5702400" y="2374920"/>
            <a:ext cx="34416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b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vent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You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pbearer to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stored youth to the ag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8" name="Picture 4" descr="Hebe1"/>
          <p:cNvPicPr/>
          <p:nvPr/>
        </p:nvPicPr>
        <p:blipFill>
          <a:blip r:embed="rId2"/>
          <a:stretch/>
        </p:blipFill>
        <p:spPr>
          <a:xfrm>
            <a:off x="6629400" y="533520"/>
            <a:ext cx="2044800" cy="471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ebe2"/>
          <p:cNvPicPr/>
          <p:nvPr/>
        </p:nvPicPr>
        <p:blipFill>
          <a:blip r:embed="rId3"/>
          <a:stretch/>
        </p:blipFill>
        <p:spPr>
          <a:xfrm>
            <a:off x="4267080" y="3048120"/>
            <a:ext cx="2200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r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up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ng God of Lo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Aphrodite and Hephaest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2" name="Picture 4" descr="eros1"/>
          <p:cNvPicPr/>
          <p:nvPr/>
        </p:nvPicPr>
        <p:blipFill>
          <a:blip r:embed="rId2"/>
          <a:stretch/>
        </p:blipFill>
        <p:spPr>
          <a:xfrm>
            <a:off x="3962520" y="3049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eros"/>
          <p:cNvPicPr/>
          <p:nvPr/>
        </p:nvPicPr>
        <p:blipFill>
          <a:blip r:embed="rId3"/>
          <a:stretch/>
        </p:blipFill>
        <p:spPr>
          <a:xfrm>
            <a:off x="6172200" y="2666880"/>
            <a:ext cx="205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r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Rainbo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for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ughter of the titan Thaumus and the nymph Elect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6" name="Picture 4" descr="Iris"/>
          <p:cNvPicPr/>
          <p:nvPr/>
        </p:nvPicPr>
        <p:blipFill>
          <a:blip r:embed="rId2"/>
          <a:stretch/>
        </p:blipFill>
        <p:spPr>
          <a:xfrm>
            <a:off x="4724280" y="1905120"/>
            <a:ext cx="39085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Mu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ne daughters of Zeus and Mnemosy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pired artists of all ki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es who presided over the arts and scien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is happy whom the muses love.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0" name="Picture 5" descr="muses"/>
          <p:cNvPicPr/>
          <p:nvPr/>
        </p:nvPicPr>
        <p:blipFill>
          <a:blip r:embed="rId2"/>
          <a:stretch/>
        </p:blipFill>
        <p:spPr>
          <a:xfrm>
            <a:off x="2362320" y="4267080"/>
            <a:ext cx="4343400" cy="19814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0" y="632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io, Urania, Thalia, Melpomene, Erato, Calliope, Euterpe, Terpsichore, Polyhymn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ra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Grac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give life its bloom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glaia (Splendo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uphrosyne (Mirth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alia (Good Che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4" name="Picture 4" descr="graces2"/>
          <p:cNvPicPr/>
          <p:nvPr/>
        </p:nvPicPr>
        <p:blipFill>
          <a:blip r:embed="rId2"/>
          <a:stretch/>
        </p:blipFill>
        <p:spPr>
          <a:xfrm>
            <a:off x="5105520" y="2514600"/>
            <a:ext cx="3581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 the beginning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as Chaos (shapeless nothingnes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aos had two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ght (darknes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rebus (death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was black, empty, silent, endless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ysteriously, Love was born of darkness and deat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Erinnyes (The Furie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Furiae or Dirae (The Furi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Venge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isipho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ec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ga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punish evildoe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7" name="Picture 4" descr="erinyes2"/>
          <p:cNvPicPr/>
          <p:nvPr/>
        </p:nvPicPr>
        <p:blipFill>
          <a:blip r:embed="rId2"/>
          <a:stretch/>
        </p:blipFill>
        <p:spPr>
          <a:xfrm>
            <a:off x="5410080" y="1752480"/>
            <a:ext cx="3302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arcae, Moira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i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otho (“The Spinn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chesis (“The disposer of lots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tropos (“The cutt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weave, measure, and cut the thread of life for hum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0" name="Picture 4" descr="fates"/>
          <p:cNvPicPr/>
          <p:nvPr/>
        </p:nvPicPr>
        <p:blipFill>
          <a:blip r:embed="rId2"/>
          <a:stretch/>
        </p:blipFill>
        <p:spPr>
          <a:xfrm>
            <a:off x="6629400" y="228600"/>
            <a:ext cx="2181240" cy="2647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fates5"/>
          <p:cNvPicPr/>
          <p:nvPr/>
        </p:nvPicPr>
        <p:blipFill>
          <a:blip r:embed="rId3"/>
          <a:stretch/>
        </p:blipFill>
        <p:spPr>
          <a:xfrm>
            <a:off x="5791320" y="5203800"/>
            <a:ext cx="3352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Saty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s of the woods and mountai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epherd god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at men (like Pa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anion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like to drink, dance, and chase nymph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4" name="Picture 4" descr="pan1"/>
          <p:cNvPicPr/>
          <p:nvPr/>
        </p:nvPicPr>
        <p:blipFill>
          <a:blip r:embed="rId2"/>
          <a:stretch/>
        </p:blipFill>
        <p:spPr>
          <a:xfrm>
            <a:off x="5029200" y="2819520"/>
            <a:ext cx="2571840" cy="3781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pan5"/>
          <p:cNvPicPr/>
          <p:nvPr/>
        </p:nvPicPr>
        <p:blipFill>
          <a:blip r:embed="rId3"/>
          <a:stretch/>
        </p:blipFill>
        <p:spPr>
          <a:xfrm>
            <a:off x="0" y="0"/>
            <a:ext cx="1189080" cy="153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pan2"/>
          <p:cNvPicPr/>
          <p:nvPr/>
        </p:nvPicPr>
        <p:blipFill>
          <a:blip r:embed="rId4"/>
          <a:stretch/>
        </p:blipFill>
        <p:spPr>
          <a:xfrm>
            <a:off x="6095880" y="609480"/>
            <a:ext cx="26575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org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nake-haired mon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usa is most well-know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ir look turns men to ston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9" name="Picture 4" descr="medusa"/>
          <p:cNvPicPr/>
          <p:nvPr/>
        </p:nvPicPr>
        <p:blipFill>
          <a:blip r:embed="rId2"/>
          <a:stretch/>
        </p:blipFill>
        <p:spPr>
          <a:xfrm>
            <a:off x="6754680" y="0"/>
            <a:ext cx="2389320" cy="2895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medusa3"/>
          <p:cNvPicPr/>
          <p:nvPr/>
        </p:nvPicPr>
        <p:blipFill>
          <a:blip r:embed="rId3"/>
          <a:stretch/>
        </p:blipFill>
        <p:spPr>
          <a:xfrm>
            <a:off x="6324480" y="3733920"/>
            <a:ext cx="2616480" cy="2946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medusa1"/>
          <p:cNvPicPr/>
          <p:nvPr/>
        </p:nvPicPr>
        <p:blipFill>
          <a:blip r:embed="rId4"/>
          <a:stretch/>
        </p:blipFill>
        <p:spPr>
          <a:xfrm>
            <a:off x="4419720" y="2057400"/>
            <a:ext cx="217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Centau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alf man, half ho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vage creatures (except Chiro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llower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14" name="Picture 4" descr="centaurs3"/>
          <p:cNvPicPr/>
          <p:nvPr/>
        </p:nvPicPr>
        <p:blipFill>
          <a:blip r:embed="rId2"/>
          <a:stretch/>
        </p:blipFill>
        <p:spPr>
          <a:xfrm>
            <a:off x="5791320" y="228600"/>
            <a:ext cx="317484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entaurs4"/>
          <p:cNvPicPr/>
          <p:nvPr/>
        </p:nvPicPr>
        <p:blipFill>
          <a:blip r:embed="rId3"/>
          <a:stretch/>
        </p:blipFill>
        <p:spPr>
          <a:xfrm>
            <a:off x="4267080" y="3200400"/>
            <a:ext cx="43434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phics in this presentation were taken from the following web site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bulfinch.org/fables/searc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ntheon.org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messagenet.com/myths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mythman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eb.uvic.ca/grs/bowman/myth/index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leothea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entrenet.com/%7Egroedmed/greekm/myt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presentation is for educational purposes only; it has not been and should not be sold or used as a vehicle to make mone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d then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Love was born, order and beauty began to flouris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ve created Light and Da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rth was creat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he was the solid ground, but also a personalit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 bore Heaven to cover her and be a home for the god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irst Par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ther Earth = Gaea (Gaia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 Heaven = Ouranos (Uranu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had three kinds of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monsters with 100 hands and 50 hea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cyclop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tit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ese were the first characters that had the appearance of life, although it was unlike any life known to man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Titans (The Elder God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re were many of them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ormous size, incredible streng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onos (Saturn): Ruler of the tit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hea: Wife of Cron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cean: River that encircled the worl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apetus: Father of Prometheus,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pimetheus, and Atlas (also tita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rincipal Go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onos and Rhea were parents o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Zeus (Jupiter, Jov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seidon (Neptun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des (Plut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a (Jun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stia (Vest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meter (Cer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ther Olympians includ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thena (Minerv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es (Mar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be (Juventa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phaestus (Vulcan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ollo (Apollo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temis (Dian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rmes (Mercury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hrodite (Ven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ionysus (Bacch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ersephon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Olympi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Picture 1027" descr="olympiancouncil"/>
          <p:cNvPicPr/>
          <p:nvPr/>
        </p:nvPicPr>
        <p:blipFill>
          <a:blip r:embed="rId2"/>
          <a:stretch/>
        </p:blipFill>
        <p:spPr>
          <a:xfrm>
            <a:off x="4191120" y="457200"/>
            <a:ext cx="466092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8" descr="mtolympus"/>
          <p:cNvPicPr/>
          <p:nvPr/>
        </p:nvPicPr>
        <p:blipFill>
          <a:blip r:embed="rId3"/>
          <a:stretch/>
        </p:blipFill>
        <p:spPr>
          <a:xfrm>
            <a:off x="533520" y="2133720"/>
            <a:ext cx="3305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piter (also Jov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upreme god of the Olympi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ed many characters in mytholog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3" name="Picture 5" descr="zeus"/>
          <p:cNvPicPr/>
          <p:nvPr/>
        </p:nvPicPr>
        <p:blipFill>
          <a:blip r:embed="rId2"/>
          <a:stretch/>
        </p:blipFill>
        <p:spPr>
          <a:xfrm>
            <a:off x="4952880" y="9907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7:54:21Z</dcterms:created>
  <dc:creator>Fairfield Junior High</dc:creator>
  <dc:description/>
  <dc:language>en-US</dc:language>
  <cp:lastModifiedBy>Anne Rogalski</cp:lastModifiedBy>
  <cp:lastPrinted>2009-03-08T05:55:41Z</cp:lastPrinted>
  <dcterms:modified xsi:type="dcterms:W3CDTF">2010-01-24T15:19:09Z</dcterms:modified>
  <cp:revision>56</cp:revision>
  <dc:subject/>
  <dc:title>Greek and Roman Mythology</dc:title>
</cp:coreProperties>
</file>