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3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6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39CE-4FF3-44E9-9463-50BDCE097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4742-8D5F-4965-911E-64CCB9DA82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633C-D432-427B-9BFA-861E61188A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ne version, he got his revenge on Hera (for throwing him out) by building a golden throne – it was a trap.  They had to invite him back and get him drunk before he released 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38D5-0D30-438B-ABDA-41A26F2B61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his sons with Aphrodite was known for his enormous man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CA8B-6F24-4A42-88D4-E5A317153B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os is his brother (several Erotes – all look pretty much alike)  He has long hair and butterfly wings and is the avenger of love scor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FE2E-B203-415E-819C-261D80A1F4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Lovers of Zeu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ISTO – forest nymph, gave birth to Arcas.  Zeus changed her into a bear to hide her from Hera.  She was accidentally shot by her friend, Artemis.  Zeus placed her in the sky as a constellation (Ursa Maj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PA – Zeus came in the shape of a b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OPE – daughter of a river god.  Zeus came in the form of a saty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AE – Zeus came in the form of a golden rain shower, gave birth to Pers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ELE – gave birht to Dionysus – Hera tricked her to ask to see Zeus in all his glory.  It fried 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cules’ mom he came in the shape of her hus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do – came in the form of a sw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9154-11BF-4AA0-9982-BFBA3B5233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mom, Leto, is a titan (daughter of Coeus and Phoebe) and worshipped by the Greeks.  Hera sent a giant serpent to kill her for sleeping with Zeus, but she got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ollo defeated a python at Delphi in order to claim the ora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28E3-9C27-492F-BAC8-690F027A72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ght by Hepheastus with Ares.  Everyone laughed at Hephae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ved Adonis but had to share him with Perse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 son with Hermes named Hermaphroditos – he was loved by a water nymph but he did not return her attentions.  When he bathed in some waters, she merged with him to be with him forever.  The result was a female bo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D01F-6C91-422F-805F-3D5D71D6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E340-51C1-41D5-B242-F6D3A7C5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CB70-3427-402A-BEAC-44092971D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0124-A44D-4CC2-91F0-5EBB932B4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B7BD-7706-4BD9-8D3A-21D0C287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0C67-32D6-4551-95A2-1B1A7CE4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D0B7-E34E-4115-801B-C53CF9CD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0E3D-16FC-4FBB-8651-D821F60D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53E7-7407-403E-929A-180167E9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4568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16E8-C7C7-4F67-97E9-96097BFD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A2C2-23B6-41C3-87D4-7A7AEB1A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BF1B-3D8F-4576-A173-BFAD9EF9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6491-E1C2-4B92-9CCC-8BCC99FE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EF58-9FA3-43B9-8452-53EB6C15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B570-265F-4DC2-A13F-56B49279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189D-F591-4CDF-A273-FFC88090D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4147-C60E-4A08-86B1-480AF1232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E430-CC36-415F-AD00-602A7679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D93C-A739-4B11-96DC-304D7C90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FC86-F7FC-4137-95F1-1E3911FF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4568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E90C-2A06-4086-9AA3-8E510B19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F48A-59CB-4F33-BB53-0267BFEB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B28A-9226-4E42-B9EF-F3D2955B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690D-08BB-4A1B-B583-1739FE72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2212-2C7A-4132-B847-E9F4E36DAAC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87B2-B3DF-47F8-8247-ED7E35FBFEF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hyperlink" Target="http://images.google.com/imgres?imgurl=http://www.ai.mit.edu/people/paulfitz/plank/vulcan/spock2.GIF&amp;imgrefurl=http://people.csail.mit.edu/paulfitz/plank/s202_o_spock.html&amp;h=475&amp;w=396&amp;sz=49&amp;hl=en&amp;start=19&amp;tbnid=oCf3W7tb8PEf1M:&amp;tbnh=129&amp;tbnw=108&amp;prev=/images?q=vulcan&amp;svnum=10&amp;hl=en" TargetMode="External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news.cornell.edu/photos/hermes.spaceref300.jpg&amp;imgrefurl=http://www.news.cornell.edu/releases/Oct03/Arecibo.asteroid.deb.html&amp;h=1080&amp;w=1440&amp;sz=271&amp;hl=en&amp;start=15&amp;tbnid=lTtXsuxAifGkOM:&amp;tbnh=113&amp;tbnw=150&amp;prev=/images?q=hermes&amp;svnum=10&amp;hl=en" TargetMode="External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png"/><Relationship Id="rId7" Type="http://schemas.openxmlformats.org/officeDocument/2006/relationships/hyperlink" Target="http://www.edmunds.com/media/2003/naias/mercury.messenger/mercury.messenger.f34.500.jpg" TargetMode="External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hyperlink" Target="http://images.google.com/imgres?imgurl=http://disney.go.com/vault/archives/characterstandard/images/pluto_portrait.jpg&amp;imgrefurl=http://disney.go.com/vault/archives/characterstandard/pluto/pluto.html&amp;h=250&amp;w=200&amp;sz=8&amp;hl=en&amp;start=3&amp;tbnid=z48AF6lUYOEFLM:&amp;tbnh=111&amp;tbnw=89&amp;prev=/images?q=pluto&amp;svnum=10&amp;hl=en" TargetMode="External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img.search.com/d/d9/300px-25143_Itokawa_051101-2_ISAS-JAXA.jpg&amp;imgrefurl=http://www.search.com/reference/Apollo_asteroid&amp;h=180&amp;w=300&amp;sz=10&amp;hl=en&amp;start=11&amp;tbnid=WVjvhOdSXB0OkM:&amp;tbnh=70&amp;tbnw=116&amp;prev=/images?q=apollo+asteroid&amp;svnum=10&amp;hl=en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hyperlink" Target="http://images.google.com/imgres?imgurl=http://library.thinkquest.org/12659/media/solar_system/venus/venus.jpg&amp;imgrefurl=http://library.thinkquest.org/12659/solar_system/venus/index.html&amp;h=320&amp;w=420&amp;sz=15&amp;hl=en&amp;start=3&amp;tbnid=xG43emN8mYMK6M:&amp;tbnh=95&amp;tbnw=125&amp;prev=/images?q=Venus&amp;svnum=10&amp;hl=en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hyperlink" Target="http://www.geocities.com/Vienna/9938/images/10498b.jpg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762120"/>
            <a:ext cx="54864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ddee"/>
                </a:solidFill>
                <a:latin typeface="Arial"/>
              </a:rPr>
              <a:t>The Greek / Roman Gods &amp; Goddesses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040" y="5943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hor Unknow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Pallas Athena / Minerva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dess of wisdom and defensive w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of Zeus and Metis (titan) – she popped out of his head after he swallowed the pregnant Met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e carries a shield with Medusa’s head on 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5" descr="ui%20god%20select%20athena"/>
          <p:cNvPicPr/>
          <p:nvPr/>
        </p:nvPicPr>
        <p:blipFill>
          <a:blip r:embed="rId2"/>
          <a:stretch/>
        </p:blipFill>
        <p:spPr>
          <a:xfrm>
            <a:off x="5791320" y="137160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Minerva the missing robot"/>
          <p:cNvPicPr/>
          <p:nvPr/>
        </p:nvPicPr>
        <p:blipFill>
          <a:blip r:embed="rId3"/>
          <a:stretch/>
        </p:blipFill>
        <p:spPr>
          <a:xfrm>
            <a:off x="7769160" y="4952880"/>
            <a:ext cx="1120680" cy="14194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8"/>
          <p:cNvSpPr/>
          <p:nvPr/>
        </p:nvSpPr>
        <p:spPr>
          <a:xfrm>
            <a:off x="5867280" y="4952880"/>
            <a:ext cx="1752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Minerva was a tiny robot designed by the Japanese to land on an asteroid, but got lost in space.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Hephaestus / Vulcan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1629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d of fire and the for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 of Zeus and Her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gly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me because he was thrown off Mt. Olympus for interfering with a fight between Hera and Ze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sband to Aphrodi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5" descr="ApolloVulcanVelazquez"/>
          <p:cNvPicPr/>
          <p:nvPr/>
        </p:nvPicPr>
        <p:blipFill>
          <a:blip r:embed="rId2"/>
          <a:stretch/>
        </p:blipFill>
        <p:spPr>
          <a:xfrm>
            <a:off x="4705200" y="3200400"/>
            <a:ext cx="4438800" cy="3413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Vulcan"/>
          <p:cNvPicPr/>
          <p:nvPr/>
        </p:nvPicPr>
        <p:blipFill>
          <a:blip r:embed="rId3"/>
          <a:stretch/>
        </p:blipFill>
        <p:spPr>
          <a:xfrm>
            <a:off x="6553080" y="838080"/>
            <a:ext cx="1609920" cy="1600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spock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5410080"/>
            <a:ext cx="1028880" cy="1228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vulcan"/>
          <p:cNvPicPr/>
          <p:nvPr/>
        </p:nvPicPr>
        <p:blipFill>
          <a:blip r:embed="rId6"/>
          <a:stretch/>
        </p:blipFill>
        <p:spPr>
          <a:xfrm>
            <a:off x="1371600" y="4248000"/>
            <a:ext cx="194616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Hermes / Mercury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724280" y="1371240"/>
            <a:ext cx="4114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ssenger god and the god of thiev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eek Trickster fig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y fa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of Zeus and Ma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ves Aphrodi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eeks believed he guided souls to Ha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" descr="herme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5181480"/>
            <a:ext cx="1905120" cy="1435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Hermes-med"/>
          <p:cNvPicPr/>
          <p:nvPr/>
        </p:nvPicPr>
        <p:blipFill>
          <a:blip r:embed="rId4"/>
          <a:stretch/>
        </p:blipFill>
        <p:spPr>
          <a:xfrm>
            <a:off x="380880" y="1143000"/>
            <a:ext cx="3048120" cy="2779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mercury"/>
          <p:cNvPicPr/>
          <p:nvPr/>
        </p:nvPicPr>
        <p:blipFill>
          <a:blip r:embed="rId5"/>
          <a:stretch/>
        </p:blipFill>
        <p:spPr>
          <a:xfrm>
            <a:off x="2819520" y="44956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FTD"/>
          <p:cNvPicPr/>
          <p:nvPr/>
        </p:nvPicPr>
        <p:blipFill>
          <a:blip r:embed="rId6"/>
          <a:stretch/>
        </p:blipFill>
        <p:spPr>
          <a:xfrm>
            <a:off x="2666880" y="22860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4"/>
          <p:cNvSpPr/>
          <p:nvPr/>
        </p:nvSpPr>
        <p:spPr>
          <a:xfrm>
            <a:off x="4952880" y="5638680"/>
            <a:ext cx="419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Mercury revolves around the sun so fast, it was named for the messenger god.   One year is faster than one day on Mercury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152280" y="495288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The Hermes Asteroid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63" name="Picture 17" descr="mercury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5800" y="3962520"/>
            <a:ext cx="152388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Hestia / Vesta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800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eus’ sister – Oldest of the original go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ddess of the hearth and ho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ve up her spot on Mt. Olympus for Dionys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shipped dai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virgin priestesses served her for 30 year time perio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es pretty much nothing in mytholo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5" descr="hestia"/>
          <p:cNvPicPr/>
          <p:nvPr/>
        </p:nvPicPr>
        <p:blipFill>
          <a:blip r:embed="rId2"/>
          <a:stretch/>
        </p:blipFill>
        <p:spPr>
          <a:xfrm>
            <a:off x="6095880" y="1295280"/>
            <a:ext cx="2775240" cy="3124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vesta-f0"/>
          <p:cNvPicPr/>
          <p:nvPr/>
        </p:nvPicPr>
        <p:blipFill>
          <a:blip r:embed="rId3"/>
          <a:stretch/>
        </p:blipFill>
        <p:spPr>
          <a:xfrm>
            <a:off x="5562720" y="4800600"/>
            <a:ext cx="1406520" cy="14479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8"/>
          <p:cNvSpPr/>
          <p:nvPr/>
        </p:nvSpPr>
        <p:spPr>
          <a:xfrm>
            <a:off x="7238880" y="5105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steroid Vest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Eros / Cupid</a:t>
            </a: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14440" y="1676160"/>
            <a:ext cx="4724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of lo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of Ares and Aphrodi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ten portrayed as a child, but not always.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has wing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s a bow and arrow – arrows cause one to fall in lo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mma’s bo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5" descr="True color image of the Eros asteroid as seen by the NEAR spacecraft."/>
          <p:cNvPicPr/>
          <p:nvPr/>
        </p:nvPicPr>
        <p:blipFill>
          <a:blip r:embed="rId2"/>
          <a:stretch/>
        </p:blipFill>
        <p:spPr>
          <a:xfrm>
            <a:off x="7315200" y="525780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4876920" y="62485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ros is a near earth asteroi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3" name="Picture 10" descr="00000001"/>
          <p:cNvPicPr/>
          <p:nvPr/>
        </p:nvPicPr>
        <p:blipFill>
          <a:blip r:embed="rId3"/>
          <a:stretch/>
        </p:blipFill>
        <p:spPr>
          <a:xfrm>
            <a:off x="1676520" y="3505320"/>
            <a:ext cx="2381040" cy="3047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upid1"/>
          <p:cNvPicPr/>
          <p:nvPr/>
        </p:nvPicPr>
        <p:blipFill>
          <a:blip r:embed="rId4"/>
          <a:stretch/>
        </p:blipFill>
        <p:spPr>
          <a:xfrm>
            <a:off x="0" y="1143000"/>
            <a:ext cx="2259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Demeter / Ceres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of Cronos and Rhe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dess of vege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d powers of growth and resurr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r daughter is Perseph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5" descr="ceres"/>
          <p:cNvPicPr/>
          <p:nvPr/>
        </p:nvPicPr>
        <p:blipFill>
          <a:blip r:embed="rId2"/>
          <a:stretch/>
        </p:blipFill>
        <p:spPr>
          <a:xfrm>
            <a:off x="5638680" y="533520"/>
            <a:ext cx="3267360" cy="5524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Asteroid Ceres"/>
          <p:cNvPicPr/>
          <p:nvPr/>
        </p:nvPicPr>
        <p:blipFill>
          <a:blip r:embed="rId3"/>
          <a:stretch/>
        </p:blipFill>
        <p:spPr>
          <a:xfrm>
            <a:off x="457200" y="502920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8"/>
          <p:cNvSpPr/>
          <p:nvPr/>
        </p:nvSpPr>
        <p:spPr>
          <a:xfrm>
            <a:off x="2133720" y="5257800"/>
            <a:ext cx="342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The asteroid Ceres was the first asteroid ever discovered and is one of the largest (about the size of Texas).  It almost became a designated as a planet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Dionysus / Bacchus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038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n of Zeus and Seme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 of wine and happin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some areas of Greece, his worship was outlawed (too dirty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bacchus"/>
          <p:cNvPicPr/>
          <p:nvPr/>
        </p:nvPicPr>
        <p:blipFill>
          <a:blip r:embed="rId2"/>
          <a:stretch/>
        </p:blipFill>
        <p:spPr>
          <a:xfrm>
            <a:off x="5029200" y="609480"/>
            <a:ext cx="3789360" cy="4496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2063_bacchus-s04"/>
          <p:cNvPicPr/>
          <p:nvPr/>
        </p:nvPicPr>
        <p:blipFill>
          <a:blip r:embed="rId3"/>
          <a:stretch/>
        </p:blipFill>
        <p:spPr>
          <a:xfrm>
            <a:off x="4648320" y="5257800"/>
            <a:ext cx="1752480" cy="13143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8"/>
          <p:cNvSpPr/>
          <p:nvPr/>
        </p:nvSpPr>
        <p:spPr>
          <a:xfrm>
            <a:off x="6553080" y="56386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Bacchus asteroi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Zeus / Jupiter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4343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ing of the go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of ai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s Thunderbolts as his weap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manizer – married his own sis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of Cronos and Rhe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st powerfu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791320" y="14479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400800" y="17524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5" name="Picture 7" descr="zeus_bw2"/>
          <p:cNvPicPr/>
          <p:nvPr/>
        </p:nvPicPr>
        <p:blipFill>
          <a:blip r:embed="rId2"/>
          <a:stretch/>
        </p:blipFill>
        <p:spPr>
          <a:xfrm>
            <a:off x="5448240" y="1676520"/>
            <a:ext cx="3695760" cy="3247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im-jupiter"/>
          <p:cNvPicPr/>
          <p:nvPr/>
        </p:nvPicPr>
        <p:blipFill>
          <a:blip r:embed="rId3"/>
          <a:stretch/>
        </p:blipFill>
        <p:spPr>
          <a:xfrm>
            <a:off x="7543800" y="50292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MacOS" descr=""/>
          <p:cNvPicPr/>
          <p:nvPr/>
        </p:nvPicPr>
        <p:blipFill>
          <a:blip r:embed="rId4"/>
          <a:stretch/>
        </p:blipFill>
        <p:spPr>
          <a:xfrm>
            <a:off x="4343400" y="5638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1"/>
          <p:cNvSpPr/>
          <p:nvPr/>
        </p:nvSpPr>
        <p:spPr>
          <a:xfrm>
            <a:off x="4876920" y="5029200"/>
            <a:ext cx="259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Jupiter is so named because it is so big – it is the “King of Planets”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1600200" y="5638680"/>
            <a:ext cx="259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Music is Gustav Holst’s “Jupiter, Bringer of Jollity”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7196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Poseidon / Neptune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of the sea and earthquak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de hor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ident is weap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phitrite is his wif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eus’ bro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of Cronos and Rhe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ost powerfu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5" descr="neptune"/>
          <p:cNvPicPr/>
          <p:nvPr/>
        </p:nvPicPr>
        <p:blipFill>
          <a:blip r:embed="rId2"/>
          <a:stretch/>
        </p:blipFill>
        <p:spPr>
          <a:xfrm>
            <a:off x="7010280" y="4724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Poseidon"/>
          <p:cNvPicPr/>
          <p:nvPr/>
        </p:nvPicPr>
        <p:blipFill>
          <a:blip r:embed="rId3"/>
          <a:stretch/>
        </p:blipFill>
        <p:spPr>
          <a:xfrm>
            <a:off x="6172200" y="838080"/>
            <a:ext cx="2676600" cy="38102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8"/>
          <p:cNvSpPr/>
          <p:nvPr/>
        </p:nvSpPr>
        <p:spPr>
          <a:xfrm>
            <a:off x="5105520" y="472428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eptune is so named because the blue looks like wat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05" name="MacOS" descr=""/>
          <p:cNvPicPr/>
          <p:nvPr/>
        </p:nvPicPr>
        <p:blipFill>
          <a:blip r:embed="rId4"/>
          <a:stretch/>
        </p:blipFill>
        <p:spPr>
          <a:xfrm>
            <a:off x="4800600" y="5943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0"/>
          <p:cNvSpPr/>
          <p:nvPr/>
        </p:nvSpPr>
        <p:spPr>
          <a:xfrm>
            <a:off x="1295280" y="601200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Music is Gustav Holst’s “Neptune, the Mystic”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1009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Hades / Pluto / Dis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14440" y="167652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d of the Underworld and Weal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ing of the dead but he is not De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eus’ broth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n of Cronos and Rh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s a helmet that makes the wearer invi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ephone (Spring) is his wif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EVIL! (but he is unpitying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ost powerfu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Hades"/>
          <p:cNvPicPr/>
          <p:nvPr/>
        </p:nvPicPr>
        <p:blipFill>
          <a:blip r:embed="rId2"/>
          <a:stretch/>
        </p:blipFill>
        <p:spPr>
          <a:xfrm>
            <a:off x="1219320" y="1447920"/>
            <a:ext cx="2670120" cy="3657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pluto"/>
          <p:cNvPicPr/>
          <p:nvPr/>
        </p:nvPicPr>
        <p:blipFill>
          <a:blip r:embed="rId3"/>
          <a:stretch/>
        </p:blipFill>
        <p:spPr>
          <a:xfrm>
            <a:off x="0" y="4648320"/>
            <a:ext cx="2133720" cy="1652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pluto_portrai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438280" y="4952880"/>
            <a:ext cx="1282680" cy="1600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180px-Hades2"/>
          <p:cNvPicPr/>
          <p:nvPr/>
        </p:nvPicPr>
        <p:blipFill>
          <a:blip r:embed="rId6"/>
          <a:stretch/>
        </p:blipFill>
        <p:spPr>
          <a:xfrm>
            <a:off x="8004240" y="4800600"/>
            <a:ext cx="11397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Hera / Juno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en of the go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ector of marri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fe/sister of Ze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eacock is her symbol (because of the eye-look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ws are sacred to her (ox-eyed Her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alo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hera"/>
          <p:cNvPicPr/>
          <p:nvPr/>
        </p:nvPicPr>
        <p:blipFill>
          <a:blip r:embed="rId2"/>
          <a:stretch/>
        </p:blipFill>
        <p:spPr>
          <a:xfrm>
            <a:off x="5867280" y="457200"/>
            <a:ext cx="3019680" cy="4991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3Juno"/>
          <p:cNvPicPr/>
          <p:nvPr/>
        </p:nvPicPr>
        <p:blipFill>
          <a:blip r:embed="rId3"/>
          <a:stretch/>
        </p:blipFill>
        <p:spPr>
          <a:xfrm>
            <a:off x="4495680" y="5257800"/>
            <a:ext cx="1049400" cy="16002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5638680" y="556272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o planet, but there is an asteroid named after her plus a city in Alask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Phoebus Apollo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419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of truth, light, archery, and heal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n god in some myths (Helios is the sun god in other myth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of Zeus and Le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lves, dolphins, and crows are sacred to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s the Oracle of Delp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apollo"/>
          <p:cNvPicPr/>
          <p:nvPr/>
        </p:nvPicPr>
        <p:blipFill>
          <a:blip r:embed="rId2"/>
          <a:stretch/>
        </p:blipFill>
        <p:spPr>
          <a:xfrm>
            <a:off x="5486400" y="685800"/>
            <a:ext cx="3332160" cy="4381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300px-25143_Itokawa_051101-2_ISAS-JAX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38680" y="5105520"/>
            <a:ext cx="1105200" cy="666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6858000" y="50292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pollo asteroids are near-earth asteroid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Artemis / Diana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ollo’s Twin sis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dess of the hunt, wild things, and crosswa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e is the moon goddess sometim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rgin godd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Diana, she is also a goddess of l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gs are sac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space_Satellite_Navigation_Artemis"/>
          <p:cNvPicPr/>
          <p:nvPr/>
        </p:nvPicPr>
        <p:blipFill>
          <a:blip r:embed="rId2"/>
          <a:stretch/>
        </p:blipFill>
        <p:spPr>
          <a:xfrm>
            <a:off x="4800600" y="4616280"/>
            <a:ext cx="2209680" cy="15652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7162920" y="4572000"/>
            <a:ext cx="1828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Artemis navigation satellit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7" name="Picture 8" descr="artemis16"/>
          <p:cNvPicPr/>
          <p:nvPr/>
        </p:nvPicPr>
        <p:blipFill>
          <a:blip r:embed="rId3"/>
          <a:stretch/>
        </p:blipFill>
        <p:spPr>
          <a:xfrm>
            <a:off x="5638680" y="609480"/>
            <a:ext cx="247680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Aphrodite / Venus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276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dess of beauty and lo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ther of Eros/Cupi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fe of Hephaestus/Vulcan but lover of Ares/Mars and other gu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aphrodite_2"/>
          <p:cNvPicPr/>
          <p:nvPr/>
        </p:nvPicPr>
        <p:blipFill>
          <a:blip r:embed="rId2"/>
          <a:stretch/>
        </p:blipFill>
        <p:spPr>
          <a:xfrm>
            <a:off x="3809880" y="1066680"/>
            <a:ext cx="5334120" cy="3429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304920" y="5334120"/>
            <a:ext cx="502920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rn from the foam in the sea caused by the attack of Cronos/ Saturn on Ouranus/Uranu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2" name="Picture 8" descr="venu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05920" y="4495680"/>
            <a:ext cx="1190520" cy="9050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9"/>
          <p:cNvSpPr/>
          <p:nvPr/>
        </p:nvSpPr>
        <p:spPr>
          <a:xfrm>
            <a:off x="6095880" y="4648320"/>
            <a:ext cx="281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Venus is so named because it is a beautiful planet and can be easily seen with just the ey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4" name="MacOS" descr=""/>
          <p:cNvPicPr/>
          <p:nvPr/>
        </p:nvPicPr>
        <p:blipFill>
          <a:blip r:embed="rId5"/>
          <a:stretch/>
        </p:blipFill>
        <p:spPr>
          <a:xfrm>
            <a:off x="518148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1"/>
          <p:cNvSpPr/>
          <p:nvPr/>
        </p:nvSpPr>
        <p:spPr>
          <a:xfrm>
            <a:off x="3657600" y="64771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Gustav Holst’s “Venus, Bringer of Peace”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634503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Ares / Mars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4496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of W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of Zeus and Hera, but both hate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omans glorify him, but the Greeks make him out to be a cowa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has three children with Aphrodite: Phobos (panic) and Deimos (fear) are tw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Mars and its moons-Deimos and Phobos"/>
          <p:cNvPicPr/>
          <p:nvPr/>
        </p:nvPicPr>
        <p:blipFill>
          <a:blip r:embed="rId2"/>
          <a:stretch/>
        </p:blipFill>
        <p:spPr>
          <a:xfrm>
            <a:off x="5638680" y="4038480"/>
            <a:ext cx="1905120" cy="15526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7772400" y="3962520"/>
            <a:ext cx="137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ars and its moons, Phobos and Deimo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0" name="Picture 8" descr="10498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5638680"/>
            <a:ext cx="819000" cy="819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Ares__God_of_War_by_flondo"/>
          <p:cNvPicPr/>
          <p:nvPr/>
        </p:nvPicPr>
        <p:blipFill>
          <a:blip r:embed="rId5"/>
          <a:stretch/>
        </p:blipFill>
        <p:spPr>
          <a:xfrm>
            <a:off x="5410080" y="91440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142" name="MacOS" descr=""/>
          <p:cNvPicPr/>
          <p:nvPr/>
        </p:nvPicPr>
        <p:blipFill>
          <a:blip r:embed="rId6"/>
          <a:stretch/>
        </p:blipFill>
        <p:spPr>
          <a:xfrm>
            <a:off x="541008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2"/>
          <p:cNvSpPr/>
          <p:nvPr/>
        </p:nvSpPr>
        <p:spPr>
          <a:xfrm>
            <a:off x="1523880" y="60958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Gustav Holst’s “Mars, Bringer of War”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77426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7:28:48Z</dcterms:created>
  <dc:creator>DPS</dc:creator>
  <dc:description/>
  <dc:language>en-US</dc:language>
  <cp:lastModifiedBy>Anne Rogalski</cp:lastModifiedBy>
  <dcterms:modified xsi:type="dcterms:W3CDTF">2010-01-24T15:28:13Z</dcterms:modified>
  <cp:revision>21</cp:revision>
  <dc:subject/>
  <dc:title>The Greek / Roman Gods &amp; Goddesses</dc:title>
</cp:coreProperties>
</file>