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9216-22A3-485A-BE1B-2F109CF9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26CB-54DB-473A-B70D-FAA63B648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5FE-3B70-4550-BFC7-0F05910566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version, he got his revenge on Hera (for throwing him out) by building a golden throne – it was a trap.  They had to invite him back and get him drunk before he releas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8CD9-33F2-400F-BEA7-866A0456C4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is sons with Aphrodite was known for his enormous man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D9A5-B2A2-4721-AADC-F07A0D3A40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os is his brother (several Erotes – all look pretty much alike)  He has long hair and butterfly wings and is the avenger of love sco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31AD-F7ED-4D3A-A6BF-4F2883AF7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vers of Zeu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ISTO – forest nymph, gave birth to Arcas.  Zeus changed her into a bear to hide her from Hera.  She was accidentally shot by her friend, Artemis.  Zeus placed her in the sky as a constellation (Ursa Maj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A – Zeus came in the shape of a b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OPE – daughter of a river god.  Zeus came in the form of a sat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AE – Zeus came in the form of a golden rain shower, gave birth to 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E – gave birht to Dionysus – Hera tricked her to ask to see Zeus in all his glory.  It fri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cules’ mom he came in the shape of her hus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o – came in the form of a sw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65E3-05AA-4221-A0A9-CF833963D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mom, Leto, is a titan (daughter of Coeus and Phoebe) and worshipped by the Greeks.  Hera sent a giant serpent to kill her for sleeping with Zeus, but she go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llo defeated a python at Delphi in order to claim the ora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5286-37BD-4224-BE1D-309BB414E2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by Hepheastus with Ares.  Everyone laughed at Hepha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d Adonis but had to share him with Pers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son with Hermes named Hermaphroditos – he was loved by a water nymph but he did not return her attentions.  When he bathed in some waters, she merged with him to be with him forever.  The result was a female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8C2-5FA9-403F-9343-36384560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8B0-8135-4E3E-A273-289818DC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3B3-20E2-49B6-9580-64E80CF4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A48-A3A1-4750-B8E7-D008B404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33B9-4C40-4187-812C-C367B979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3FD2-90CF-4C7D-9EF4-B55F1B69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7FF0-81A5-47C8-899F-11DC264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A226-80E3-4B32-806E-47B0640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39DE-92D3-4320-82A2-5BF59AB1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1251-76BF-4513-9586-A2CB0871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C79-82CE-4B40-B05A-5829AF7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477-E475-44DA-8F1C-1A47DF05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0DEC-0585-4817-8C1E-EC6F5B0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15B1-E36A-4B91-BD8F-44AFBFBB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0A08-D1E9-4D6D-9691-0AB0A0A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CCDD-FE2A-4017-9B1C-1777066C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D61B-E6A7-4434-A50E-DBB31852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AEE-DAF9-4EA8-8BEB-51844E97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AA3-C209-4E18-B7AA-5F56155B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427-C652-4EB0-88B3-76AC8294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3E9-7B98-46F1-9858-E791AD7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5CF-ED30-47EC-96FB-C899710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247-0E51-484C-9E89-96B4DEA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9D6-A01B-47CA-AAD6-38C264A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1B51-D5D9-4ADB-B305-6ABABF1EA3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5CE6-B45E-4573-89CC-E9587A2383E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hyperlink" Target="http://images.google.com/imgres?imgurl=http://www.ai.mit.edu/people/paulfitz/plank/vulcan/spock2.GIF&amp;imgrefurl=http://people.csail.mit.edu/paulfitz/plank/s202_o_spock.html&amp;h=475&amp;w=396&amp;sz=49&amp;hl=en&amp;start=19&amp;tbnid=oCf3W7tb8PEf1M:&amp;tbnh=129&amp;tbnw=108&amp;prev=/images?q=vulcan&amp;svnum=10&amp;hl=en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ews.cornell.edu/photos/hermes.spaceref300.jpg&amp;imgrefurl=http://www.news.cornell.edu/releases/Oct03/Arecibo.asteroid.deb.html&amp;h=1080&amp;w=1440&amp;sz=271&amp;hl=en&amp;start=15&amp;tbnid=lTtXsuxAifGkOM:&amp;tbnh=113&amp;tbnw=150&amp;prev=/images?q=hermes&amp;svnum=10&amp;hl=en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hyperlink" Target="http://www.edmunds.com/media/2003/naias/mercury.messenger/mercury.messenger.f34.500.jpg" TargetMode="External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disney.go.com/vault/archives/characterstandard/images/pluto_portrait.jpg&amp;imgrefurl=http://disney.go.com/vault/archives/characterstandard/pluto/pluto.html&amp;h=250&amp;w=200&amp;sz=8&amp;hl=en&amp;start=3&amp;tbnid=z48AF6lUYOEFLM:&amp;tbnh=111&amp;tbnw=89&amp;prev=/images?q=pluto&amp;svnum=10&amp;hl=e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g.search.com/d/d9/300px-25143_Itokawa_051101-2_ISAS-JAXA.jpg&amp;imgrefurl=http://www.search.com/reference/Apollo_asteroid&amp;h=180&amp;w=300&amp;sz=10&amp;hl=en&amp;start=11&amp;tbnid=WVjvhOdSXB0OkM:&amp;tbnh=70&amp;tbnw=116&amp;prev=/images?q=apollo+asteroid&amp;svnum=10&amp;hl=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library.thinkquest.org/12659/media/solar_system/venus/venus.jpg&amp;imgrefurl=http://library.thinkquest.org/12659/solar_system/venus/index.html&amp;h=320&amp;w=420&amp;sz=15&amp;hl=en&amp;start=3&amp;tbnid=xG43emN8mYMK6M:&amp;tbnh=95&amp;tbnw=125&amp;prev=/images?q=Venus&amp;svnum=10&amp;hl=e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http://www.geocities.com/Vienna/9938/images/10498b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5486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dee"/>
                </a:solidFill>
                <a:latin typeface="Arial"/>
              </a:rPr>
              <a:t>The Greek / Roman Gods &amp; Goddess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5943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allas Athena / Minerv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wisdom and defensive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Zeus and Metis (titan) – she popped out of his head after he swallowed the pregnant Me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carries a shield with Medusa’s head on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ui%20god%20select%20athena"/>
          <p:cNvPicPr/>
          <p:nvPr/>
        </p:nvPicPr>
        <p:blipFill>
          <a:blip r:embed="rId2"/>
          <a:stretch/>
        </p:blipFill>
        <p:spPr>
          <a:xfrm>
            <a:off x="5791320" y="13716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nerva the missing robot"/>
          <p:cNvPicPr/>
          <p:nvPr/>
        </p:nvPicPr>
        <p:blipFill>
          <a:blip r:embed="rId3"/>
          <a:stretch/>
        </p:blipFill>
        <p:spPr>
          <a:xfrm>
            <a:off x="7769160" y="4952880"/>
            <a:ext cx="1120680" cy="14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867280" y="4952880"/>
            <a:ext cx="1752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inerva was a tiny robot designed by the Japanese to land on an asteroid, but got lost in space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phaestus / Vulcan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 of fire and the fo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 of Zeus and He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gl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me because he was thrown off Mt. Olympus for interfering with a fight between Hera and Ze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sband to Aphrod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ApolloVulcanVelazquez"/>
          <p:cNvPicPr/>
          <p:nvPr/>
        </p:nvPicPr>
        <p:blipFill>
          <a:blip r:embed="rId2"/>
          <a:stretch/>
        </p:blipFill>
        <p:spPr>
          <a:xfrm>
            <a:off x="4705200" y="3200400"/>
            <a:ext cx="443880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Vulcan"/>
          <p:cNvPicPr/>
          <p:nvPr/>
        </p:nvPicPr>
        <p:blipFill>
          <a:blip r:embed="rId3"/>
          <a:stretch/>
        </p:blipFill>
        <p:spPr>
          <a:xfrm>
            <a:off x="6553080" y="838080"/>
            <a:ext cx="16099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pock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5410080"/>
            <a:ext cx="1028880" cy="12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vulcan"/>
          <p:cNvPicPr/>
          <p:nvPr/>
        </p:nvPicPr>
        <p:blipFill>
          <a:blip r:embed="rId6"/>
          <a:stretch/>
        </p:blipFill>
        <p:spPr>
          <a:xfrm>
            <a:off x="1371600" y="4248000"/>
            <a:ext cx="19461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mes / Mercury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3712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enger god and the god of thie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 Trickster fig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f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Ma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s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s believed he guided souls to H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herm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814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ermes-med"/>
          <p:cNvPicPr/>
          <p:nvPr/>
        </p:nvPicPr>
        <p:blipFill>
          <a:blip r:embed="rId4"/>
          <a:stretch/>
        </p:blipFill>
        <p:spPr>
          <a:xfrm>
            <a:off x="380880" y="1143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mercury"/>
          <p:cNvPicPr/>
          <p:nvPr/>
        </p:nvPicPr>
        <p:blipFill>
          <a:blip r:embed="rId5"/>
          <a:stretch/>
        </p:blipFill>
        <p:spPr>
          <a:xfrm>
            <a:off x="2819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TD"/>
          <p:cNvPicPr/>
          <p:nvPr/>
        </p:nvPicPr>
        <p:blipFill>
          <a:blip r:embed="rId6"/>
          <a:stretch/>
        </p:blipFill>
        <p:spPr>
          <a:xfrm>
            <a:off x="266688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4952880" y="563868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ercury revolves around the sun so fast, it was named for the messenger god.   One year is faster than one day on Mercury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2280" y="4952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he Hermes Asteroi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17" descr="mercur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2520"/>
            <a:ext cx="1523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stia / Vest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sister – Oldest of the original g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dess of the hearth and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ve up her spot on Mt. Olympus for Diony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shipped dai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irgin priestesses served her for 30 year time peri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pretty much nothing in myth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hestia"/>
          <p:cNvPicPr/>
          <p:nvPr/>
        </p:nvPicPr>
        <p:blipFill>
          <a:blip r:embed="rId2"/>
          <a:stretch/>
        </p:blipFill>
        <p:spPr>
          <a:xfrm>
            <a:off x="6095880" y="1295280"/>
            <a:ext cx="27752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vesta-f0"/>
          <p:cNvPicPr/>
          <p:nvPr/>
        </p:nvPicPr>
        <p:blipFill>
          <a:blip r:embed="rId3"/>
          <a:stretch/>
        </p:blipFill>
        <p:spPr>
          <a:xfrm>
            <a:off x="5562720" y="4800600"/>
            <a:ext cx="140652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72388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teroid Ves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Eros / Cupid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144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Ares and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portrayed as a child, but not alway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wing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a bow and arrow – arrows cause one to fall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ma’s b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True color image of the Eros asteroid as seen by the NEAR spacecraft."/>
          <p:cNvPicPr/>
          <p:nvPr/>
        </p:nvPicPr>
        <p:blipFill>
          <a:blip r:embed="rId2"/>
          <a:stretch/>
        </p:blipFill>
        <p:spPr>
          <a:xfrm>
            <a:off x="73152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876920" y="6248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ros is a near earth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10" descr="00000001"/>
          <p:cNvPicPr/>
          <p:nvPr/>
        </p:nvPicPr>
        <p:blipFill>
          <a:blip r:embed="rId3"/>
          <a:stretch/>
        </p:blipFill>
        <p:spPr>
          <a:xfrm>
            <a:off x="1676520" y="3505320"/>
            <a:ext cx="238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upid1"/>
          <p:cNvPicPr/>
          <p:nvPr/>
        </p:nvPicPr>
        <p:blipFill>
          <a:blip r:embed="rId4"/>
          <a:stretch/>
        </p:blipFill>
        <p:spPr>
          <a:xfrm>
            <a:off x="0" y="1143000"/>
            <a:ext cx="225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emeter / Cere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vege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powers of growth and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 daughter is Perse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ceres"/>
          <p:cNvPicPr/>
          <p:nvPr/>
        </p:nvPicPr>
        <p:blipFill>
          <a:blip r:embed="rId2"/>
          <a:stretch/>
        </p:blipFill>
        <p:spPr>
          <a:xfrm>
            <a:off x="5638680" y="533520"/>
            <a:ext cx="3267360" cy="552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steroid Ceres"/>
          <p:cNvPicPr/>
          <p:nvPr/>
        </p:nvPicPr>
        <p:blipFill>
          <a:blip r:embed="rId3"/>
          <a:stretch/>
        </p:blipFill>
        <p:spPr>
          <a:xfrm>
            <a:off x="457200" y="5029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133720" y="5257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he asteroid Ceres was the first asteroid ever discovered and is one of the largest (about the size of Texas).  It almost became a designated as a plane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ionysus / Bacch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 of Zeus and Seme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of wine and happi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ome areas of Greece, his worship was outlawed (too dir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acchus"/>
          <p:cNvPicPr/>
          <p:nvPr/>
        </p:nvPicPr>
        <p:blipFill>
          <a:blip r:embed="rId2"/>
          <a:stretch/>
        </p:blipFill>
        <p:spPr>
          <a:xfrm>
            <a:off x="5029200" y="609480"/>
            <a:ext cx="3789360" cy="449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2063_bacchus-s04"/>
          <p:cNvPicPr/>
          <p:nvPr/>
        </p:nvPicPr>
        <p:blipFill>
          <a:blip r:embed="rId3"/>
          <a:stretch/>
        </p:blipFill>
        <p:spPr>
          <a:xfrm>
            <a:off x="4648320" y="52578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5638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acchus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Zeus / Jupiter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Thunderbolts as h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izer – married his ow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791320" y="1447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00800" y="175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Picture 7" descr="zeus_bw2"/>
          <p:cNvPicPr/>
          <p:nvPr/>
        </p:nvPicPr>
        <p:blipFill>
          <a:blip r:embed="rId2"/>
          <a:stretch/>
        </p:blipFill>
        <p:spPr>
          <a:xfrm>
            <a:off x="5448240" y="1676520"/>
            <a:ext cx="3695760" cy="32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-jupiter"/>
          <p:cNvPicPr/>
          <p:nvPr/>
        </p:nvPicPr>
        <p:blipFill>
          <a:blip r:embed="rId3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MacOS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876920" y="50292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piter is so named because it is so big – it is the “King of Planets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0020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Jupiter, Bringer of Jollity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6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oseidon / Neptune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he sea and earthquak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ho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dent 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hitrite is his w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neptune"/>
          <p:cNvPicPr/>
          <p:nvPr/>
        </p:nvPicPr>
        <p:blipFill>
          <a:blip r:embed="rId2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oseidon"/>
          <p:cNvPicPr/>
          <p:nvPr/>
        </p:nvPicPr>
        <p:blipFill>
          <a:blip r:embed="rId3"/>
          <a:stretch/>
        </p:blipFill>
        <p:spPr>
          <a:xfrm>
            <a:off x="6172200" y="838080"/>
            <a:ext cx="2676600" cy="38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105520" y="4724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ptune is so named because the blue looks like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MacOS" descr=""/>
          <p:cNvPicPr/>
          <p:nvPr/>
        </p:nvPicPr>
        <p:blipFill>
          <a:blip r:embed="rId4"/>
          <a:stretch/>
        </p:blipFill>
        <p:spPr>
          <a:xfrm>
            <a:off x="4800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295280" y="6012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Neptune, the Mystic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00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ades / Pluto / Di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of the Underworld and W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ng of the dead but he is not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a helmet that makes the wearer invi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ephone (Spring) is his w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IL! (but he is unpity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ades"/>
          <p:cNvPicPr/>
          <p:nvPr/>
        </p:nvPicPr>
        <p:blipFill>
          <a:blip r:embed="rId2"/>
          <a:stretch/>
        </p:blipFill>
        <p:spPr>
          <a:xfrm>
            <a:off x="1219320" y="1447920"/>
            <a:ext cx="26701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luto"/>
          <p:cNvPicPr/>
          <p:nvPr/>
        </p:nvPicPr>
        <p:blipFill>
          <a:blip r:embed="rId3"/>
          <a:stretch/>
        </p:blipFill>
        <p:spPr>
          <a:xfrm>
            <a:off x="0" y="4648320"/>
            <a:ext cx="2133720" cy="165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luto_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495288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80px-Hades2"/>
          <p:cNvPicPr/>
          <p:nvPr/>
        </p:nvPicPr>
        <p:blipFill>
          <a:blip r:embed="rId6"/>
          <a:stretch/>
        </p:blipFill>
        <p:spPr>
          <a:xfrm>
            <a:off x="8004240" y="4800600"/>
            <a:ext cx="113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a / Jun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or of marri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/sister of Ze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ock is her symbol (because of the eye-lo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ws are sacred to her (ox-eyed Her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l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hera"/>
          <p:cNvPicPr/>
          <p:nvPr/>
        </p:nvPicPr>
        <p:blipFill>
          <a:blip r:embed="rId2"/>
          <a:stretch/>
        </p:blipFill>
        <p:spPr>
          <a:xfrm>
            <a:off x="5867280" y="457200"/>
            <a:ext cx="3019680" cy="499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Juno"/>
          <p:cNvPicPr/>
          <p:nvPr/>
        </p:nvPicPr>
        <p:blipFill>
          <a:blip r:embed="rId3"/>
          <a:stretch/>
        </p:blipFill>
        <p:spPr>
          <a:xfrm>
            <a:off x="4495680" y="5257800"/>
            <a:ext cx="1049400" cy="1600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638680" y="5562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planet, but there is an asteroid named after her plus a city in Alask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hoebus Apoll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ruth, light, archery, and he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god in some myths (Helios is the sun god in other myth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Le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lves, dolphins, and crows are sacred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the Oracle of Del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pollo"/>
          <p:cNvPicPr/>
          <p:nvPr/>
        </p:nvPicPr>
        <p:blipFill>
          <a:blip r:embed="rId2"/>
          <a:stretch/>
        </p:blipFill>
        <p:spPr>
          <a:xfrm>
            <a:off x="5486400" y="685800"/>
            <a:ext cx="333216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300px-25143_Itokawa_051101-2_ISAS-JAX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5105520"/>
            <a:ext cx="110520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858000" y="50292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ollo asteroids are near-earth asteroi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temis / Dian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llo’s Twi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the hunt, wild things, and cross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is the moon goddess some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 godd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iana, she is also a goddess of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gs are sac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pace_Satellite_Navigation_Artemis"/>
          <p:cNvPicPr/>
          <p:nvPr/>
        </p:nvPicPr>
        <p:blipFill>
          <a:blip r:embed="rId2"/>
          <a:stretch/>
        </p:blipFill>
        <p:spPr>
          <a:xfrm>
            <a:off x="4800600" y="4616280"/>
            <a:ext cx="2209680" cy="156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162920" y="4572000"/>
            <a:ext cx="1828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Artemis navigation satell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Picture 8" descr="artemis16"/>
          <p:cNvPicPr/>
          <p:nvPr/>
        </p:nvPicPr>
        <p:blipFill>
          <a:blip r:embed="rId3"/>
          <a:stretch/>
        </p:blipFill>
        <p:spPr>
          <a:xfrm>
            <a:off x="5638680" y="609480"/>
            <a:ext cx="2476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phrodite / Ven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beauty and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her of Eros/Cup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 of Hephaestus/Vulcan but lover of Ares/Mars and other gu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aphrodite_2"/>
          <p:cNvPicPr/>
          <p:nvPr/>
        </p:nvPicPr>
        <p:blipFill>
          <a:blip r:embed="rId2"/>
          <a:stretch/>
        </p:blipFill>
        <p:spPr>
          <a:xfrm>
            <a:off x="3809880" y="106668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04920" y="5334120"/>
            <a:ext cx="5029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rn from the foam in the sea caused by the attack of Cronos/ Saturn on Ouranus/Uranu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Picture 8" descr="ven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4495680"/>
            <a:ext cx="1190520" cy="905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6095880" y="464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enus is so named because it is a beautiful planet and can be easily seen with just the ey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MacOS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6576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Venus, Bringer of Peace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450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es / Mar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Hera, but both hat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s glorify him, but the Greeks make him out to be a co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three children with Aphrodite: Phobos (panic) and Deimos (fear) are tw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Mars and its moons-Deimos and Phobos"/>
          <p:cNvPicPr/>
          <p:nvPr/>
        </p:nvPicPr>
        <p:blipFill>
          <a:blip r:embed="rId2"/>
          <a:stretch/>
        </p:blipFill>
        <p:spPr>
          <a:xfrm>
            <a:off x="5638680" y="4038480"/>
            <a:ext cx="1905120" cy="1552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772400" y="3962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s and its moons, Phobos and Deim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Picture 8" descr="10498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56386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es__God_of_War_by_flondo"/>
          <p:cNvPicPr/>
          <p:nvPr/>
        </p:nvPicPr>
        <p:blipFill>
          <a:blip r:embed="rId5"/>
          <a:stretch/>
        </p:blipFill>
        <p:spPr>
          <a:xfrm>
            <a:off x="5410080" y="9144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6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1523880" y="60958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Mars, Bringer of War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742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28:48Z</dcterms:created>
  <dc:creator>DPS</dc:creator>
  <dc:description/>
  <dc:language>en-US</dc:language>
  <cp:lastModifiedBy>Anne Rogalski</cp:lastModifiedBy>
  <dcterms:modified xsi:type="dcterms:W3CDTF">2010-01-24T15:28:13Z</dcterms:modified>
  <cp:revision>21</cp:revision>
  <dc:subject/>
  <dc:title>The Greek / Roman Gods &amp; Goddesses</dc:title>
</cp:coreProperties>
</file>