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524A-9688-4083-B19D-5C3C5F34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A50A-C28F-47A9-AD02-EEF60BCF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83E4-3B18-4AFD-A920-C6F68BF3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3D0D-798C-4742-A5B9-BC674219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F2DD-E6C0-47B6-AECC-9FA65BCC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D29D-AF1E-4F8D-A7FA-B2D3EE44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32AF-6FC4-46BB-AE43-559EE5A2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5A8-9FB3-43CF-9033-3C7D74ED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F818-11D5-4F3E-8D42-148E9E29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A68E-37CD-43ED-A479-56CB1BFE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3206-99DC-42A4-AA9F-9EA258B3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8849-B2A4-4B0A-B2BA-4993CDAA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1390-5F2C-4253-9EC9-E799123AC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Home School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s and c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: Jon Li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home schoo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152640" cy="76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schooling is a alternative from sending kids to public or private scho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llows one on one teaching threw the whole class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are taught by parents, guardians, and tuto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mages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3581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stic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The national center for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education statistics said, in 1998 the number of home schooled students was around 850,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n 2009, there statistics say that there are about 3,000,000 home schooled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4832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eople are swit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home schooled kids is growing rapid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are likely to learn more because of the one on one teaching times and less distr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dom to practice there religion. Muslims are one of the highest switch rates in the n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s don’t like the teaching style of teachers at the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ronment of the school. To protect there k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Times New Roman"/>
              </a:rPr>
              <a:t>P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schooling is being used buy families all over the n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effective in some cases, overall better life outcomes for home schooled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s- better understanding of learning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towns don’t provide athle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urity level can suff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ocial: some cases children lack street sma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5:42:37Z</dcterms:created>
  <dc:creator>student</dc:creator>
  <dc:description/>
  <dc:language>en-US</dc:language>
  <cp:lastModifiedBy>student</cp:lastModifiedBy>
  <dcterms:modified xsi:type="dcterms:W3CDTF">2009-11-05T16:38:22Z</dcterms:modified>
  <cp:revision>4</cp:revision>
  <dc:subject/>
  <dc:title>Home Schooling</dc:title>
</cp:coreProperties>
</file>