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941-A745-4C42-B7CD-0253A1A9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383-E369-458C-9C38-4F892FED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733-E6AF-4161-A46C-8F98D86B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B67-64AB-4E30-86EC-92FDB332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CCB-A21D-47AC-8AD0-C6E0D12C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355-0E97-40CE-A0F9-B0AF6D1D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297-27C2-4AC4-AEC1-AB1E2700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962-6EDC-4A9A-BEAE-C04A3BD2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889-C156-42CF-8898-26F9D0A4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7AA-4688-415F-A0B8-6570C1D3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EB3-6B60-48EA-971F-C8CFF4F4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5748-F758-4423-844C-EE52CFB6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B68A-F3A9-4841-A6F0-FFF659565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Home School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s and c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Jon L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ome schoo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152640" cy="76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schooling is a alternative from sending kids to public or private sch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lows one on one teaching threw the whole clas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re taught by parents, guardians, and tut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s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581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The national center f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education statistics said, in 1998 the number of home schooled students was around 85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n 2009, there statistics say that there are about 3,000,000 home schooled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eople are swit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home schooled kids is growing rapid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re likely to learn more because of the one on one teaching times and less dist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dom to practice there religion. Muslims are one of the highest switch rates in the n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s don’t like the teaching style of teachers at th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 of the school. To protect there k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P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schooling is being used buy families all over the 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effective in some cases, overall better life outcomes for home schooled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- better understanding of learning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owns don’t provide athle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urity level can suf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ocial: some cases children lack street sm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5:42:37Z</dcterms:created>
  <dc:creator>student</dc:creator>
  <dc:description/>
  <dc:language>en-US</dc:language>
  <cp:lastModifiedBy>student</cp:lastModifiedBy>
  <dcterms:modified xsi:type="dcterms:W3CDTF">2009-11-05T16:38:22Z</dcterms:modified>
  <cp:revision>4</cp:revision>
  <dc:subject/>
  <dc:title>Home Schooling</dc:title>
</cp:coreProperties>
</file>