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5631-FEE5-43A6-88AD-BA8DEAFDA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FAF9-322E-4B75-81B6-EDFD159FC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2CCF-46D7-429E-82A2-3A00A6D03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A747-817F-4DC2-98D4-D0C1793E6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A973-B924-4935-952D-32BBB4AE7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4FF1-D1ED-4925-8A38-3747E0D84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FCF5-8375-44A4-8AD3-F5E85789D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E416-0FDA-4C45-94A5-AD6F3A749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79D3-B47E-45D5-9563-3BBF3EC23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15C1-8493-4D1B-90A6-599E60D71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3497-1842-4E6A-B838-CE79BEFDD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31ED-BC58-46EF-97FE-DBD165122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77033-DF70-4749-932B-9D72C31E70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Home Schooling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ros and c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: Jon Li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home schoo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495680" y="1981080"/>
            <a:ext cx="152640" cy="763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 schooling is a alternative from sending kids to public or private schoo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allows one on one teaching threw the whole class 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udents are taught by parents, guardians, and tuto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images" descr=""/>
          <p:cNvPicPr/>
          <p:nvPr/>
        </p:nvPicPr>
        <p:blipFill>
          <a:blip r:embed="rId2"/>
          <a:stretch/>
        </p:blipFill>
        <p:spPr>
          <a:xfrm>
            <a:off x="838080" y="1981080"/>
            <a:ext cx="358164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istic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Times New Roman"/>
              </a:rPr>
              <a:t>The national center for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c0066"/>
                </a:solidFill>
                <a:latin typeface="Times New Roman"/>
              </a:rPr>
              <a:t>education statistics said, in 1998 the number of home schooled students was around 850,00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Times New Roman"/>
              </a:rPr>
              <a:t>In 2009, there statistics say that there are about 3,000,000 home schooled stud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4648320" y="1981080"/>
          <a:ext cx="380988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981080"/>
                    <a:ext cx="38098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people are switch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number of home schooled kids is growing rapid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udents are likely to learn more because of the one on one teaching times and less distrac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eedom to practice there religion. Muslims are one of the highest switch rates in the natio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ents don’t like the teaching style of teachers at the schoo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vironment of the school. To protect there ki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s and c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00"/>
                </a:solidFill>
                <a:latin typeface="Times New Roman"/>
              </a:rPr>
              <a:t>Pr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me schooling is being used buy families all over the n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be effective in some cases, overall better life outcomes for home schooled stud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achers- better understanding of learning sty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C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towns don’t provide athletic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urity level can suff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social: some cases children lack street smar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8T15:42:37Z</dcterms:created>
  <dc:creator>student</dc:creator>
  <dc:description/>
  <dc:language>en-US</dc:language>
  <cp:lastModifiedBy>student</cp:lastModifiedBy>
  <dcterms:modified xsi:type="dcterms:W3CDTF">2009-11-05T16:38:22Z</dcterms:modified>
  <cp:revision>4</cp:revision>
  <dc:subject/>
  <dc:title>Home Schooling</dc:title>
</cp:coreProperties>
</file>