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243-0B54-4BB7-BCFE-5A7A43E9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5CF-8725-4B78-8FF5-83FE0175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309-F34E-430E-A7BF-1438D060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CB6-5FAE-42D9-A5EB-F87E24C2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F4C-0AD2-4145-83D6-B4BF0673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D59-0031-4917-8EA7-4F98404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CFE-3EAE-45CA-9A94-03D6462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B5A-1A54-4F20-8D00-BBF31558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2B8-71B2-490F-8FCA-913B2C93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BCA-C625-486F-B568-55EC326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346-C01D-43D7-ACFA-AC4A2C0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B30-AF88-46C8-A1CB-20540DB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24EC-0B35-4759-9566-B81A7735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Home Schoo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s and c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Jon L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e sch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15264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schooling is a alternative from sending kids to public or private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ows one on one teaching threw the whole clas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taught by parents, guardians, and tut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s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stic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he national center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ducation statistics said, in 1998 the number of home schooled students was around 8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2009, there statistics say that there are about 3,000,000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eople are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home schooled kids is growing rapi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are likely to learn more because of the one on one teaching times and less dist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dom to practice there religion. Muslims are one of the highest switch rates in the 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s don’t like the teaching style of teachers at th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of the school. To protect there k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P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schooling is being used buy families all over the 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effective in some cases, overall better life outcomes for home school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s- better understanding of learning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owns don’t provide athle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ity level can suff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ocial: some cases children lack street sm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5:42:37Z</dcterms:created>
  <dc:creator>student</dc:creator>
  <dc:description/>
  <dc:language>en-US</dc:language>
  <cp:lastModifiedBy>student</cp:lastModifiedBy>
  <dcterms:modified xsi:type="dcterms:W3CDTF">2009-11-05T16:38:22Z</dcterms:modified>
  <cp:revision>4</cp:revision>
  <dc:subject/>
  <dc:title>Home Schooling</dc:title>
</cp:coreProperties>
</file>