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CED4-7D31-4396-BF7B-0ABD49E28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CDB9-BBC9-4089-92A2-3ADCB203B2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589F-32D7-4BC0-91C2-5AF5A2FD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64AA-6B15-4BB5-B855-6E7EC36B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49AE-E1F6-4085-9655-BB6F62B9B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4714-6FD2-4A63-B99B-66A252EA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E5F0-C5F5-48CA-A593-4F68DA614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28B0-6A46-4D3F-A0F4-F6AD7A57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56F4-07B6-490D-B02E-68F343B0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3F00-4853-475C-B457-DB4C59FB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0FD6-1972-4A65-89CD-CB7B4541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B1D4-1D2A-4607-BA16-92C5CC61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E49A-8CE2-48BB-89A6-202D3077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4773-941E-47CC-B9C5-174E43BB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F7BF-38C4-4952-A195-A11DF765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B9B9-7CEF-454B-BEBE-DBEC6C5E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BC6B-BE42-44F0-9A1D-E9DB2D7C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AC36-5731-48AA-AC99-FC4891160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B7B4-1D44-4B1A-9733-52417B60A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6E93-D414-4936-9DE3-9254BC8F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4D5A-F978-4C75-8A4C-70A65832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2E8E-BB3C-4EDF-9887-D280292F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F4CD-0DC7-47DB-B3C4-C27F4C96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9D72-3D0A-43E2-AE9B-970AD674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DD40-4343-4E6A-A539-A2BBCF4E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C8CC-1A84-4739-9588-76E0C5EB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>
                <a:gd name="textAreaLeft" fmla="*/ 0 w 8164440"/>
                <a:gd name="textAreaRight" fmla="*/ 8164800 w 8164440"/>
                <a:gd name="textAreaTop" fmla="*/ 0 h 3019680"/>
                <a:gd name="textAreaBottom" fmla="*/ 3020040 h 3019680"/>
              </a:gdLst>
              <a:ahLst/>
              <a:rect l="textAreaLeft" t="textAreaTop" r="textAreaRight" b="textAreaBottom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691080"/>
                <a:gd name="textAreaBottom" fmla="*/ 3691440 h 3691080"/>
              </a:gdLst>
              <a:ahLst/>
              <a:rect l="textAreaLeft" t="textAreaTop" r="textAreaRight" b="textAreaBottom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497320"/>
                <a:gd name="textAreaBottom" fmla="*/ 2497680 h 2497320"/>
              </a:gdLst>
              <a:ahLst/>
              <a:rect l="textAreaLeft" t="textAreaTop" r="textAreaRight" b="textAreaBottom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539720"/>
                <a:gd name="textAreaBottom" fmla="*/ 1540080 h 1539720"/>
              </a:gdLst>
              <a:ahLst/>
              <a:rect l="textAreaLeft" t="textAreaTop" r="textAreaRight" b="textAreaBottom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682640"/>
                <a:gd name="textAreaBottom" fmla="*/ 1683000 h 1682640"/>
              </a:gdLst>
              <a:ahLst/>
              <a:rect l="textAreaLeft" t="textAreaTop" r="textAreaRight" b="textAreaBottom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>
                <a:gd name="textAreaLeft" fmla="*/ 0 w 8388360"/>
                <a:gd name="textAreaRight" fmla="*/ 8388720 w 8388360"/>
                <a:gd name="textAreaTop" fmla="*/ 0 h 1068120"/>
                <a:gd name="textAreaBottom" fmla="*/ 1068480 h 1068120"/>
              </a:gdLst>
              <a:ahLst/>
              <a:rect l="textAreaLeft" t="textAreaTop" r="textAreaRight" b="textAreaBottom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>
                <a:gd name="textAreaLeft" fmla="*/ 0 w 4578480"/>
                <a:gd name="textAreaRight" fmla="*/ 4578840 w 457848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CCD4-0EBF-45D2-ADEC-03FECCC8B8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>
                <a:gd name="textAreaLeft" fmla="*/ 0 w 8164440"/>
                <a:gd name="textAreaRight" fmla="*/ 8164800 w 8164440"/>
                <a:gd name="textAreaTop" fmla="*/ 0 h 3019680"/>
                <a:gd name="textAreaBottom" fmla="*/ 3020040 h 3019680"/>
              </a:gdLst>
              <a:ahLst/>
              <a:rect l="textAreaLeft" t="textAreaTop" r="textAreaRight" b="textAreaBottom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691080"/>
                <a:gd name="textAreaBottom" fmla="*/ 3691440 h 3691080"/>
              </a:gdLst>
              <a:ahLst/>
              <a:rect l="textAreaLeft" t="textAreaTop" r="textAreaRight" b="textAreaBottom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497320"/>
                <a:gd name="textAreaBottom" fmla="*/ 2497680 h 2497320"/>
              </a:gdLst>
              <a:ahLst/>
              <a:rect l="textAreaLeft" t="textAreaTop" r="textAreaRight" b="textAreaBottom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539720"/>
                <a:gd name="textAreaBottom" fmla="*/ 1540080 h 1539720"/>
              </a:gdLst>
              <a:ahLst/>
              <a:rect l="textAreaLeft" t="textAreaTop" r="textAreaRight" b="textAreaBottom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682640"/>
                <a:gd name="textAreaBottom" fmla="*/ 1683000 h 1682640"/>
              </a:gdLst>
              <a:ahLst/>
              <a:rect l="textAreaLeft" t="textAreaTop" r="textAreaRight" b="textAreaBottom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>
                <a:gd name="textAreaLeft" fmla="*/ 0 w 8388360"/>
                <a:gd name="textAreaRight" fmla="*/ 8388720 w 8388360"/>
                <a:gd name="textAreaTop" fmla="*/ 0 h 1068120"/>
                <a:gd name="textAreaBottom" fmla="*/ 1068480 h 1068120"/>
              </a:gdLst>
              <a:ahLst/>
              <a:rect l="textAreaLeft" t="textAreaTop" r="textAreaRight" b="textAreaBottom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>
                <a:gd name="textAreaLeft" fmla="*/ 0 w 4578480"/>
                <a:gd name="textAreaRight" fmla="*/ 4578840 w 457848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082F-9A92-46E1-9CE7-04AD1119E1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181.photobucket.com/albums/x120/dartboy27/moped-50_1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ucc.ie/en/build/commuting/PublicTransport/CorkCityBusServices/image,38879,en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royangrignon.com/SmartCarBlue.jpg&amp;imgrefurl=http://www.tiny-dog.com/2007/05/dumb-cars.html&amp;usg=__egqtZrupnFouyI3yMrD80DDC0Do=&amp;h=413&amp;w=615&amp;sz=32&amp;hl=en&amp;start=6&amp;um=1&amp;tbnid=-_E7im2_albGkM:&amp;tbnh=91&amp;tbnw=136&amp;prev=/images%3Fq%3Deuropean%2Bsmartcars%26hl%3Den%26rls%3DGGLJ,GGLJ:2006-29,GGLJ:en%26um%3D1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om/imgres?imgurl=http://i.ehow.com/images/GlobalPhoto/Articles/4830948/135766-main_Full.jpg&amp;imgrefurl=http://www.ehow.com/facts_4830948_hybrid-car-benefits.html&amp;usg=__oF00A6JiGM1ywaLzB9Jxv8EKlI0=&amp;h=450&amp;w=600&amp;sz=50&amp;hl=en&amp;start=5&amp;um=1&amp;tbnid=4A1yghSMkuIV4M:&amp;tbnh=101&amp;tbnw=135&amp;prev=/images%3Fq%3Dsimple%2Bhybrid%2Bcars%26hl%3Den%26rls%3DGGLJ,GGLJ:2006-29,GGLJ:en%26um%3D1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ff"/>
                </a:solidFill>
                <a:latin typeface="Times New Roman"/>
              </a:rPr>
              <a:t>Hybrid car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0" name="Picture 11" descr="http://www.automild.com/wp-content/uploads/2009/10/Honda-Civic-Hybrid-5-588x366.jpg"/>
          <p:cNvPicPr/>
          <p:nvPr/>
        </p:nvPicPr>
        <p:blipFill>
          <a:blip r:embed="rId1"/>
          <a:stretch/>
        </p:blipFill>
        <p:spPr>
          <a:xfrm>
            <a:off x="2286000" y="4154400"/>
            <a:ext cx="4343400" cy="2703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http://images.paultan.org/images/Hyundai_Avante_Black.jpg"/>
          <p:cNvPicPr/>
          <p:nvPr/>
        </p:nvPicPr>
        <p:blipFill>
          <a:blip r:embed="rId2"/>
          <a:srcRect l="3704" t="0" r="4443" b="0"/>
          <a:stretch/>
        </p:blipFill>
        <p:spPr>
          <a:xfrm>
            <a:off x="4495680" y="1905120"/>
            <a:ext cx="4267440" cy="2342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http://hybridtopcars.com/images/toyota-prius-exterior-red-6163.png"/>
          <p:cNvPicPr/>
          <p:nvPr/>
        </p:nvPicPr>
        <p:blipFill>
          <a:blip r:embed="rId3"/>
          <a:srcRect l="4533" t="5344" r="5362" b="12652"/>
          <a:stretch/>
        </p:blipFill>
        <p:spPr>
          <a:xfrm>
            <a:off x="0" y="1905120"/>
            <a:ext cx="45720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What is a hybrid car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ybrid car is a vehicle that basically has two engines or two sources of power. It also has a special system for capturing braking energy and storing it in a battery. The typical hybrid that is common to day is the hybrid between a gas and electric engin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other examples ar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ir and internal combustion engines, a rechargeable energy source /battery, liquid nitrogen, solar, or human pow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5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320" y="76320"/>
            <a:ext cx="1989000" cy="1828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4960800"/>
            <a:ext cx="251460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The need for hybrids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8" name="Picture 5" descr="http://rogupta.com/blog/wp-content/uploads/2009/05/hybrid_raw.png"/>
          <p:cNvPicPr/>
          <p:nvPr/>
        </p:nvPicPr>
        <p:blipFill>
          <a:blip r:embed="rId1"/>
          <a:stretch/>
        </p:blipFill>
        <p:spPr>
          <a:xfrm>
            <a:off x="228600" y="838080"/>
            <a:ext cx="6172200" cy="37004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8"/>
          <p:cNvSpPr/>
          <p:nvPr/>
        </p:nvSpPr>
        <p:spPr>
          <a:xfrm>
            <a:off x="6477120" y="1295280"/>
            <a:ext cx="2133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also one of the solutions for solving the oil problems, and some of the global warming proble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7" descr="http://pugetsoundblogs.com/forecasting-kitsap/files/2009/03/global_warming.jpg"/>
          <p:cNvPicPr/>
          <p:nvPr/>
        </p:nvPicPr>
        <p:blipFill>
          <a:blip r:embed="rId2"/>
          <a:stretch/>
        </p:blipFill>
        <p:spPr>
          <a:xfrm>
            <a:off x="2895480" y="4568760"/>
            <a:ext cx="33530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r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use of 2 engines is kind of like a safety net. If one breaks down you have the oth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ves gas money. (48-60 mp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lps the environment/ reduces the amount of pollution in the ai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x reb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ludes most up to date technolog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4" descr="http://t3.gstatic.com/images?q=tbn:-_E7im2_albGkM:http://www.troyangrignon.com/SmartCarBlu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4800600"/>
            <a:ext cx="2666880" cy="1785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http://t2.gstatic.com/images?q=tbn:4A1yghSMkuIV4M:http://i.ehow.com/images/GlobalPhoto/Articles/4830948/135766-main_Full.jpg">
            <a:hlinkClick r:id="rId3"/>
          </p:cNvPr>
          <p:cNvPicPr/>
          <p:nvPr/>
        </p:nvPicPr>
        <p:blipFill>
          <a:blip r:embed="rId4"/>
          <a:srcRect l="0" t="0" r="0" b="10891"/>
          <a:stretch/>
        </p:blipFill>
        <p:spPr>
          <a:xfrm>
            <a:off x="3581280" y="4876920"/>
            <a:ext cx="2514600" cy="16761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2976480" y="5334120"/>
            <a:ext cx="5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6248520" y="525780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6629400" y="480060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ving the environment and the world togeth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62960" y="6229440"/>
            <a:ext cx="20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ropean Hybr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3886200" y="55627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rican hybr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are expens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lex systems that are need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er repair bil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are less useful over continuous high speed driv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ossibility of a shortage of a raw material called dysprosium that is required in electric motors and battery system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of the high voltage circuited used in a hybrid, which could be a problem if ever in an accid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ze of the vehic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ypes of hybrid cars that are out and some that are coming soon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560" y="1752120"/>
            <a:ext cx="3809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nda Civic 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nda Ins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xus-GS 450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xus-LS 600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xus-RX 400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xus-RX 450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d Escape Hyb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ssan Altima Hyb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yota Pri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kswagen Toura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di A1 Quattro Hyb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4114800" y="2209680"/>
            <a:ext cx="449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di Q7 Hyb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MW X5 Hyb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naught Type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nda CR-Z Hyb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rcedes-Benz S400 Blue Hyb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ugeot 307 Hyb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rsche Cayen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uxhall Corsa Hyb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kswagen Golf TDI Hyb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Work Site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http://rogupta.com/blog/wp-content/uploads/2009/05/hybrid_raw.p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http://hybridtopcars.com/images/toyota-prius-exterior-red-6163.p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http://www.howstuffworks.com/hybrid-car.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http://en.wikipedia.org/wiki/Hybrid_vehi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http://www.physorg.com/news10031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9:33:26Z</dcterms:created>
  <dc:creator>student</dc:creator>
  <dc:description/>
  <dc:language>en-US</dc:language>
  <cp:lastModifiedBy>Student</cp:lastModifiedBy>
  <dcterms:modified xsi:type="dcterms:W3CDTF">2009-11-05T16:42:34Z</dcterms:modified>
  <cp:revision>16</cp:revision>
  <dc:subject/>
  <dc:title>Hybrid cars</dc:title>
</cp:coreProperties>
</file>