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153D-A674-4902-ABAF-1A1901925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774C-DEEC-4936-9EF5-D7245DB52C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029-1FE5-4E19-B770-00A0C861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5DC-D433-4C1F-9881-E6C9BF48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C24-9A16-4CA4-816D-537FCDE3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43B-FA1A-434D-B6E3-0B2A00C4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DA7A-3283-4BE3-B8C4-98E1BBD1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D1ED-F8B2-4D40-A017-FE7C759D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9E76-43D7-4F39-8686-E52D4FC8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5601-9CC1-4DD5-BD81-4B02BDB8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821F-1CB6-42EA-8B87-DF4F5A99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625E-922A-4843-B0A7-781BF292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65B9-1C86-41BC-BB04-DC6FACC6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17A-EA7A-41C2-8CA4-6D947338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85A5-D5E9-4269-8E89-FD671AA9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B5D6-E578-4FA3-9830-05E65081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DE49-E8B7-41F8-989B-BD0D7555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36ED-E53D-479F-BB7F-14255843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01B8-A0EB-46E4-9142-3C1E1B30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0F8-DEB1-4608-A78B-02D99865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796-3EC7-4B2F-AA85-06B24FC0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BBB-C755-4D23-8F0C-3F0CC747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6A5-CEB0-4013-9EB4-E2252016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926-AFDB-4DBE-8CB8-B0C98AD8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9B1-79CD-4161-9E37-7729406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BE5-A54B-43ED-9005-F0AA901B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AB5F-7C0B-4D0D-AB14-EAEC1806D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DA9F-3FA3-4484-A0B5-02EF8D544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181.photobucket.com/albums/x120/dartboy27/moped-50_1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ucc.ie/en/build/commuting/PublicTransport/CorkCityBusServices/image,38879,en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oyangrignon.com/SmartCarBlue.jpg&amp;imgrefurl=http://www.tiny-dog.com/2007/05/dumb-cars.html&amp;usg=__egqtZrupnFouyI3yMrD80DDC0Do=&amp;h=413&amp;w=615&amp;sz=32&amp;hl=en&amp;start=6&amp;um=1&amp;tbnid=-_E7im2_albGkM:&amp;tbnh=91&amp;tbnw=136&amp;prev=/images%3Fq%3Deuropean%2Bsmartcars%26hl%3Den%26rls%3DGGLJ,GGLJ:2006-29,GGLJ:en%26um%3D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i.ehow.com/images/GlobalPhoto/Articles/4830948/135766-main_Full.jpg&amp;imgrefurl=http://www.ehow.com/facts_4830948_hybrid-car-benefits.html&amp;usg=__oF00A6JiGM1ywaLzB9Jxv8EKlI0=&amp;h=450&amp;w=600&amp;sz=50&amp;hl=en&amp;start=5&amp;um=1&amp;tbnid=4A1yghSMkuIV4M:&amp;tbnh=101&amp;tbnw=135&amp;prev=/images%3Fq%3Dsimple%2Bhybrid%2Bcars%26hl%3Den%26rls%3DGGLJ,GGLJ:2006-29,GGLJ:en%26um%3D1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Times New Roman"/>
              </a:rPr>
              <a:t>Hybrid car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Picture 11" descr="http://www.automild.com/wp-content/uploads/2009/10/Honda-Civic-Hybrid-5-588x366.jpg"/>
          <p:cNvPicPr/>
          <p:nvPr/>
        </p:nvPicPr>
        <p:blipFill>
          <a:blip r:embed="rId1"/>
          <a:stretch/>
        </p:blipFill>
        <p:spPr>
          <a:xfrm>
            <a:off x="2286000" y="4154400"/>
            <a:ext cx="4343400" cy="2703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http://images.paultan.org/images/Hyundai_Avante_Black.jpg"/>
          <p:cNvPicPr/>
          <p:nvPr/>
        </p:nvPicPr>
        <p:blipFill>
          <a:blip r:embed="rId2"/>
          <a:srcRect l="3704" t="0" r="4443" b="0"/>
          <a:stretch/>
        </p:blipFill>
        <p:spPr>
          <a:xfrm>
            <a:off x="4495680" y="1905120"/>
            <a:ext cx="4267440" cy="2342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http://hybridtopcars.com/images/toyota-prius-exterior-red-6163.png"/>
          <p:cNvPicPr/>
          <p:nvPr/>
        </p:nvPicPr>
        <p:blipFill>
          <a:blip r:embed="rId3"/>
          <a:srcRect l="4533" t="5344" r="5362" b="12652"/>
          <a:stretch/>
        </p:blipFill>
        <p:spPr>
          <a:xfrm>
            <a:off x="0" y="1905120"/>
            <a:ext cx="4572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What is a hybrid ca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ybrid car is a vehicle that basically has two engines or two sources of power. It also has a special system for capturing braking energy and storing it in a battery. The typical hybrid that is common to day is the hybrid between a gas and electric engi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other examples a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 and internal combustion engines, a rechargeable energy source /battery, liquid nitrogen, solar, or human pow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76320"/>
            <a:ext cx="1989000" cy="1828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4960800"/>
            <a:ext cx="2514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he need for hybrid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Picture 5" descr="http://rogupta.com/blog/wp-content/uploads/2009/05/hybrid_raw.png"/>
          <p:cNvPicPr/>
          <p:nvPr/>
        </p:nvPicPr>
        <p:blipFill>
          <a:blip r:embed="rId1"/>
          <a:stretch/>
        </p:blipFill>
        <p:spPr>
          <a:xfrm>
            <a:off x="228600" y="838080"/>
            <a:ext cx="6172200" cy="3700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6477120" y="1295280"/>
            <a:ext cx="2133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lso one of the solutions for solving the oil problems, and some of the global warming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7" descr="http://pugetsoundblogs.com/forecasting-kitsap/files/2009/03/global_warming.jpg"/>
          <p:cNvPicPr/>
          <p:nvPr/>
        </p:nvPicPr>
        <p:blipFill>
          <a:blip r:embed="rId2"/>
          <a:stretch/>
        </p:blipFill>
        <p:spPr>
          <a:xfrm>
            <a:off x="2895480" y="4568760"/>
            <a:ext cx="33530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se of 2 engines is kind of like a safety net. If one breaks down you have the 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s gas money. (48-60 mp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ps the environment/ reduces the amount of pollution in the a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x reb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s most up to date technolog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http://t3.gstatic.com/images?q=tbn:-_E7im2_albGkM:http://www.troyangrignon.com/SmartCarBl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800600"/>
            <a:ext cx="2666880" cy="178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t2.gstatic.com/images?q=tbn:4A1yghSMkuIV4M:http://i.ehow.com/images/GlobalPhoto/Articles/4830948/135766-main_Full.jpg">
            <a:hlinkClick r:id="rId3"/>
          </p:cNvPr>
          <p:cNvPicPr/>
          <p:nvPr/>
        </p:nvPicPr>
        <p:blipFill>
          <a:blip r:embed="rId4"/>
          <a:srcRect l="0" t="0" r="0" b="10891"/>
          <a:stretch/>
        </p:blipFill>
        <p:spPr>
          <a:xfrm>
            <a:off x="3581280" y="4876920"/>
            <a:ext cx="2514600" cy="16761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2976480" y="5334120"/>
            <a:ext cx="5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248520" y="52578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6629400" y="480060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ing the environment and the world toge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2960" y="622944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an Hyb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886200" y="55627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hyb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x systems that are nee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er repair bil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less useful over continuous high speed driv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ssibility of a shortage of a raw material called dysprosium that is required in electric motors and battery syst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high voltage circuited used in a hybrid, which could be a problem if ever in an accid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ze of the veh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ypes of hybrid cars that are out and some that are coming soon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560" y="17521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nda Civic 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nda Ins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GS 45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LS 60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RX 40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RX 45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d Escape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ssan Altima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yota P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kswagen Toura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 A1 Quattro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114800" y="2209680"/>
            <a:ext cx="44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 Q7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MW X5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naught Type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nda CR-Z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edes-Benz S400 Blue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ugeot 307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sche Cayen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uxhall Corsa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kswagen Golf TDI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Work Sit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rogupta.com/blog/wp-content/uploads/2009/05/hybrid_raw.p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hybridtopcars.com/images/toyota-prius-exterior-red-6163.p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www.howstuffworks.com/hybrid-car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en.wikipedia.org/wiki/Hybrid_veh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www.physorg.com/news10031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33:26Z</dcterms:created>
  <dc:creator>student</dc:creator>
  <dc:description/>
  <dc:language>en-US</dc:language>
  <cp:lastModifiedBy>Student</cp:lastModifiedBy>
  <dcterms:modified xsi:type="dcterms:W3CDTF">2009-11-05T16:42:34Z</dcterms:modified>
  <cp:revision>16</cp:revision>
  <dc:subject/>
  <dc:title>Hybrid cars</dc:title>
</cp:coreProperties>
</file>