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BAD-A9A7-4E10-867A-22285444B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B24A-FACC-4FD6-B76C-BAEFC803A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963-6E8D-4540-A57E-6B6F3404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CDA-A888-4B68-8D29-05666B52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571-C671-4629-A825-19EC6F41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492-AE45-4ACC-8535-CE894E07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2322-9F78-43B7-B56F-D023483D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D1C4-DDAC-4CEF-9EBC-E27CAD3F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294C-E78F-4FB8-9137-9B1CD11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6381-D235-4615-8B18-9075111B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E4D-E72C-4F5C-B185-1D97509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A84D-60BC-460A-A0CA-3C71426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2AB0-1765-4B90-9FBC-4DE865D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AF3-C6DE-4863-A670-E3181A0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AE4-6540-4EC8-820A-709EE7E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F3C3-6658-4679-A6FB-7E36CCEA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6990-E00A-4B61-A732-C90394F4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47F-EE9A-4AF2-AF7E-99A18E43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6FBE-BC79-4A65-BDC5-C16E41D6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F89-9E6F-497C-98F1-8D1D8229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05A-56EA-4615-91CF-6AA1872E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41E-0F3A-45B1-8F6A-FD6AB96A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C18-0BD2-49B0-BEBC-DDC00948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8EE-D2C5-4422-BEA6-70A16568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0C4-5D64-459F-A7EF-361EC80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BF6-F034-460C-A3A8-1D3F6B9A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D8F4-7B97-4CE4-B93B-D4772C872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>
                <a:gd name="textAreaLeft" fmla="*/ 0 w 8164440"/>
                <a:gd name="textAreaRight" fmla="*/ 8164800 w 8164440"/>
                <a:gd name="textAreaTop" fmla="*/ 0 h 3019680"/>
                <a:gd name="textAreaBottom" fmla="*/ 3020040 h 3019680"/>
              </a:gdLst>
              <a:ahLst/>
              <a:rect l="textAreaLeft" t="textAreaTop" r="textAreaRight" b="textAreaBottom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691080"/>
                <a:gd name="textAreaBottom" fmla="*/ 3691440 h 3691080"/>
              </a:gdLst>
              <a:ahLst/>
              <a:rect l="textAreaLeft" t="textAreaTop" r="textAreaRight" b="textAreaBottom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497320"/>
                <a:gd name="textAreaBottom" fmla="*/ 2497680 h 2497320"/>
              </a:gdLst>
              <a:ahLst/>
              <a:rect l="textAreaLeft" t="textAreaTop" r="textAreaRight" b="textAreaBottom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682640"/>
                <a:gd name="textAreaBottom" fmla="*/ 1683000 h 1682640"/>
              </a:gdLst>
              <a:ahLst/>
              <a:rect l="textAreaLeft" t="textAreaTop" r="textAreaRight" b="textAreaBottom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>
                <a:gd name="textAreaLeft" fmla="*/ 0 w 8388360"/>
                <a:gd name="textAreaRight" fmla="*/ 8388720 w 838836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>
                <a:gd name="textAreaLeft" fmla="*/ 0 w 4578480"/>
                <a:gd name="textAreaRight" fmla="*/ 4578840 w 45784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F2FC-7A52-4A80-AAC2-3D87EBC82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181.photobucket.com/albums/x120/dartboy27/moped-50_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ucc.ie/en/build/commuting/PublicTransport/CorkCityBusServices/image,38879,en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oyangrignon.com/SmartCarBlue.jpg&amp;imgrefurl=http://www.tiny-dog.com/2007/05/dumb-cars.html&amp;usg=__egqtZrupnFouyI3yMrD80DDC0Do=&amp;h=413&amp;w=615&amp;sz=32&amp;hl=en&amp;start=6&amp;um=1&amp;tbnid=-_E7im2_albGkM:&amp;tbnh=91&amp;tbnw=136&amp;prev=/images%3Fq%3Deuropean%2Bsmartcars%26hl%3Den%26rls%3DGGLJ,GGLJ:2006-29,GGLJ:en%26um%3D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i.ehow.com/images/GlobalPhoto/Articles/4830948/135766-main_Full.jpg&amp;imgrefurl=http://www.ehow.com/facts_4830948_hybrid-car-benefits.html&amp;usg=__oF00A6JiGM1ywaLzB9Jxv8EKlI0=&amp;h=450&amp;w=600&amp;sz=50&amp;hl=en&amp;start=5&amp;um=1&amp;tbnid=4A1yghSMkuIV4M:&amp;tbnh=101&amp;tbnw=135&amp;prev=/images%3Fq%3Dsimple%2Bhybrid%2Bcars%26hl%3Den%26rls%3DGGLJ,GGLJ:2006-29,GGLJ:en%26um%3D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Times New Roman"/>
              </a:rPr>
              <a:t>Hybrid car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icture 11" descr="http://www.automild.com/wp-content/uploads/2009/10/Honda-Civic-Hybrid-5-588x366.jpg"/>
          <p:cNvPicPr/>
          <p:nvPr/>
        </p:nvPicPr>
        <p:blipFill>
          <a:blip r:embed="rId1"/>
          <a:stretch/>
        </p:blipFill>
        <p:spPr>
          <a:xfrm>
            <a:off x="2286000" y="4154400"/>
            <a:ext cx="4343400" cy="2703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http://images.paultan.org/images/Hyundai_Avante_Black.jpg"/>
          <p:cNvPicPr/>
          <p:nvPr/>
        </p:nvPicPr>
        <p:blipFill>
          <a:blip r:embed="rId2"/>
          <a:srcRect l="3704" t="0" r="4443" b="0"/>
          <a:stretch/>
        </p:blipFill>
        <p:spPr>
          <a:xfrm>
            <a:off x="4495680" y="1905120"/>
            <a:ext cx="4267440" cy="2342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http://hybridtopcars.com/images/toyota-prius-exterior-red-6163.png"/>
          <p:cNvPicPr/>
          <p:nvPr/>
        </p:nvPicPr>
        <p:blipFill>
          <a:blip r:embed="rId3"/>
          <a:srcRect l="4533" t="5344" r="5362" b="12652"/>
          <a:stretch/>
        </p:blipFill>
        <p:spPr>
          <a:xfrm>
            <a:off x="0" y="1905120"/>
            <a:ext cx="4572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hat is a hybrid ca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ybrid car is a vehicle that basically has two engines or two sources of power. It also has a special system for capturing braking energy and storing it in a battery. The typical hybrid that is common to day is the hybrid between a gas and electric engin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other examples a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and internal combustion engines, a rechargeable energy source /battery, liquid nitrogen, solar, or human pow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76320"/>
            <a:ext cx="198900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4960800"/>
            <a:ext cx="2514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The need for hybrids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Picture 5" descr="http://rogupta.com/blog/wp-content/uploads/2009/05/hybrid_raw.png"/>
          <p:cNvPicPr/>
          <p:nvPr/>
        </p:nvPicPr>
        <p:blipFill>
          <a:blip r:embed="rId1"/>
          <a:stretch/>
        </p:blipFill>
        <p:spPr>
          <a:xfrm>
            <a:off x="228600" y="838080"/>
            <a:ext cx="6172200" cy="3700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6477120" y="1295280"/>
            <a:ext cx="2133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also one of the solutions for solving the oil problems, and some of the global warming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7" descr="http://pugetsoundblogs.com/forecasting-kitsap/files/2009/03/global_warming.jpg"/>
          <p:cNvPicPr/>
          <p:nvPr/>
        </p:nvPicPr>
        <p:blipFill>
          <a:blip r:embed="rId2"/>
          <a:stretch/>
        </p:blipFill>
        <p:spPr>
          <a:xfrm>
            <a:off x="2895480" y="4568760"/>
            <a:ext cx="33530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e of 2 engines is kind of like a safety net. If one breaks down you have the 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gas money. (48-60 mp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s the environment/ reduces the amount of pollution in the a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x reb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es most up to date technolog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http://t3.gstatic.com/images?q=tbn:-_E7im2_albGkM:http://www.troyangrignon.com/SmartCarBlu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800600"/>
            <a:ext cx="2666880" cy="178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t2.gstatic.com/images?q=tbn:4A1yghSMkuIV4M:http://i.ehow.com/images/GlobalPhoto/Articles/4830948/135766-main_Full.jpg">
            <a:hlinkClick r:id="rId3"/>
          </p:cNvPr>
          <p:cNvPicPr/>
          <p:nvPr/>
        </p:nvPicPr>
        <p:blipFill>
          <a:blip r:embed="rId4"/>
          <a:srcRect l="0" t="0" r="0" b="10891"/>
          <a:stretch/>
        </p:blipFill>
        <p:spPr>
          <a:xfrm>
            <a:off x="3581280" y="48769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976480" y="5334120"/>
            <a:ext cx="5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248520" y="52578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629400" y="480060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ing the environment and the world toge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2960" y="622944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Hyb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886200" y="5562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hybr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x systems that are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er repair bi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less useful over continuous high speed driv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ssibility of a shortage of a raw material called dysprosium that is required in electric motors and battery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high voltage circuited used in a hybrid, which could be a problem if ever in an accid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 of the veh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ypes of hybrid cars that are out and some that are coming soon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7521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Civic 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In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GS 45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LS 60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RX 40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xus-RX 450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d Escap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ssan Altima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yota P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kswagen Toura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 A1 Quattro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114800" y="220968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di Q7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MW X5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naught Typ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nda CR-Z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edes-Benz S400 Blue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ugeot 307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rsche Cayen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uxhall Corsa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kswagen Golf TDI Hyb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Work Sit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rogupta.com/blog/wp-content/uploads/2009/05/hybrid_raw.p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hybridtopcars.com/images/toyota-prius-exterior-red-6163.p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www.howstuffworks.com/hybrid-car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en.wikipedia.org/wiki/Hybrid_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http://www.physorg.com/news10031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33:26Z</dcterms:created>
  <dc:creator>student</dc:creator>
  <dc:description/>
  <dc:language>en-US</dc:language>
  <cp:lastModifiedBy>Student</cp:lastModifiedBy>
  <dcterms:modified xsi:type="dcterms:W3CDTF">2009-11-05T16:42:34Z</dcterms:modified>
  <cp:revision>16</cp:revision>
  <dc:subject/>
  <dc:title>Hybrid cars</dc:title>
</cp:coreProperties>
</file>