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2F02-D7F7-4740-914B-6A2184CC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4BE7-A984-4E4B-B9D6-462ADDE37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FB1-C79A-41A8-8D5B-35D667DA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BC3-30A7-4ACC-8861-047590C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34A-0814-4215-9853-48CD5FF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869-16F2-4068-A4B5-B03C1362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DAE-5452-4CD3-89B9-9D29D9F3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D41-E65D-4B0E-8A89-432C7363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E6C2-7B53-4076-A3D2-A83B870E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EDA-44D3-4A0A-9452-D51F676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48FB-B9B4-4ACE-9A16-2FC4AB5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AD7-D6D4-4B9F-AD1D-D2E5C6F0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56E-0ED5-4D33-8633-782B392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B49-BA52-4D97-A041-2DB5E4D2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CD1-B881-4593-8BD0-0B13B60D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904-8A47-4B1A-BED9-B6E2AC6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D234-2ECF-4B0D-8D78-71A3D779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F98D-8C96-48EB-BB9A-DA9B30E0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EF69-4CD8-4976-B090-ADB6647B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897-C22E-42F5-A49C-C14B7B1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7C8-29DA-4B27-A859-9AA5DAD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9CA-382A-441F-A23E-2096636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4B8-CD9C-484B-ACE6-A814B88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92D-1CA3-41D9-BCBB-CCEBBE1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A4B-E736-4202-A67D-D845E6E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4AD-ECE7-46A5-BE12-C031773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C09-44E0-4774-B045-1F64F3735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5563-1F91-41A8-AF92-1DE0BA2B2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181.photobucket.com/albums/x120/dartboy27/moped-50_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ucc.ie/en/build/commuting/PublicTransport/CorkCityBusServices/image,38879,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oyangrignon.com/SmartCarBlue.jpg&amp;imgrefurl=http://www.tiny-dog.com/2007/05/dumb-cars.html&amp;usg=__egqtZrupnFouyI3yMrD80DDC0Do=&amp;h=413&amp;w=615&amp;sz=32&amp;hl=en&amp;start=6&amp;um=1&amp;tbnid=-_E7im2_albGkM:&amp;tbnh=91&amp;tbnw=136&amp;prev=/images%3Fq%3Deuropean%2Bsmartcars%26hl%3Den%26rls%3DGGLJ,GGLJ:2006-29,GGLJ:en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.ehow.com/images/GlobalPhoto/Articles/4830948/135766-main_Full.jpg&amp;imgrefurl=http://www.ehow.com/facts_4830948_hybrid-car-benefits.html&amp;usg=__oF00A6JiGM1ywaLzB9Jxv8EKlI0=&amp;h=450&amp;w=600&amp;sz=50&amp;hl=en&amp;start=5&amp;um=1&amp;tbnid=4A1yghSMkuIV4M:&amp;tbnh=101&amp;tbnw=135&amp;prev=/images%3Fq%3Dsimple%2Bhybrid%2Bcars%26hl%3Den%26rls%3DGGLJ,GGLJ:2006-29,GGLJ:en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Times New Roman"/>
              </a:rPr>
              <a:t>Hybrid car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1" descr="http://www.automild.com/wp-content/uploads/2009/10/Honda-Civic-Hybrid-5-588x366.jpg"/>
          <p:cNvPicPr/>
          <p:nvPr/>
        </p:nvPicPr>
        <p:blipFill>
          <a:blip r:embed="rId1"/>
          <a:stretch/>
        </p:blipFill>
        <p:spPr>
          <a:xfrm>
            <a:off x="2286000" y="4154400"/>
            <a:ext cx="4343400" cy="270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ttp://images.paultan.org/images/Hyundai_Avante_Black.jpg"/>
          <p:cNvPicPr/>
          <p:nvPr/>
        </p:nvPicPr>
        <p:blipFill>
          <a:blip r:embed="rId2"/>
          <a:srcRect l="3704" t="0" r="4443" b="0"/>
          <a:stretch/>
        </p:blipFill>
        <p:spPr>
          <a:xfrm>
            <a:off x="4495680" y="1905120"/>
            <a:ext cx="426744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http://hybridtopcars.com/images/toyota-prius-exterior-red-6163.png"/>
          <p:cNvPicPr/>
          <p:nvPr/>
        </p:nvPicPr>
        <p:blipFill>
          <a:blip r:embed="rId3"/>
          <a:srcRect l="4533" t="5344" r="5362" b="12652"/>
          <a:stretch/>
        </p:blipFill>
        <p:spPr>
          <a:xfrm>
            <a:off x="0" y="1905120"/>
            <a:ext cx="4572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hat is a hybrid ca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ybrid car is a vehicle that basically has two engines or two sources of power. It also has a special system for capturing braking energy and storing it in a battery. The typical hybrid that is common to day is the hybrid between a gas and electric engi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other examples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internal combustion engines, a rechargeable energy source /battery, liquid nitrogen, solar, or human pow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198900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9608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he need for hybrid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icture 5" descr="http://rogupta.com/blog/wp-content/uploads/2009/05/hybrid_raw.png"/>
          <p:cNvPicPr/>
          <p:nvPr/>
        </p:nvPicPr>
        <p:blipFill>
          <a:blip r:embed="rId1"/>
          <a:stretch/>
        </p:blipFill>
        <p:spPr>
          <a:xfrm>
            <a:off x="228600" y="838080"/>
            <a:ext cx="6172200" cy="3700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6477120" y="1295280"/>
            <a:ext cx="213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lso one of the solutions for solving the oil problems, and some of the global warming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7" descr="http://pugetsoundblogs.com/forecasting-kitsap/files/2009/03/global_warming.jpg"/>
          <p:cNvPicPr/>
          <p:nvPr/>
        </p:nvPicPr>
        <p:blipFill>
          <a:blip r:embed="rId2"/>
          <a:stretch/>
        </p:blipFill>
        <p:spPr>
          <a:xfrm>
            <a:off x="2895480" y="4568760"/>
            <a:ext cx="3353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2 engines is kind of like a safety net. If one breaks down you have the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gas money. (48-60 mp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s the environment/ reduces the amount of pollution in the a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x reb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most up to date technolog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http://t3.gstatic.com/images?q=tbn:-_E7im2_albGkM:http://www.troyangrignon.com/SmartCarBl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80060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t2.gstatic.com/images?q=tbn:4A1yghSMkuIV4M:http://i.ehow.com/images/GlobalPhoto/Articles/4830948/135766-main_Full.jpg">
            <a:hlinkClick r:id="rId3"/>
          </p:cNvPr>
          <p:cNvPicPr/>
          <p:nvPr/>
        </p:nvPicPr>
        <p:blipFill>
          <a:blip r:embed="rId4"/>
          <a:srcRect l="0" t="0" r="0" b="10891"/>
          <a:stretch/>
        </p:blipFill>
        <p:spPr>
          <a:xfrm>
            <a:off x="3581280" y="48769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976480" y="5334120"/>
            <a:ext cx="5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248520" y="52578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629400" y="480060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ing the environment and the world toge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2960" y="622944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886200" y="5562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 systems that are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r repair bi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less useful over continuous high speed driv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ssibility of a shortage of a raw material called dysprosium that is required in electric motors and battery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high voltage circuited used in a hybrid, which could be a problem if ever in an accid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 of the veh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es of hybrid cars that are out and some that are coming so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7521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ivic 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In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GS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LS 6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d Escap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ssan Altim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P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Toura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A1 Quattro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114800" y="220968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Q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MW X5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aught Typ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R-Z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edes-Benz S400 Blu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ugeot 30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sche Cay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uxhall Cors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Golf TDI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ork Si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rogupta.com/blog/wp-content/uploads/2009/05/hybrid_raw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hybridtopcars.com/images/toyota-prius-exterior-red-6163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howstuffworks.com/hybrid-car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en.wikipedia.org/wiki/Hybrid_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physorg.com/news10031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33:26Z</dcterms:created>
  <dc:creator>student</dc:creator>
  <dc:description/>
  <dc:language>en-US</dc:language>
  <cp:lastModifiedBy>Student</cp:lastModifiedBy>
  <dcterms:modified xsi:type="dcterms:W3CDTF">2009-11-05T16:42:34Z</dcterms:modified>
  <cp:revision>16</cp:revision>
  <dc:subject/>
  <dc:title>Hybrid cars</dc:title>
</cp:coreProperties>
</file>