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D119-AD97-4317-9F57-FC140577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7826-9AC6-4E40-8534-C80F22E4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C114-F266-4634-AE46-C7163F85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986-B0F3-45C2-8E34-081D5D50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80E9-D2CE-46B9-91FE-F16B1DAF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1EC2-5DD1-4253-B7B0-476E4BAF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93C4-6F63-4AF1-809D-224E8141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2B49-252E-44E1-8916-F028D309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855B-C570-45FE-8DBE-5EB6740D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3B91-0C2E-416A-B1DB-AF81A8B8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431D-C7AC-41C4-925D-A304ADBD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2FA8-5572-451C-A279-98A7C0A4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608A-57EE-4468-91A0-16277D43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529F-4F83-4FB6-9C56-FE66B01B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3DF5-55EE-4D15-9203-879FD063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92EE-898D-4545-BC83-BD6F37C5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B3CA-C2A6-4889-8B4A-E8DD432D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9E05-F1F3-4D14-B0CE-82C6CC33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ED12-F5D5-4790-8092-08F0BCF0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19C-B6B7-4979-BBB3-36ADF5F2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2F33-8215-4637-B417-3582892A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C9A6-D3C7-4948-A2B6-5DDAB8BA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6DFA-1894-4572-BDC9-70D4FC89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7C53-327B-4E36-BD1D-16885EAB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751A-CB6B-46B5-A4C8-10950C93A8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F766-26ED-45A9-9B94-D45891F086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Vinland_Map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Norse Gods and Goddess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gard – heav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dgard –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ggdrasil – World T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eyr / Fre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of agriculture, fertility, and plen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in to Freyja (they are VERY clos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ike the other gods, Freyr and Freyja are earth die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a sword that can fight by it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oar is his symb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180px-Freyr_art"/>
          <p:cNvPicPr/>
          <p:nvPr/>
        </p:nvPicPr>
        <p:blipFill>
          <a:blip r:embed="rId1"/>
          <a:stretch/>
        </p:blipFill>
        <p:spPr>
          <a:xfrm>
            <a:off x="5638680" y="1371600"/>
            <a:ext cx="3078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eyj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dess of love and fert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in sister of Fr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ept with four dwarves to get a flaming necklace, which becomes her symbol of fert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er of the Valky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 takes some of the dead warriors for her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s a chariot drawn by ca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Freyja in cat-drawn chariot"/>
          <p:cNvPicPr/>
          <p:nvPr/>
        </p:nvPicPr>
        <p:blipFill>
          <a:blip r:embed="rId1"/>
          <a:stretch/>
        </p:blipFill>
        <p:spPr>
          <a:xfrm>
            <a:off x="6095880" y="914400"/>
            <a:ext cx="2793960" cy="3505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Freyja's hair - Polygala vulgaris - a species of the genus Polygala."/>
          <p:cNvPicPr/>
          <p:nvPr/>
        </p:nvPicPr>
        <p:blipFill>
          <a:blip r:embed="rId2"/>
          <a:stretch/>
        </p:blipFill>
        <p:spPr>
          <a:xfrm>
            <a:off x="6324480" y="4648320"/>
            <a:ext cx="1428840" cy="16952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7924680" y="5715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eyja’s hai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igg / Frigga / Fre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her Godd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fe of Od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aves clou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 knows ev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present and futur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is powerless 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ing of her son’s (Balder) death, she makes everything promise not to harm him – except the mistleto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Frigg spinning the clouds, by J C Dollman"/>
          <p:cNvPicPr/>
          <p:nvPr/>
        </p:nvPicPr>
        <p:blipFill>
          <a:blip r:embed="rId1"/>
          <a:stretch/>
        </p:blipFill>
        <p:spPr>
          <a:xfrm>
            <a:off x="4495680" y="1447920"/>
            <a:ext cx="44197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y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of war and jus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cursor of Odi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ldest of the go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t his hand to Fenrir, Loki’s wolf-s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symbol is the spear which has become a symbol of justi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tyr"/>
          <p:cNvPicPr/>
          <p:nvPr/>
        </p:nvPicPr>
        <p:blipFill>
          <a:blip r:embed="rId1"/>
          <a:stretch/>
        </p:blipFill>
        <p:spPr>
          <a:xfrm>
            <a:off x="5410080" y="1295280"/>
            <a:ext cx="3367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imdal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ld Brightener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of the da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at hearing (can hear grass grow) and eyes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look out on Bifrost (the rainbow bridge to Asgar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Heimdall"/>
          <p:cNvPicPr/>
          <p:nvPr/>
        </p:nvPicPr>
        <p:blipFill>
          <a:blip r:embed="rId1"/>
          <a:stretch/>
        </p:blipFill>
        <p:spPr>
          <a:xfrm>
            <a:off x="4800600" y="1752480"/>
            <a:ext cx="46483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of winter and dark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icked by Loki into killing Ba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i killed Hod in revenge for Ba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 return during Ragnar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00000001"/>
          <p:cNvPicPr/>
          <p:nvPr/>
        </p:nvPicPr>
        <p:blipFill>
          <a:blip r:embed="rId1"/>
          <a:stretch/>
        </p:blipFill>
        <p:spPr>
          <a:xfrm>
            <a:off x="228600" y="3733920"/>
            <a:ext cx="5715000" cy="3590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urse you, blindness!"/>
          <p:cNvPicPr/>
          <p:nvPr/>
        </p:nvPicPr>
        <p:blipFill>
          <a:blip r:embed="rId2"/>
          <a:stretch/>
        </p:blipFill>
        <p:spPr>
          <a:xfrm>
            <a:off x="6781680" y="3657600"/>
            <a:ext cx="19051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73392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ughter of Lok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ant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ddess of death and the underwor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lf black/ half whi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 face and body are human but the legs are of a corp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s two servants: Ganglati and  Ganglo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read the plague with a rake or a b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hel"/>
          <p:cNvPicPr/>
          <p:nvPr/>
        </p:nvPicPr>
        <p:blipFill>
          <a:blip r:embed="rId1"/>
          <a:stretch/>
        </p:blipFill>
        <p:spPr>
          <a:xfrm>
            <a:off x="228600" y="1371600"/>
            <a:ext cx="3282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l / Helheim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underwor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oad to Hel is an icy river (Gjoll) full of weap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uarded by a large dog (Garm) and Modgud (an ugly goddes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hing can leave Hel, not even g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wicked go here and the people who do not die a glorious death in batt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giant in the form of an eagle sits and flaps his wings, making a freezing wind.  His name is Hraesvelg (corpse eat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7" descr="Hermod rides to Hel"/>
          <p:cNvPicPr/>
          <p:nvPr/>
        </p:nvPicPr>
        <p:blipFill>
          <a:blip r:embed="rId1"/>
          <a:stretch/>
        </p:blipFill>
        <p:spPr>
          <a:xfrm>
            <a:off x="5943600" y="2895480"/>
            <a:ext cx="2790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ar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rm guards the entrance to H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four eyes and a bloody ch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ld be appeased with cake as long as they gave the poor bread in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join the giants in Ragnor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hel"/>
          <p:cNvPicPr/>
          <p:nvPr/>
        </p:nvPicPr>
        <p:blipFill>
          <a:blip r:embed="rId1"/>
          <a:stretch/>
        </p:blipFill>
        <p:spPr>
          <a:xfrm>
            <a:off x="457200" y="1143000"/>
            <a:ext cx="354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The Vinland map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4114800"/>
            <a:ext cx="4629240" cy="3209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map3"/>
          <p:cNvPicPr/>
          <p:nvPr/>
        </p:nvPicPr>
        <p:blipFill>
          <a:blip r:embed="rId3"/>
          <a:stretch/>
        </p:blipFill>
        <p:spPr>
          <a:xfrm>
            <a:off x="304920" y="0"/>
            <a:ext cx="3946320" cy="434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vikings"/>
          <p:cNvPicPr/>
          <p:nvPr/>
        </p:nvPicPr>
        <p:blipFill>
          <a:blip r:embed="rId4"/>
          <a:stretch/>
        </p:blipFill>
        <p:spPr>
          <a:xfrm>
            <a:off x="4495680" y="1143000"/>
            <a:ext cx="4429080" cy="3333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5334120" y="304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Viking Map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din/ Woden/ Wota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ef of the g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ther of Thor, Balder, and other g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in pierces himself with a spear and hangs on Yggdrasil for 9 days and nights to learn the secret knowledge of ru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one eye because he traded it for a drink from the spring of clairvoy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odin"/>
          <p:cNvPicPr/>
          <p:nvPr/>
        </p:nvPicPr>
        <p:blipFill>
          <a:blip r:embed="rId1"/>
          <a:stretch/>
        </p:blipFill>
        <p:spPr>
          <a:xfrm>
            <a:off x="4876920" y="1523880"/>
            <a:ext cx="3771720" cy="38102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4800600" y="5486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s two ravens are called Huginn and Muninn  (Thought and Memor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lkyries and Valhall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kyries are female spirit warriors that ride the battlefields and find worthy slain warriors and takes them to Valhalla where they will train until Ragnaro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rthern lights are light shining off of their shie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halla is the Hall of the Slain.  It exists in Asgard, home of the g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ride.mp3" descr=""/>
          <p:cNvPicPr/>
          <p:nvPr/>
        </p:nvPicPr>
        <p:blipFill>
          <a:blip r:embed="rId1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609480" y="6019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ide of the Valkyries”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Richard Wagn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Valkyries"/>
          <p:cNvPicPr/>
          <p:nvPr/>
        </p:nvPicPr>
        <p:blipFill>
          <a:blip r:embed="rId2"/>
          <a:stretch/>
        </p:blipFill>
        <p:spPr>
          <a:xfrm>
            <a:off x="76320" y="1143000"/>
            <a:ext cx="4267080" cy="3335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Northern%20Lights%20over%20the%20fjords"/>
          <p:cNvPicPr/>
          <p:nvPr/>
        </p:nvPicPr>
        <p:blipFill>
          <a:blip r:embed="rId3"/>
          <a:stretch/>
        </p:blipFill>
        <p:spPr>
          <a:xfrm>
            <a:off x="685800" y="4267080"/>
            <a:ext cx="251460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7976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or/ Thun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d of thunder and light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jolnir (the destroyer) – an ax-hammer that can destroy giants and mountains in a single b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s a chariot pulled by two goats.  He can kill these goats and eat them and they will come back to lif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constantly fighting the World Serpent – Jormung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is capable of drinking an oce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5181480" y="4724280"/>
            <a:ext cx="2667240" cy="19940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8001000" y="47242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7924680" y="59436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or’s Helm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9" descr="pre_thor1-723870"/>
          <p:cNvPicPr/>
          <p:nvPr/>
        </p:nvPicPr>
        <p:blipFill>
          <a:blip r:embed="rId2"/>
          <a:stretch/>
        </p:blipFill>
        <p:spPr>
          <a:xfrm>
            <a:off x="7143840" y="304920"/>
            <a:ext cx="2000160" cy="3047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thor"/>
          <p:cNvPicPr/>
          <p:nvPr/>
        </p:nvPicPr>
        <p:blipFill>
          <a:blip r:embed="rId3"/>
          <a:stretch/>
        </p:blipFill>
        <p:spPr>
          <a:xfrm>
            <a:off x="4952880" y="1447920"/>
            <a:ext cx="2514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ld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eautiful” and “The Good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arily known for his death and resurr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avorite chi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balder~r95"/>
          <p:cNvPicPr/>
          <p:nvPr/>
        </p:nvPicPr>
        <p:blipFill>
          <a:blip r:embed="rId1"/>
          <a:stretch/>
        </p:blipFill>
        <p:spPr>
          <a:xfrm>
            <a:off x="2286000" y="1219320"/>
            <a:ext cx="44388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k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of mischief and 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ckster fig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known paren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ible for Balder’s death and punished by having snake venom drip on his foreh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rmungand, Hel, and Fenrir are his child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begin Ragnor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sigyn"/>
          <p:cNvPicPr/>
          <p:nvPr/>
        </p:nvPicPr>
        <p:blipFill>
          <a:blip r:embed="rId1"/>
          <a:stretch/>
        </p:blipFill>
        <p:spPr>
          <a:xfrm>
            <a:off x="5248440" y="990720"/>
            <a:ext cx="389556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rag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of poetry and eloqu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ki calls him “Braggart” and the verb “to brag” comes from his na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ried to Idu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Bragi is shown with a harp and accompanied by his wife Iðunn in this 19th century painting by Nils Blommér."/>
          <p:cNvPicPr/>
          <p:nvPr/>
        </p:nvPicPr>
        <p:blipFill>
          <a:blip r:embed="rId1"/>
          <a:stretch/>
        </p:blipFill>
        <p:spPr>
          <a:xfrm>
            <a:off x="5486400" y="1447920"/>
            <a:ext cx="3433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du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dess of immort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s the golden apples of y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jor story deals with a giant who, with Loki’s help, stole the apples, causing the gods to wi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idun02"/>
          <p:cNvPicPr/>
          <p:nvPr/>
        </p:nvPicPr>
        <p:blipFill>
          <a:blip r:embed="rId1"/>
          <a:stretch/>
        </p:blipFill>
        <p:spPr>
          <a:xfrm>
            <a:off x="380880" y="1523880"/>
            <a:ext cx="33148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5:19:24Z</dcterms:created>
  <dc:creator>DPS</dc:creator>
  <dc:description/>
  <dc:language>en-US</dc:language>
  <cp:lastModifiedBy>Teacher</cp:lastModifiedBy>
  <dcterms:modified xsi:type="dcterms:W3CDTF">2011-05-09T18:26:04Z</dcterms:modified>
  <cp:revision>12</cp:revision>
  <dc:subject/>
  <dc:title>Norse Gods and Goddesses</dc:title>
</cp:coreProperties>
</file>