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72D8-AE14-4263-8553-04FA9F7CE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8499-FAEE-4435-95E8-FC38E80B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105C-6A96-4D44-90DF-73483FB5A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4A9E-931D-4FDB-912E-01B721F5D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740F-CCA3-4F83-AC82-22E362D3F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CC2D-C4DD-4B90-9B7A-D1DACDB7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5FCD-71C2-46C1-BB0C-D19A2B48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CB5D-E8A5-49F0-BBD1-3D881818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4ACA-C642-416E-BA61-552BC711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835D-64B3-422A-9090-E67D271B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CE47-E8F6-48CF-A7E3-02CEEAB0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09FD-3FD7-4B8A-9DB0-887725B1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D67A-CB9F-407E-8F07-0134E116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1077-8A0F-4112-9304-2A692CF4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4AAB-5F90-481F-88C7-B89914B2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565A-75A4-47BE-8F30-2B5A723AF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C419-53DD-4CD1-A22F-99316CF0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CCC9-2647-406A-B043-10E97C65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DEE9-AEC7-43C7-A66C-0808E97F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9441-B492-4738-B20D-5A178457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C683-4CB9-4DAE-8719-F8799277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4E08-5238-4016-9C12-3C2CAFC9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4B5B-D485-4007-9FDF-A4C5E8F5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01F1-72A9-4BBF-B86A-DEBDC24A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1C36-447B-41FE-B9AB-750BB922A6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1C28-6C9E-41A1-B860-73D2E783BC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Vinland_Map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Norse Gods and Goddess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gard – heav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dgard – Ear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ggdrasil – World Tr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reyr / Fre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of agriculture, fertility, and plen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in to Freyja (they are VERY clos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like the other gods, Freyr and Freyja are earth die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s a sword that can fight by its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oar is his symb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5" descr="180px-Freyr_art"/>
          <p:cNvPicPr/>
          <p:nvPr/>
        </p:nvPicPr>
        <p:blipFill>
          <a:blip r:embed="rId1"/>
          <a:stretch/>
        </p:blipFill>
        <p:spPr>
          <a:xfrm>
            <a:off x="5638680" y="1371600"/>
            <a:ext cx="3078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reyj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5791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dess of love and fert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in sister of Fr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ept with four dwarves to get a flaming necklace, which becomes her symbol of fert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der of the Valky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e takes some of the dead warriors for hersel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s a chariot drawn by ca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5" descr="Freyja in cat-drawn chariot"/>
          <p:cNvPicPr/>
          <p:nvPr/>
        </p:nvPicPr>
        <p:blipFill>
          <a:blip r:embed="rId1"/>
          <a:stretch/>
        </p:blipFill>
        <p:spPr>
          <a:xfrm>
            <a:off x="6095880" y="914400"/>
            <a:ext cx="2793960" cy="3505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Freyja's hair - Polygala vulgaris - a species of the genus Polygala."/>
          <p:cNvPicPr/>
          <p:nvPr/>
        </p:nvPicPr>
        <p:blipFill>
          <a:blip r:embed="rId2"/>
          <a:stretch/>
        </p:blipFill>
        <p:spPr>
          <a:xfrm>
            <a:off x="6324480" y="4648320"/>
            <a:ext cx="1428840" cy="16952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8"/>
          <p:cNvSpPr/>
          <p:nvPr/>
        </p:nvSpPr>
        <p:spPr>
          <a:xfrm>
            <a:off x="7924680" y="5715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reyja’s hai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rigg / Frigga / Fre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ther Godd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fe of Od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aves clou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e knows even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present and future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t is powerless 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rning of her son’s (Balder) death, she makes everything promise not to harm him – except the mistleto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5" descr="Frigg spinning the clouds, by J C Dollman"/>
          <p:cNvPicPr/>
          <p:nvPr/>
        </p:nvPicPr>
        <p:blipFill>
          <a:blip r:embed="rId1"/>
          <a:stretch/>
        </p:blipFill>
        <p:spPr>
          <a:xfrm>
            <a:off x="4495680" y="1447920"/>
            <a:ext cx="441972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y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of war and just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cursor of Odi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ldest of the god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st his hand to Fenrir, Loki’s wolf-s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symbol is the spear which has become a symbol of justi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tyr"/>
          <p:cNvPicPr/>
          <p:nvPr/>
        </p:nvPicPr>
        <p:blipFill>
          <a:blip r:embed="rId1"/>
          <a:stretch/>
        </p:blipFill>
        <p:spPr>
          <a:xfrm>
            <a:off x="5410080" y="1295280"/>
            <a:ext cx="33670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eimdal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ld Brightener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of the daw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eat hearing (can hear grass grow) and eyes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 look out on Bifrost (the rainbow bridge to Asgar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5" descr="Heimdall"/>
          <p:cNvPicPr/>
          <p:nvPr/>
        </p:nvPicPr>
        <p:blipFill>
          <a:blip r:embed="rId1"/>
          <a:stretch/>
        </p:blipFill>
        <p:spPr>
          <a:xfrm>
            <a:off x="4800600" y="1752480"/>
            <a:ext cx="464832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of winter and dark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i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icked by Loki into killing Bal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li killed Hod in revenge for Bal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 return during Ragnar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5" descr="00000001"/>
          <p:cNvPicPr/>
          <p:nvPr/>
        </p:nvPicPr>
        <p:blipFill>
          <a:blip r:embed="rId1"/>
          <a:stretch/>
        </p:blipFill>
        <p:spPr>
          <a:xfrm>
            <a:off x="228600" y="3733920"/>
            <a:ext cx="5715000" cy="3590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Curse you, blindness!"/>
          <p:cNvPicPr/>
          <p:nvPr/>
        </p:nvPicPr>
        <p:blipFill>
          <a:blip r:embed="rId2"/>
          <a:stretch/>
        </p:blipFill>
        <p:spPr>
          <a:xfrm>
            <a:off x="6781680" y="3657600"/>
            <a:ext cx="190512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733920" y="1600200"/>
            <a:ext cx="4952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ughter of Lok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iant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ddess of death and the underwor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lf black/ half whi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r face and body are human but the legs are of a corp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s two servants: Ganglati and  Ganglo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read the plague with a rake or a bro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5" descr="hel"/>
          <p:cNvPicPr/>
          <p:nvPr/>
        </p:nvPicPr>
        <p:blipFill>
          <a:blip r:embed="rId1"/>
          <a:stretch/>
        </p:blipFill>
        <p:spPr>
          <a:xfrm>
            <a:off x="228600" y="1371600"/>
            <a:ext cx="3282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el / Helheim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underwor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road to Hel is an icy river (Gjoll) full of weap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uarded by a large dog (Garm) and Modgud (an ugly goddes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hing can leave Hel, not even go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wicked go here and the people who do not die a glorious death in batt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giant in the form of an eagle sits and flaps his wings, making a freezing wind.  His name is Hraesvelg (corpse eate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7" descr="Hermod rides to Hel"/>
          <p:cNvPicPr/>
          <p:nvPr/>
        </p:nvPicPr>
        <p:blipFill>
          <a:blip r:embed="rId1"/>
          <a:stretch/>
        </p:blipFill>
        <p:spPr>
          <a:xfrm>
            <a:off x="5943600" y="2895480"/>
            <a:ext cx="2790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ar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1480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rm guards the entrance to H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s four eyes and a bloody ch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ld be appeased with cake as long as they gave the poor bread in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ll join the giants in Ragnora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5" descr="hel"/>
          <p:cNvPicPr/>
          <p:nvPr/>
        </p:nvPicPr>
        <p:blipFill>
          <a:blip r:embed="rId1"/>
          <a:stretch/>
        </p:blipFill>
        <p:spPr>
          <a:xfrm>
            <a:off x="457200" y="1143000"/>
            <a:ext cx="3549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The Vinland map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4114800"/>
            <a:ext cx="4629240" cy="3209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map3"/>
          <p:cNvPicPr/>
          <p:nvPr/>
        </p:nvPicPr>
        <p:blipFill>
          <a:blip r:embed="rId3"/>
          <a:stretch/>
        </p:blipFill>
        <p:spPr>
          <a:xfrm>
            <a:off x="304920" y="0"/>
            <a:ext cx="3946320" cy="4343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vikings"/>
          <p:cNvPicPr/>
          <p:nvPr/>
        </p:nvPicPr>
        <p:blipFill>
          <a:blip r:embed="rId4"/>
          <a:stretch/>
        </p:blipFill>
        <p:spPr>
          <a:xfrm>
            <a:off x="4495680" y="1143000"/>
            <a:ext cx="4429080" cy="33336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0"/>
          <p:cNvSpPr/>
          <p:nvPr/>
        </p:nvSpPr>
        <p:spPr>
          <a:xfrm>
            <a:off x="5334120" y="3049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Viking Map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din/ Woden/ Wota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ef of the go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ther of Thor, Balder, and other go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din pierces himself with a spear and hangs on Yggdrasil for 9 days and nights to learn the secret knowledge of ru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s one eye because he traded it for a drink from the spring of clairvoy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odin"/>
          <p:cNvPicPr/>
          <p:nvPr/>
        </p:nvPicPr>
        <p:blipFill>
          <a:blip r:embed="rId1"/>
          <a:stretch/>
        </p:blipFill>
        <p:spPr>
          <a:xfrm>
            <a:off x="4876920" y="1523880"/>
            <a:ext cx="3771720" cy="38102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4800600" y="54864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s two ravens are called Huginn and Muninn  (Thought and Memor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alkyries and Valhall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267080" y="160020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lkyries are female spirit warriors that ride the battlefields and find worthy slain warriors and takes them to Valhalla where they will train until Ragnaro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rthern lights are light shining off of their shiel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lhalla is the Hall of the Slain.  It exists in Asgard, home of the go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ride.mp3" descr=""/>
          <p:cNvPicPr/>
          <p:nvPr/>
        </p:nvPicPr>
        <p:blipFill>
          <a:blip r:embed="rId1"/>
          <a:stretch/>
        </p:blipFill>
        <p:spPr>
          <a:xfrm>
            <a:off x="304920" y="6172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609480" y="60199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ide of the Valkyries”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Richard Wagn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7" descr="Valkyries"/>
          <p:cNvPicPr/>
          <p:nvPr/>
        </p:nvPicPr>
        <p:blipFill>
          <a:blip r:embed="rId2"/>
          <a:stretch/>
        </p:blipFill>
        <p:spPr>
          <a:xfrm>
            <a:off x="76320" y="1143000"/>
            <a:ext cx="4267080" cy="3335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Northern%20Lights%20over%20the%20fjords"/>
          <p:cNvPicPr/>
          <p:nvPr/>
        </p:nvPicPr>
        <p:blipFill>
          <a:blip r:embed="rId3"/>
          <a:stretch/>
        </p:blipFill>
        <p:spPr>
          <a:xfrm>
            <a:off x="685800" y="4267080"/>
            <a:ext cx="251460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7976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or/ Thuno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495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d of thunder and light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jolnir (the destroyer) – an ax-hammer that can destroy giants and mountains in a single bl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s a chariot pulled by two goats.  He can kill these goats and eat them and they will come back to lif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 constantly fighting the World Serpent – Jormung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is capable of drinking an oce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5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5181480" y="4724280"/>
            <a:ext cx="2667240" cy="19940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8001000" y="47242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7924680" y="59436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or’s Helm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9" descr="pre_thor1-723870"/>
          <p:cNvPicPr/>
          <p:nvPr/>
        </p:nvPicPr>
        <p:blipFill>
          <a:blip r:embed="rId2"/>
          <a:stretch/>
        </p:blipFill>
        <p:spPr>
          <a:xfrm>
            <a:off x="7143840" y="304920"/>
            <a:ext cx="2000160" cy="3047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thor"/>
          <p:cNvPicPr/>
          <p:nvPr/>
        </p:nvPicPr>
        <p:blipFill>
          <a:blip r:embed="rId3"/>
          <a:stretch/>
        </p:blipFill>
        <p:spPr>
          <a:xfrm>
            <a:off x="4952880" y="1447920"/>
            <a:ext cx="2514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ld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47242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eautiful” and “The Good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arily known for his death and resurr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avorite chi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5" descr="balder~r95"/>
          <p:cNvPicPr/>
          <p:nvPr/>
        </p:nvPicPr>
        <p:blipFill>
          <a:blip r:embed="rId1"/>
          <a:stretch/>
        </p:blipFill>
        <p:spPr>
          <a:xfrm>
            <a:off x="2286000" y="1219320"/>
            <a:ext cx="44388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ok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of mischief and f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ckster fig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known parent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onsible for Balder’s death and punished by having snake venom drip on his forehe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rmungand, Hel, and Fenrir are his child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ll begin Ragnora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5" descr="sigyn"/>
          <p:cNvPicPr/>
          <p:nvPr/>
        </p:nvPicPr>
        <p:blipFill>
          <a:blip r:embed="rId1"/>
          <a:stretch/>
        </p:blipFill>
        <p:spPr>
          <a:xfrm>
            <a:off x="5248440" y="990720"/>
            <a:ext cx="389556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rag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of poetry and eloqu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ki calls him “Braggart” and the verb “to brag” comes from his na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ried to Idu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5" descr="Bragi is shown with a harp and accompanied by his wife Iðunn in this 19th century painting by Nils Blommér."/>
          <p:cNvPicPr/>
          <p:nvPr/>
        </p:nvPicPr>
        <p:blipFill>
          <a:blip r:embed="rId1"/>
          <a:stretch/>
        </p:blipFill>
        <p:spPr>
          <a:xfrm>
            <a:off x="5486400" y="1447920"/>
            <a:ext cx="34336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du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62160" y="1600200"/>
            <a:ext cx="4724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dess of immorta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s the golden apples of you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jor story deals with a giant who, with Loki’s help, stole the apples, causing the gods to wi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5" descr="idun02"/>
          <p:cNvPicPr/>
          <p:nvPr/>
        </p:nvPicPr>
        <p:blipFill>
          <a:blip r:embed="rId1"/>
          <a:stretch/>
        </p:blipFill>
        <p:spPr>
          <a:xfrm>
            <a:off x="380880" y="1523880"/>
            <a:ext cx="331488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15:19:24Z</dcterms:created>
  <dc:creator>DPS</dc:creator>
  <dc:description/>
  <dc:language>en-US</dc:language>
  <cp:lastModifiedBy>Teacher</cp:lastModifiedBy>
  <dcterms:modified xsi:type="dcterms:W3CDTF">2011-05-09T18:26:04Z</dcterms:modified>
  <cp:revision>12</cp:revision>
  <dc:subject/>
  <dc:title>Norse Gods and Goddesses</dc:title>
</cp:coreProperties>
</file>