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4C0-EE1D-47E2-BB7D-104C194E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C71-E300-4E98-9F64-38D76045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6B0-118F-4DC9-9FC0-B8A0D638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832-0A4C-4031-996B-40FCF68A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2B6F-A33E-4FAC-B5D5-EC207FFE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96C6-4957-4B54-946F-BFB3C2D2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A6AF-842D-4867-B7F9-296D2C39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40A5-160A-4886-8FFF-B23E8734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D438-F871-4B90-9025-6FD7BE78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918A-C51E-4DBF-8689-E390BDB8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7C39-85DD-498D-A543-6E48A79E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D40-9358-407B-A5A8-63C253B5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BDCC-F41A-48F1-836E-4120C5C4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B949-E11D-4D56-8CFA-6F064AD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E77C-6374-448B-AC04-1EBE4B8B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7BB2-E80B-482F-9FD3-FABE9627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6C93-D28B-45A2-A840-68EF34D5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2C1-8F98-48F0-AD00-3A43B4B0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2EB-3A58-46DB-B65D-EB7B0E8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04B-5E87-47F5-9592-93AEE0B6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A90-4038-417E-8EAA-D38D8C7F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A7A-E841-4BDF-A162-10A8EA3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EC7-E402-4F35-8AA7-A72D482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DF7-8F60-46B6-A9A2-B7A8DA7F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EE99-2A6D-413E-B0F3-B034D4F6B4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3B74-AADF-47A3-8AD1-A4C175653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land_Map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orse Gods and Goddes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gard – he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gard –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ggdrasil – World T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r / Fr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agriculture, fertility, and pl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n to Freyja (they are VERY cl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ike the other gods, Freyr and Freyja are earth d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 sword that can fight b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ar is his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80px-Freyr_art"/>
          <p:cNvPicPr/>
          <p:nvPr/>
        </p:nvPicPr>
        <p:blipFill>
          <a:blip r:embed="rId1"/>
          <a:stretch/>
        </p:blipFill>
        <p:spPr>
          <a:xfrm>
            <a:off x="5638680" y="1371600"/>
            <a:ext cx="307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love and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in sister of Fr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ept with four dwarves to get a flaming necklace, which becomes her symbol of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the Valky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takes some of the dead warriors for he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a chariot drawn by c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Freyja in cat-drawn chariot"/>
          <p:cNvPicPr/>
          <p:nvPr/>
        </p:nvPicPr>
        <p:blipFill>
          <a:blip r:embed="rId1"/>
          <a:stretch/>
        </p:blipFill>
        <p:spPr>
          <a:xfrm>
            <a:off x="6095880" y="914400"/>
            <a:ext cx="2793960" cy="350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reyja's hair - Polygala vulgaris - a species of the genus Polygala."/>
          <p:cNvPicPr/>
          <p:nvPr/>
        </p:nvPicPr>
        <p:blipFill>
          <a:blip r:embed="rId2"/>
          <a:stretch/>
        </p:blipFill>
        <p:spPr>
          <a:xfrm>
            <a:off x="6324480" y="4648320"/>
            <a:ext cx="1428840" cy="1695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7924680" y="5715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yja’s h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igg / Frigga / Fr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her Godd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fe of Od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ves clou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knows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present and futur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is powerless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of her son’s (Balder) death, she makes everything promise not to harm him – except the mistleto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Frigg spinning the clouds, by J C Dollman"/>
          <p:cNvPicPr/>
          <p:nvPr/>
        </p:nvPicPr>
        <p:blipFill>
          <a:blip r:embed="rId1"/>
          <a:stretch/>
        </p:blipFill>
        <p:spPr>
          <a:xfrm>
            <a:off x="4495680" y="1447920"/>
            <a:ext cx="4419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ar and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 of Od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ldest of the go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his hand to Fenrir, Loki’s wolf-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symbol is the spear which has become a symbol of just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tyr"/>
          <p:cNvPicPr/>
          <p:nvPr/>
        </p:nvPicPr>
        <p:blipFill>
          <a:blip r:embed="rId1"/>
          <a:stretch/>
        </p:blipFill>
        <p:spPr>
          <a:xfrm>
            <a:off x="5410080" y="1295280"/>
            <a:ext cx="33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mda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Brighten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the da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hearing (can hear grass grow) and eye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look out on Bifrost (the rainbow bridge to Asgar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eimdall"/>
          <p:cNvPicPr/>
          <p:nvPr/>
        </p:nvPicPr>
        <p:blipFill>
          <a:blip r:embed="rId1"/>
          <a:stretch/>
        </p:blipFill>
        <p:spPr>
          <a:xfrm>
            <a:off x="4800600" y="175248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inter and dark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cked by Loki into killing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 killed Hod in revenge for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return during Ragnar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00000001"/>
          <p:cNvPicPr/>
          <p:nvPr/>
        </p:nvPicPr>
        <p:blipFill>
          <a:blip r:embed="rId1"/>
          <a:stretch/>
        </p:blipFill>
        <p:spPr>
          <a:xfrm>
            <a:off x="228600" y="3733920"/>
            <a:ext cx="5715000" cy="35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urse you, blindness!"/>
          <p:cNvPicPr/>
          <p:nvPr/>
        </p:nvPicPr>
        <p:blipFill>
          <a:blip r:embed="rId2"/>
          <a:stretch/>
        </p:blipFill>
        <p:spPr>
          <a:xfrm>
            <a:off x="6781680" y="365760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of Lo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ant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dess of death and 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black/ half w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face and body are human but the legs are of a corp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two servants: Ganglati and  Ganglo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the plague with a rake or a b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hel"/>
          <p:cNvPicPr/>
          <p:nvPr/>
        </p:nvPicPr>
        <p:blipFill>
          <a:blip r:embed="rId1"/>
          <a:stretch/>
        </p:blipFill>
        <p:spPr>
          <a:xfrm>
            <a:off x="228600" y="1371600"/>
            <a:ext cx="3282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 / Helhei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ad to Hel is an icy river (Gjoll) full of weap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arded by a large dog (Garm) and Modgud (an ugly godd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hing can leave Hel, not even g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icked go here and the people who do not die a glorious death in ba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iant in the form of an eagle sits and flaps his wings, making a freezing wind.  His name is Hraesvelg (corpse ea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Hermod rides to Hel"/>
          <p:cNvPicPr/>
          <p:nvPr/>
        </p:nvPicPr>
        <p:blipFill>
          <a:blip r:embed="rId1"/>
          <a:stretch/>
        </p:blipFill>
        <p:spPr>
          <a:xfrm>
            <a:off x="5943600" y="2895480"/>
            <a:ext cx="2790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m guards the entrance to H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our eyes and a bloody ch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 be appeased with cake as long as they gave the poor bread in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join the giants 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el"/>
          <p:cNvPicPr/>
          <p:nvPr/>
        </p:nvPicPr>
        <p:blipFill>
          <a:blip r:embed="rId1"/>
          <a:stretch/>
        </p:blipFill>
        <p:spPr>
          <a:xfrm>
            <a:off x="457200" y="1143000"/>
            <a:ext cx="354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The Vinland map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4114800"/>
            <a:ext cx="4629240" cy="32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ap3"/>
          <p:cNvPicPr/>
          <p:nvPr/>
        </p:nvPicPr>
        <p:blipFill>
          <a:blip r:embed="rId3"/>
          <a:stretch/>
        </p:blipFill>
        <p:spPr>
          <a:xfrm>
            <a:off x="304920" y="0"/>
            <a:ext cx="3946320" cy="434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vikings"/>
          <p:cNvPicPr/>
          <p:nvPr/>
        </p:nvPicPr>
        <p:blipFill>
          <a:blip r:embed="rId4"/>
          <a:stretch/>
        </p:blipFill>
        <p:spPr>
          <a:xfrm>
            <a:off x="4495680" y="1143000"/>
            <a:ext cx="44290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5334120" y="304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iking Ma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din/ Woden/ Wot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of Thor, Balder, and other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in pierces himself with a spear and hangs on Yggdrasil for 9 days and nights to learn the secret knowledge of ru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one eye because he traded it for a drink from the spring of clairvoy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odin"/>
          <p:cNvPicPr/>
          <p:nvPr/>
        </p:nvPicPr>
        <p:blipFill>
          <a:blip r:embed="rId1"/>
          <a:stretch/>
        </p:blipFill>
        <p:spPr>
          <a:xfrm>
            <a:off x="4876920" y="1523880"/>
            <a:ext cx="3771720" cy="3810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800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 two ravens are called Huginn and Muninn  (Thought and Mem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kyries and Valhal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kyries are female spirit warriors that ride the battlefields and find worthy slain warriors and takes them to Valhalla where they will train until Ragnaro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ern lights are light shining off of their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halla is the Hall of the Slain.  It exists in Asgard, home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ride.mp3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094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de of the Valkyries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ichard Wag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Valkyries"/>
          <p:cNvPicPr/>
          <p:nvPr/>
        </p:nvPicPr>
        <p:blipFill>
          <a:blip r:embed="rId2"/>
          <a:stretch/>
        </p:blipFill>
        <p:spPr>
          <a:xfrm>
            <a:off x="76320" y="1143000"/>
            <a:ext cx="4267080" cy="3335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thern%20Lights%20over%20the%20fjords"/>
          <p:cNvPicPr/>
          <p:nvPr/>
        </p:nvPicPr>
        <p:blipFill>
          <a:blip r:embed="rId3"/>
          <a:stretch/>
        </p:blipFill>
        <p:spPr>
          <a:xfrm>
            <a:off x="685800" y="4267080"/>
            <a:ext cx="2514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97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r/ Thun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of thunder and light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jolnir (the destroyer) – an ax-hammer that can destroy giants and mountains in a single b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a chariot pulled by two goats.  He can kill these goats and eat them and they will come back to l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onstantly fighting the World Serpent – Jormung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is capable of drinking an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5181480" y="4724280"/>
            <a:ext cx="2667240" cy="1994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8001000" y="47242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924680" y="5943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r’s Helm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pre_thor1-723870"/>
          <p:cNvPicPr/>
          <p:nvPr/>
        </p:nvPicPr>
        <p:blipFill>
          <a:blip r:embed="rId2"/>
          <a:stretch/>
        </p:blipFill>
        <p:spPr>
          <a:xfrm>
            <a:off x="7143840" y="304920"/>
            <a:ext cx="2000160" cy="3047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thor"/>
          <p:cNvPicPr/>
          <p:nvPr/>
        </p:nvPicPr>
        <p:blipFill>
          <a:blip r:embed="rId3"/>
          <a:stretch/>
        </p:blipFill>
        <p:spPr>
          <a:xfrm>
            <a:off x="4952880" y="144792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autiful” and “The Goo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ily known for his death and resurr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vorite chi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balder~r95"/>
          <p:cNvPicPr/>
          <p:nvPr/>
        </p:nvPicPr>
        <p:blipFill>
          <a:blip r:embed="rId1"/>
          <a:stretch/>
        </p:blipFill>
        <p:spPr>
          <a:xfrm>
            <a:off x="2286000" y="1219320"/>
            <a:ext cx="4438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mischief and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ster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pare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Balder’s death and punished by having snake venom drip on his fore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rmungand, Hel, and Fenrir are his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g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sigyn"/>
          <p:cNvPicPr/>
          <p:nvPr/>
        </p:nvPicPr>
        <p:blipFill>
          <a:blip r:embed="rId1"/>
          <a:stretch/>
        </p:blipFill>
        <p:spPr>
          <a:xfrm>
            <a:off x="5248440" y="990720"/>
            <a:ext cx="38955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ag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poetry and elo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ki calls him “Braggart” and the verb “to brag” comes from his n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ried to Id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Bragi is shown with a harp and accompanied by his wife Iðunn in this 19th century painting by Nils Blommér."/>
          <p:cNvPicPr/>
          <p:nvPr/>
        </p:nvPicPr>
        <p:blipFill>
          <a:blip r:embed="rId1"/>
          <a:stretch/>
        </p:blipFill>
        <p:spPr>
          <a:xfrm>
            <a:off x="5486400" y="1447920"/>
            <a:ext cx="3433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u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immort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s the golden apples of y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story deals with a giant who, with Loki’s help, stole the apples, causing the gods to wi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idun02"/>
          <p:cNvPicPr/>
          <p:nvPr/>
        </p:nvPicPr>
        <p:blipFill>
          <a:blip r:embed="rId1"/>
          <a:stretch/>
        </p:blipFill>
        <p:spPr>
          <a:xfrm>
            <a:off x="380880" y="1523880"/>
            <a:ext cx="3314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5:19:24Z</dcterms:created>
  <dc:creator>DPS</dc:creator>
  <dc:description/>
  <dc:language>en-US</dc:language>
  <cp:lastModifiedBy>Teacher</cp:lastModifiedBy>
  <dcterms:modified xsi:type="dcterms:W3CDTF">2011-05-09T18:26:04Z</dcterms:modified>
  <cp:revision>12</cp:revision>
  <dc:subject/>
  <dc:title>Norse Gods and Goddesses</dc:title>
</cp:coreProperties>
</file>