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27A9D-262C-490B-846B-D96430E97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F047D-B90E-4CDF-BDF2-83F84AB1A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EB2B5-DA72-44D1-991D-E83F5BFD7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72CFD-DCBF-4101-82C4-AA224CDCA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4E43F-9CCA-4C73-B39B-C144CE5EF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E0909-3ED1-472F-9ACE-1A8C57470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8BFA6-0435-4C68-98B2-B77DA02C2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90AD3-E0AF-49CB-8504-E9311A501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45C4D-417D-4F6D-98AE-AAEB1F37E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4FB97-28C8-4557-8B9F-82A88BDC8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D420C-4BB5-40D3-A7F6-1BAD89671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1FE2E-1D69-4AC7-9060-1A1209D4C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23BC4-E13F-4195-BDB4-778BA0163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B429B-55D2-4D2E-A45C-91250F518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FF3A0-A42D-4661-832D-6F6E16FC6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9656B-3409-43D0-B3A1-1B4A6EE3F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A7650-870F-4170-9ED9-32FBCC2CB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591EC-B8B0-45B1-916C-F9832717C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3F0B3-94FA-47EC-995D-5F66C7B85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AF60F-DA90-4FA6-A9C2-3ED0966D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CD3AF-E3D4-4D6B-9D3A-C8BFAF7EC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66392-8944-4515-BC01-CBF6760C1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DB8EC-E486-4876-A700-33021E8BC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9F20E-93D7-4B98-A9F7-FC6A8D376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9592-483A-4CCB-B66C-A7A5E4489B0D}"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B45E-3E56-48E1-8737-8967F2FD3C4D}"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br>
              <a:rPr sz="4400"/>
            </a:br>
            <a:r>
              <a:rPr b="0" lang="en-US" sz="2400" spc="-1" strike="noStrike">
                <a:solidFill>
                  <a:srgbClr val="ffffe9"/>
                </a:solidFill>
                <a:latin typeface="Times New Roman"/>
              </a:rPr>
              <a:t>By Mike Mitch ‘09</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in excess of 100 mph. </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lmost an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 ha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10-01-02T15:58:27Z</dcterms:modified>
  <cp:revision>9</cp:revision>
  <dc:subject/>
  <dc:title>The Mothman</dc:title>
</cp:coreProperties>
</file>