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A18DC-AFD4-4595-A383-699A65B7C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B07E0-36BE-4CF5-A81E-593FD1026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390DB-C0B9-4F6E-984E-101398BC0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55D89-0AEB-4617-AD3F-4795E93DA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14B91-F9A0-47F2-9EF2-F8A7CB874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FCCFA-7305-4A8E-965B-2222AF777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6BC23-7321-43C0-9DC3-561D968DE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B2330-7F45-4FBD-8607-B3E648133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4B509-AA2F-449C-A402-17598FEE5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96EDD-E1F8-45B8-8039-011A24D0C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19405-1A22-4C24-BF7C-3837F56EF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696A0-97FC-411A-97B5-F7F882ED5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85C99-A121-476B-98C4-2EC7596C6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4A033-AD8D-4E2D-9490-521BC10B0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3EB4D-331C-4AEB-B862-746985BD2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E8770-D57B-4CA5-9A80-BADBDD706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D2E39-47F4-4F2F-BC1B-21D336FB6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BFDB7-3318-46E7-B83A-12DA66A11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57FE-E22F-4A9A-B66A-81221786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4E8B1-05A6-4D93-AED2-B922E54BE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7D990-141F-4E4C-9B8D-565835C16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5056-8651-45E3-84BE-1EACB2370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7EC51-276F-409C-8B9A-459FD050D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6770-92F0-437B-BF3E-DA563BEEF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13B2-8830-48B6-95E7-0A2B7EFC65CC}"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BCC7-E457-468B-8F43-FF8374FF9BB3}"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br>
              <a:rPr sz="4400"/>
            </a:br>
            <a:r>
              <a:rPr b="0" lang="en-US" sz="2400" spc="-1" strike="noStrike">
                <a:solidFill>
                  <a:srgbClr val="ffffe9"/>
                </a:solidFill>
                <a:latin typeface="Times New Roman"/>
              </a:rPr>
              <a:t>By Mike Mitch ‘09</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in excess of 100 mph. </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lmost an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 ha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10-01-02T15:58:27Z</dcterms:modified>
  <cp:revision>9</cp:revision>
  <dc:subject/>
  <dc:title>The Mothman</dc:title>
</cp:coreProperties>
</file>