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C5A40-422F-4EE8-8B11-32F1E7490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71339-A91B-4B6C-8903-902D8F33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272FA-9837-4FD2-AB8F-51B515C11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2B3B6-143E-4860-AAE0-C1789941E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8DA78-A942-4FE0-A29C-88061947A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1E92E-822C-48D2-B026-451D2EBD2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96CA6-8542-46EB-A19C-8468D91AB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C32FD-9D67-4918-BF7B-754C1C584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5E482-088F-4A9B-9CDC-8D272ABD9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B15AC-2630-4043-BA5E-AA18AF52A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27FCE-FAFD-464F-B638-907E069C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E86F7-A71A-4B7D-B880-DEAB9B0B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CE921-E5FF-436F-A709-7785F5D6C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B5A65-5563-43D9-83CB-6E42D31A1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F3B7E-BEB5-441F-982C-442C7E03B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4A3C9-F85D-46D9-9AB7-58C86278C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557B3-D399-4F7A-A0B8-6C7A7C8A4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458E3-40D4-4780-9C27-886019CB4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88B77-8101-4076-8521-4201FA87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69AF-4D72-46DC-B0E8-B24C37D8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880BF-43E6-4B21-9CF5-F5B820A5C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1D85-1876-4333-9976-372B4D4F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5FE5-2F37-41E4-9837-A58B8B1C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AF6A-A9B4-46E1-9FDC-E4485A700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04D3-A3CE-40D3-9789-9C8728E8DE18}"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239A-22FE-40D8-9F50-9796AD3D2D9A}"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br>
              <a:rPr sz="4400"/>
            </a:br>
            <a:r>
              <a:rPr b="0" lang="en-US" sz="2400" spc="-1" strike="noStrike">
                <a:solidFill>
                  <a:srgbClr val="ffffe9"/>
                </a:solidFill>
                <a:latin typeface="Times New Roman"/>
              </a:rPr>
              <a:t>By Mike Mitch ‘09</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in excess of 100 mph.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most an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 ha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10-01-02T15:58:27Z</dcterms:modified>
  <cp:revision>9</cp:revision>
  <dc:subject/>
  <dc:title>The Mothman</dc:title>
</cp:coreProperties>
</file>