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4E745-CE2A-4C6E-B6D3-350D13B8F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DA104-9917-4A2A-A47A-A0348E69A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0EC28-61BD-4295-82AE-6FBD7B3C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310B-F66B-481A-AB54-40C0D9E13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961DE-FFE2-4262-BBC6-66A5008FC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FF852-5062-43A2-A850-2D91EF9FC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341D4-0086-4881-A745-915A9953D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8CEAA-9542-4529-A60E-E3FD57FE0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2F6CF-FFBD-4DB3-872C-D386E932B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FE6EC-6319-4103-B2E4-469B9C35A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7FDEB-BF15-4CA4-81B9-75B33D389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31B9-CAA4-4E7A-9DF5-4B489FACC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37508-BD87-49E4-BDF5-B4CFC428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164E6-F16B-4245-9ED9-C4841D779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F40FB-DDF3-40FA-81F7-75ABF5B41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F2579-46CC-4E91-A9A1-71A4E0DBB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D82BE-1595-4F44-B888-0B864A2EB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52B4-0273-4B6D-8D8E-11C7FCCB6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40DFF-06F7-4FB1-A4F7-8A57834D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1106-80B5-4B83-B2FB-8C0C4FF4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D2DD-DB3A-4E0A-8E38-71DC6E9C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00F0-719D-4DD4-B749-02C5C662A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447D-C348-444B-B7D7-F9A0B394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2B66-F238-4A46-A51F-0ECB1F536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A05B-12E7-4E30-BDCE-112951D95A98}"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FA81-9DCB-4900-97BB-7A770EDB3507}"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br>
              <a:rPr sz="4400"/>
            </a:br>
            <a:r>
              <a:rPr b="0" lang="en-US" sz="2400" spc="-1" strike="noStrike">
                <a:solidFill>
                  <a:srgbClr val="ffffe9"/>
                </a:solidFill>
                <a:latin typeface="Times New Roman"/>
              </a:rPr>
              <a:t>By Mike Mitch ‘09</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in excess of 100 mph.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most an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 ha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10-01-02T15:58:27Z</dcterms:modified>
  <cp:revision>9</cp:revision>
  <dc:subject/>
  <dc:title>The Mothman</dc:title>
</cp:coreProperties>
</file>