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AB579-DD6A-49DF-A27D-466348A49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4855-84B4-4E68-8A4D-CE01A729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8C1FF-C9EE-45AC-8B92-7C6BC03A3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14F12-2F81-48EB-BC3A-FFFDB87A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841B8-1FF4-40F9-82CE-B12336087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7784A-B50A-4209-8656-76C6C3340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2279C-6160-4BF9-8654-70EDF0C3A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EA593-3896-4F78-B024-9F91A9E64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2AD48-2A46-40E3-A37A-E15791F3D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87415-96EF-4A5B-BDB0-255CEE297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0305F-F390-46E0-AE43-B382CB83D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F2CE0-4005-4318-B3F0-8907667A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2E063-0B03-45C5-BF21-2E5331359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AEE38-2D3C-403E-BF4F-7B1E17B29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F4520-7C21-4809-AF78-59367D227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9A865-ED87-4FE8-87F3-146CB4F0D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94FAF-AFED-4AE2-A884-6697E274E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55945-DF50-46C6-B4B6-ECE750D6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0992-501E-42EF-8229-9A7306A56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13D3-AFBA-4524-9BA1-C8876A64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35A99-940C-4788-B3F7-650395CE2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C22E-A2F1-42B3-8152-66CDF0288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8D2B-50D0-4893-BE75-F453E48A2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3B16-0CED-4F09-9743-AAD001C72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649B-697E-4620-A872-5BD8A58616EC}"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1B91-BA5A-48EC-A585-4B0FD7724DF4}"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ed as 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excess of 100 mph.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aid they saw a dead dog laying on the side of the road while driving.</a:t>
            </a:r>
            <a:endParaRPr b="0" lang="en-US" sz="2800" spc="-1" strike="noStrike">
              <a:solidFill>
                <a:srgbClr val="00264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re are beliefs that there was almost a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09-10-04T14:08:47Z</dcterms:modified>
  <cp:revision>5</cp:revision>
  <dc:subject/>
  <dc:title>The Mothman</dc:title>
</cp:coreProperties>
</file>