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22A-3084-408A-BDFC-6B67A42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369-436E-4503-A02E-2772F3E7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1FC-1A71-4006-A7CB-FAEC9C2F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0D3-7B37-4F52-989C-6573EC21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86C-DB8B-4805-B796-99FB6E04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6CB-13A5-47A1-AF96-523525AC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F37-A2F2-4E78-B289-B433360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BF6-8839-4EC5-88EE-9A8B222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A4C-E8BD-44B2-B22C-4C833AF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D7F-EB42-4E04-98A5-B762072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7D3-8136-44E9-A805-937415B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50F-F1C8-47B2-8759-95A2B5C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7236-292E-4E44-B1E4-93C8F82E3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seidon.strategyplanet.gamespy.com/images/concept/athena.jpg&amp;imgrefurl=http://poseidon.strategyplanet.gamespy.com/gods/athena.html&amp;usg=__M2EtEZPSDxmaxWMrogGHSUI76e8=&amp;h=772&amp;w=387&amp;sz=30&amp;hl=en&amp;start=8&amp;tbnid=-CIkQGFzkJYshM:&amp;tbnh=142&amp;tbnw=71&amp;prev=/images%3Fq%3Dathena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greece.mrdonn.org/greekgods/ApolloApollo.gif&amp;imgrefurl=http://greece.mrdonn.org/greekgods/apollo.html&amp;usg=__KPyFAH6eTUittZsP_LkqUwYDK40=&amp;h=450&amp;w=371&amp;sz=41&amp;hl=en&amp;start=5&amp;tbnid=UzHsjbQAyAfCuM:&amp;tbnh=127&amp;tbnw=105&amp;prev=/images%3Fq%3Dapollo%26gbv%3D2%26hl%3D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poseidon.strategyplanet.gamespy.com/images/concept/artemis.jpg&amp;imgrefurl=http://poseidon.strategyplanet.gamespy.com/gods/artemis.html&amp;usg=__CE5FnFlmeHz9v1FZmahAGGr3rLs=&amp;h=716&amp;w=478&amp;sz=29&amp;hl=en&amp;start=20&amp;tbnid=6CUCh6X8kdTfiM:&amp;tbnh=140&amp;tbnw=93&amp;prev=/images%3Fq%3Dartemis%26gbv%3D2%26hl%3D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ages.elfwood.com/art/e/y/eydelman/hermes.jpg&amp;imgrefurl=http://eydelman.elfwood.com/Trickster_God_Hermes.2734268.html&amp;usg=__z3_WzxfxNirsOuou9lsZcJ7GHDI=&amp;h=500&amp;w=398&amp;sz=30&amp;hl=en&amp;start=12&amp;tbnid=DPvjEvfY-Mnh-M:&amp;tbnh=130&amp;tbnw=103&amp;prev=/images%3Fq%3Dhermes%26gbv%3D2%26hl%3D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lnx.ginevra2000.it/Disney/princesses1/Hercules33.gif&amp;imgrefurl=http://paneech.com/2009/06/the-top-ten-cartoon-characters-who-juiced/&amp;usg=___78xNaQu0KJgOuDWn09ufck1niU=&amp;h=357&amp;w=334&amp;sz=29&amp;hl=en&amp;start=7&amp;um=1&amp;tbnid=e8b__RmyZB74lM:&amp;tbnh=121&amp;tbnw=113&amp;prev=/images%3Fq%3Dhercules%26hl%3Den%26um%3D1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northport.k12.ny.us/~enms/ahern/roaming3/Ares%2520God%2520of%2520War.jpg&amp;imgrefurl=http://northport.k12.ny.us/~enms/ahern/roaming3/roaming3.htm&amp;usg=__MqRwIg8uWHoaLe_B4Xal1O49GsQ=&amp;h=420&amp;w=262&amp;sz=30&amp;hl=en&amp;start=7&amp;um=1&amp;tbnid=uSBFH3dSQCDKTM:&amp;tbnh=125&amp;tbnw=78&amp;prev=/images%3Fq%3Dares%2Bgod%2Bof%2Bwar%26hl%3Den%26sa%3DX%26um%3D1" TargetMode="External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belmonttreesurgeon.co.uk/_borders/Tree_Types/Oak_Tree.jpg&amp;imgrefurl=http://www.belmonttreesurgeon.co.uk/trees.htm&amp;usg=__3qu42txXYWNlFL1t2jqaexM0jnI=&amp;h=507&amp;w=587&amp;sz=198&amp;hl=en&amp;start=5&amp;tbnid=Vz1U2RZZn0OL_M:&amp;tbnh=117&amp;tbnw=135&amp;prev=/images%3Fq%3Doak%2Btree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cksinfo.com/clipart/animals/bulls/bull.png&amp;imgrefurl=http://www.cksinfo.com/animals/bulls/index.html&amp;usg=__odSJM4U-U2CHViKErcSEj5egjYA=&amp;h=325&amp;w=400&amp;sz=20&amp;hl=en&amp;start=9&amp;tbnid=Ac85eOQQjRhQvM:&amp;tbnh=101&amp;tbnw=124&amp;prev=/images%3Fq%3Dbull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www.rspb.org.uk/Images/golden%2520eagle_300_tcm9-139839.jpg&amp;imgrefurl=http://www.rspb.org.uk/wildlife/birdguide/name/g/goldeneagle/index.asp&amp;usg=__4255DNeiNU2k5KRENr_P_GVIjaQ=&amp;h=317&amp;w=300&amp;sz=13&amp;hl=en&amp;start=1&amp;tbnid=SMCzPLRLEZNfJM:&amp;tbnh=118&amp;tbnw=112&amp;prev=/images%3Fq%3Deagle%26gbv%3D2%26hl%3D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polyvore.com/cgi/img-thing%3F.out%3Djpg%26size%3Dl%26tid%3D4467729&amp;imgrefurl=http://www.polyvore.com/lightning_bolt_images_pictures_photos/thing%3Fid%3D4467729&amp;usg=__ZpxTrdEVvsQaeG_XmrFHCM4XbdE=&amp;h=300&amp;w=300&amp;sz=3&amp;hl=en&amp;start=49&amp;tbnid=dWnuMOqKB713bM:&amp;tbnh=116&amp;tbnw=116&amp;prev=/images%3Fq%3Dlightning%2Bbolt%26gbv%3D2%26ndsp%3D20%26hl%3Den%26sa%3DN%26start%3D40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rlv.zcache.com/little_cartoon_centaur_postcard-p239248103875444361trdg_400.jpg&amp;imgrefurl=http://www.zazzle.com/little_cartoon_centaur_postcard-239248103875444361&amp;usg=__-8SltgVSjjGfJfQ6LHdgutx4aeg=&amp;h=400&amp;w=400&amp;sz=22&amp;hl=en&amp;start=22&amp;tbnid=08ifSI-BlgdUBM:&amp;tbnh=124&amp;tbnw=124&amp;prev=/images%3Fq%3Dcentaur%2Bcarto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1.bp.blogspot.com/__dO31_PK2kE/RlsOd35YMwI/AAAAAAAAAvc/NTMTebUXS_E/s400/LightningBoltTatoo_400x400.png&amp;imgrefurl=http://absorbascon.blogspot.com/2007_05_27_archive.html&amp;usg=__3nNriJwW6ahBNCjZoC4W7bxl710=&amp;h=400&amp;w=400&amp;sz=15&amp;hl=en&amp;start=2&amp;tbnid=C5_HctTwwp3bgM:&amp;tbnh=124&amp;tbnw=124&amp;prev=/images%3Fq%3Dlightning%2Bbolt%26gbv%3D2%26hl%3De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gmagic.files.wordpress.com/2007/01/creations-explosion-troyes-france-600091.jpg&amp;imgrefurl=http://kingmagic.wordpress.com/2007/01/&amp;usg=__WGLdnxMMPZIB8ktbf9tXrWZwXcY=&amp;h=412&amp;w=550&amp;sz=176&amp;hl=en&amp;start=2&amp;tbnid=msHQVleQ2TrFPM:&amp;tbnh=100&amp;tbnw=133&amp;prev=/images%3Fq%3Dexplosion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rawingmatthewclark.com/Centaur.jpg&amp;imgrefurl=http://www.drawingmatthewclark.com/narnia07.html&amp;usg=__x176CbbTfVAKK5CT36RGpjRpCKU=&amp;h=329&amp;w=350&amp;sz=37&amp;hl=en&amp;start=4&amp;tbnid=LipVOcy6TaP7CM:&amp;tbnh=113&amp;tbnw=120&amp;prev=/images%3Fq%3Ddead%2Bcentaur%26gbv%3D2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00/BigVEE/GoW/olympus_hc6.jpg&amp;imgrefurl=http://www.gamespot.com/pages/unions/forums/show_msgs.php%3Ftopic_id%3D24771339%26union_id%3D8168%26page%3D6&amp;usg=__0OxXWaDnCouCGvqvlIrVstz8jxU=&amp;h=427&amp;w=544&amp;sz=219&amp;hl=en&amp;start=12&amp;tbnid=PxxHDFcw-DjWGM:&amp;tbnh=104&amp;tbnw=133&amp;prev=/images%3Fq%3Dmount%2Bolympu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eece.mrdonn.org/greekgods/NeptunePoseidon.gif&amp;imgrefurl=http://www.seibertron.com/energonpub/viewtopic.php%3Ff%3D6%26t%3D33424%26start%3D0&amp;usg=__MJl5R8cWeMd-UqyOf2Fw6gh8ygM=&amp;h=450&amp;w=384&amp;sz=37&amp;hl=en&amp;start=2&amp;tbnid=aaC7VmIiijc74M:&amp;tbnh=127&amp;tbnw=108&amp;prev=/images%3Fq%3Dposeidon%2Bcartoon%26gbv%3D2%26hl%3Den%26sa%3DX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reece.mrdonn.org/greekgods/PlutoHades.gif&amp;imgrefurl=http://greece.mrdonn.org/greekgods/hades.html&amp;usg=__-fczhM4r3AFypnfSN-MMsjSoBsU=&amp;h=450&amp;w=335&amp;sz=42&amp;hl=en&amp;start=11&amp;tbnid=JJ1WkqT4QCCX1M:&amp;tbnh=127&amp;tbnw=95&amp;prev=/images%3Fq%3Dhade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us isn’t really the Greek god of awesome.  He is the King of the gods, ruler of the universe, and god of wea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41972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8380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es doesn’t like being King of the Underworl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676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son he is, is because when I overthrew my father and rescued my brothers and sisters from his stomach, Poseidon, Hades, and I cast lots to see who got w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3581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ecame king of the gods, Hades became ruler of the underworld, and Poseidon became ruler of the s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www.xena.nu/styx.jpg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873680"/>
            <a:ext cx="1533240" cy="1984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20574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feating my father Kronos, I locked him and the other Titans in Tartar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4120" y="3657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029200" y="3733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41972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http://t0.gstatic.com/images?q=tbn:-CIkQGFzkJYshM:http://poseidon.strategyplanet.gamespy.com/images/concept/athen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971800"/>
            <a:ext cx="811080" cy="1622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572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some of my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http://t0.gstatic.com/images?q=tbn:UzHsjbQAyAfCuM:http://greece.mrdonn.org/greekgods/ApolloApoll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3880" y="29718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://t2.gstatic.com/images?q=tbn:6CUCh6X8kdTfiM:http://poseidon.strategyplanet.gamespy.com/images/concept/artem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124080"/>
            <a:ext cx="10638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04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049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238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74320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e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0384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9" descr="http://t3.gstatic.com/images?q=tbn:DPvjEvfY-Mnh-M:http://images.elfwood.com/art/e/y/eydelman/hermes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048120"/>
            <a:ext cx="1177920" cy="14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t0.gstatic.com/images?q=tbn:yBp47ICXcPpBmM:http://images.clipartof.com/small/5696-Greek-God-Of-Wine-Dionysus-Dionysos-Bacchus-Clipart-Illustratio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326232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5105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3" descr="http://t3.gstatic.com/images?q=tbn:e8b__RmyZB74lM:http://lnx.ginevra2000.it/Disney/princesses1/Hercules33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53080" y="3048120"/>
            <a:ext cx="1292400" cy="1382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647712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c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http://t1.gstatic.com/images?q=tbn:uSBFH3dSQCDKTM:http://northport.k12.ny.us/~enms/ahern/roaming3/Ares%2520God%2520of%2520W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24680" y="2971800"/>
            <a:ext cx="103500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79246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685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ymbols are an oak tree, a bull, and  an ea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ttp://t0.gstatic.com/images?q=tbn:Vz1U2RZZn0OL_M:http://www.belmonttreesurgeon.co.uk/_borders/Tree_Types/Oak_Tre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765600"/>
            <a:ext cx="220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t1.gstatic.com/images?q=tbn:Ac85eOQQjRhQvM:http://www.cksinfo.com/clipart/animals/bulls/bull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851280"/>
            <a:ext cx="2210040" cy="17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t3.gstatic.com/images?q=tbn:SMCzPLRLEZNfJM:http://www.rspb.org.uk/Images/golden%2520eagle_300_tcm9-13983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2219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ttp://www.odysseyadventures.ca/articles/olympia/zeus_statue.jpg"/>
          <p:cNvPicPr/>
          <p:nvPr/>
        </p:nvPicPr>
        <p:blipFill>
          <a:blip r:embed="rId1"/>
          <a:stretch/>
        </p:blipFill>
        <p:spPr>
          <a:xfrm>
            <a:off x="4419720" y="0"/>
            <a:ext cx="43545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9880"/>
            <a:ext cx="176868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0880" y="2362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tatue of Zeus(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4920" y="2971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ne of the Ancient Wonder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28800" y="3886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 am 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04920" y="152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9907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concludes 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97180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E EVERY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0481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o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e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971800" y="3505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ight, I guess you left me no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2.gstatic.com/images?q=tbn:dWnuMOqKB713bM:http://www.polyvore.com/cgi/img-thing%3F.out%3Djpg%26size%3Dl%26tid%3D4467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-22860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26708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, I’m Zeus. I’m a Greek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86200" y="762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have the ability to throw thunder bo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8620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242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look a centaur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t3.gstatic.com/images?q=tbn:08ifSI-BlgdUBM:http://rlv.zcache.com/little_cartoon_centaur_postcard-p239248103875444361trdg_4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t3.gstatic.com/images?q=tbn:C5_HctTwwp3bgM:http://1.bp.blogspot.com/__dO31_PK2kE/RlsOd35YMwI/AAAAAAAAAvc/NTMTebUXS_E/s400/LightningBoltTatoo_400x400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200400"/>
            <a:ext cx="141768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t0.gstatic.com/images?q=tbn:msHQVleQ2TrFPM:http://kingmagic.files.wordpress.com/2007/01/creations-explosion-troyes-france-600091.jpg"/>
          <p:cNvPicPr/>
          <p:nvPr/>
        </p:nvPicPr>
        <p:blipFill>
          <a:blip r:embed="rId1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33720" y="0"/>
            <a:ext cx="6019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819520" y="2057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81080" y="1066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05740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Religions. Parrinder, Geoffrey. Newnes Books, 198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us-Greek God Zeus. 2009. http://www.buzzle.com. 9/3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k Mythology Link. Parada, Carlos. 1997. http://homepage.mac.com. 9/2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t0.gstatic.com/images?q=tbn:msHQVleQ2TrFPM:http://kingmagic.files.wordpress.com/2007/01/creations-explosion-troyes-france-6000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1440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1.gstatic.com/images?q=tbn:LipVOcy6TaP7CM:http://www.drawingmatthewclark.com/Centau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506268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267080" y="685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, Ha g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495680" y="304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way where was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67080" y="1143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yeah, I’m Zeus. I live on Mount Olympus with the other go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67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on I’ll sh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t3.gstatic.com/images?q=tbn:PxxHDFcw-DjWGM:http://img.photobucket.com/albums/v300/BigVEE/GoW/olympus_hc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46240"/>
            <a:ext cx="8458200" cy="661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0"/>
            <a:ext cx="153324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t3.gstatic.com/images?q=tbn:aaC7VmIiijc74M:http://greece.mrdonn.org/greekgods/NeptunePoseid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657600"/>
            <a:ext cx="175392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3520" y="11430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look who it is, it’s my brother Posei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http://t0.gstatic.com/images?q=tbn:yBp47ICXcPpBmM:http://images.clipartof.com/small/5696-Greek-God-Of-Wine-Dionysus-Dionysos-Bacchus-Clipart-Illustrati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3962520"/>
            <a:ext cx="1981080" cy="185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429000" y="1981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 Zeus you missed Dionysus’ party last night. It was awe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7816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2057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is the god of wine as you may have guessed. Now let’s go check on the rest of my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7368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nationalparkreservations.com/images/mammothcave/mammoth_cave.jpg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113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0" y="16765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rother, Hades, is ruler of the under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’s it going in there H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816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te thi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3" descr="http://t2.gstatic.com/images?q=tbn:JJ1WkqT4QCCX1M:http://greece.mrdonn.org/greekgods/PlutoHades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7:09Z</dcterms:created>
  <dc:creator>student</dc:creator>
  <dc:description/>
  <dc:language>en-US</dc:language>
  <cp:lastModifiedBy>SPACS</cp:lastModifiedBy>
  <dcterms:modified xsi:type="dcterms:W3CDTF">2009-11-10T18:51:24Z</dcterms:modified>
  <cp:revision>9</cp:revision>
  <dc:subject/>
  <dc:title>PowerPoint Presentation</dc:title>
</cp:coreProperties>
</file>