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24DD-8FE5-4F6F-8002-6D4276FDD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95B1-3FA3-4617-9446-4E112134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18CC-A009-4709-8817-D79A216CD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D07E-ECF9-420A-B0FB-EF11F061F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30ED-54FC-4FB4-AA66-08B9B18B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3048-8582-4922-9786-D4B8C8B7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38E6-B07F-4AA8-B82C-9A086581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CBA1-3E49-4906-83F8-75E91406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8A4A-C313-402C-9609-2D9893D9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6216-568B-4D3E-A142-12B87027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7E4D-F8BB-4FE3-BC00-B30DABF8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FB38-A018-4F6C-B97B-B386A6CC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0386-3189-4816-AA0D-985AC0404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poseidon.strategyplanet.gamespy.com/images/concept/athena.jpg&amp;imgrefurl=http://poseidon.strategyplanet.gamespy.com/gods/athena.html&amp;usg=__M2EtEZPSDxmaxWMrogGHSUI76e8=&amp;h=772&amp;w=387&amp;sz=30&amp;hl=en&amp;start=8&amp;tbnid=-CIkQGFzkJYshM:&amp;tbnh=142&amp;tbnw=71&amp;prev=/images%3Fq%3Dathena%26gbv%3D2%26hl%3Den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google.com/imgres?imgurl=http://greece.mrdonn.org/greekgods/ApolloApollo.gif&amp;imgrefurl=http://greece.mrdonn.org/greekgods/apollo.html&amp;usg=__KPyFAH6eTUittZsP_LkqUwYDK40=&amp;h=450&amp;w=371&amp;sz=41&amp;hl=en&amp;start=5&amp;tbnid=UzHsjbQAyAfCuM:&amp;tbnh=127&amp;tbnw=105&amp;prev=/images%3Fq%3Dapollo%26gbv%3D2%26hl%3Den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images.google.com/imgres?imgurl=http://poseidon.strategyplanet.gamespy.com/images/concept/artemis.jpg&amp;imgrefurl=http://poseidon.strategyplanet.gamespy.com/gods/artemis.html&amp;usg=__CE5FnFlmeHz9v1FZmahAGGr3rLs=&amp;h=716&amp;w=478&amp;sz=29&amp;hl=en&amp;start=20&amp;tbnid=6CUCh6X8kdTfiM:&amp;tbnh=140&amp;tbnw=93&amp;prev=/images%3Fq%3Dartemis%26gbv%3D2%26hl%3Den" TargetMode="External"/><Relationship Id="rId8" Type="http://schemas.openxmlformats.org/officeDocument/2006/relationships/image" Target="../media/image14.jpeg"/><Relationship Id="rId9" Type="http://schemas.openxmlformats.org/officeDocument/2006/relationships/hyperlink" Target="http://images.google.com/imgres?imgurl=http://images.elfwood.com/art/e/y/eydelman/hermes.jpg&amp;imgrefurl=http://eydelman.elfwood.com/Trickster_God_Hermes.2734268.html&amp;usg=__z3_WzxfxNirsOuou9lsZcJ7GHDI=&amp;h=500&amp;w=398&amp;sz=30&amp;hl=en&amp;start=12&amp;tbnid=DPvjEvfY-Mnh-M:&amp;tbnh=130&amp;tbnw=103&amp;prev=/images%3Fq%3Dhermes%26gbv%3D2%26hl%3Den" TargetMode="External"/><Relationship Id="rId10" Type="http://schemas.openxmlformats.org/officeDocument/2006/relationships/image" Target="../media/image15.jpeg"/><Relationship Id="rId11" Type="http://schemas.openxmlformats.org/officeDocument/2006/relationships/hyperlink" Target="http://images.google.com/imgres?imgurl=http://images.clipartof.com/small/5696-Greek-God-Of-Wine-Dionysus-Dionysos-Bacchus-Clipart-Illustration.jpg&amp;imgrefurl=http://www.clipartof.com/details/clipart/5696.html&amp;usg=__in5qdp2cjsUCnQeJOba1tsys1vw=&amp;h=420&amp;w=450&amp;sz=96&amp;hl=en&amp;start=9&amp;tbnid=yBp47ICXcPpBmM:&amp;tbnh=119&amp;tbnw=127&amp;prev=/images%3Fq%3Ddionysus%2Bgreek%2Bgod%26gbv%3D2%26hl%3Den%26sa%3DX" TargetMode="External"/><Relationship Id="rId12" Type="http://schemas.openxmlformats.org/officeDocument/2006/relationships/image" Target="../media/image8.jpeg"/><Relationship Id="rId13" Type="http://schemas.openxmlformats.org/officeDocument/2006/relationships/hyperlink" Target="http://images.google.com/imgres?imgurl=http://lnx.ginevra2000.it/Disney/princesses1/Hercules33.gif&amp;imgrefurl=http://paneech.com/2009/06/the-top-ten-cartoon-characters-who-juiced/&amp;usg=___78xNaQu0KJgOuDWn09ufck1niU=&amp;h=357&amp;w=334&amp;sz=29&amp;hl=en&amp;start=7&amp;um=1&amp;tbnid=e8b__RmyZB74lM:&amp;tbnh=121&amp;tbnw=113&amp;prev=/images%3Fq%3Dhercules%26hl%3Den%26um%3D1" TargetMode="External"/><Relationship Id="rId14" Type="http://schemas.openxmlformats.org/officeDocument/2006/relationships/image" Target="../media/image16.jpeg"/><Relationship Id="rId15" Type="http://schemas.openxmlformats.org/officeDocument/2006/relationships/hyperlink" Target="http://images.google.com/imgres?imgurl=http://northport.k12.ny.us/~enms/ahern/roaming3/Ares%2520God%2520of%2520War.jpg&amp;imgrefurl=http://northport.k12.ny.us/~enms/ahern/roaming3/roaming3.htm&amp;usg=__MqRwIg8uWHoaLe_B4Xal1O49GsQ=&amp;h=420&amp;w=262&amp;sz=30&amp;hl=en&amp;start=7&amp;um=1&amp;tbnid=uSBFH3dSQCDKTM:&amp;tbnh=125&amp;tbnw=78&amp;prev=/images%3Fq%3Dares%2Bgod%2Bof%2Bwar%26hl%3Den%26sa%3DX%26um%3D1" TargetMode="External"/><Relationship Id="rId16" Type="http://schemas.openxmlformats.org/officeDocument/2006/relationships/image" Target="../media/image17.jpeg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belmonttreesurgeon.co.uk/_borders/Tree_Types/Oak_Tree.jpg&amp;imgrefurl=http://www.belmonttreesurgeon.co.uk/trees.htm&amp;usg=__3qu42txXYWNlFL1t2jqaexM0jnI=&amp;h=507&amp;w=587&amp;sz=198&amp;hl=en&amp;start=5&amp;tbnid=Vz1U2RZZn0OL_M:&amp;tbnh=117&amp;tbnw=135&amp;prev=/images%3Fq%3Doak%2Btree%26gbv%3D2%26hl%3Den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images.google.com/imgres?imgurl=http://www.cksinfo.com/clipart/animals/bulls/bull.png&amp;imgrefurl=http://www.cksinfo.com/animals/bulls/index.html&amp;usg=__odSJM4U-U2CHViKErcSEj5egjYA=&amp;h=325&amp;w=400&amp;sz=20&amp;hl=en&amp;start=9&amp;tbnid=Ac85eOQQjRhQvM:&amp;tbnh=101&amp;tbnw=124&amp;prev=/images%3Fq%3Dbull%26gbv%3D2%26hl%3Den" TargetMode="External"/><Relationship Id="rId6" Type="http://schemas.openxmlformats.org/officeDocument/2006/relationships/image" Target="../media/image19.jpeg"/><Relationship Id="rId7" Type="http://schemas.openxmlformats.org/officeDocument/2006/relationships/hyperlink" Target="http://images.google.com/imgres?imgurl=http://www.rspb.org.uk/Images/golden%2520eagle_300_tcm9-139839.jpg&amp;imgrefurl=http://www.rspb.org.uk/wildlife/birdguide/name/g/goldeneagle/index.asp&amp;usg=__4255DNeiNU2k5KRENr_P_GVIjaQ=&amp;h=317&amp;w=300&amp;sz=13&amp;hl=en&amp;start=1&amp;tbnid=SMCzPLRLEZNfJM:&amp;tbnh=118&amp;tbnw=112&amp;prev=/images%3Fq%3Deagle%26gbv%3D2%26hl%3Den" TargetMode="External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polyvore.com/cgi/img-thing%3F.out%3Djpg%26size%3Dl%26tid%3D4467729&amp;imgrefurl=http://www.polyvore.com/lightning_bolt_images_pictures_photos/thing%3Fid%3D4467729&amp;usg=__ZpxTrdEVvsQaeG_XmrFHCM4XbdE=&amp;h=300&amp;w=300&amp;sz=3&amp;hl=en&amp;start=49&amp;tbnid=dWnuMOqKB713bM:&amp;tbnh=116&amp;tbnw=116&amp;prev=/images%3Fq%3Dlightning%2Bbolt%26gbv%3D2%26ndsp%3D20%26hl%3Den%26sa%3DN%26start%3D40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rlv.zcache.com/little_cartoon_centaur_postcard-p239248103875444361trdg_400.jpg&amp;imgrefurl=http://www.zazzle.com/little_cartoon_centaur_postcard-239248103875444361&amp;usg=__-8SltgVSjjGfJfQ6LHdgutx4aeg=&amp;h=400&amp;w=400&amp;sz=22&amp;hl=en&amp;start=22&amp;tbnid=08ifSI-BlgdUBM:&amp;tbnh=124&amp;tbnw=124&amp;prev=/images%3Fq%3Dcentaur%2Bcartoon%26gbv%3D2%26ndsp%3D20%26hl%3Den%26sa%3DN%26start%3D20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1.bp.blogspot.com/__dO31_PK2kE/RlsOd35YMwI/AAAAAAAAAvc/NTMTebUXS_E/s400/LightningBoltTatoo_400x400.png&amp;imgrefurl=http://absorbascon.blogspot.com/2007_05_27_archive.html&amp;usg=__3nNriJwW6ahBNCjZoC4W7bxl710=&amp;h=400&amp;w=400&amp;sz=15&amp;hl=en&amp;start=2&amp;tbnid=C5_HctTwwp3bgM:&amp;tbnh=124&amp;tbnw=124&amp;prev=/images%3Fq%3Dlightning%2Bbolt%26gbv%3D2%26hl%3Den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kingmagic.files.wordpress.com/2007/01/creations-explosion-troyes-france-600091.jpg&amp;imgrefurl=http://kingmagic.wordpress.com/2007/01/&amp;usg=__WGLdnxMMPZIB8ktbf9tXrWZwXcY=&amp;h=412&amp;w=550&amp;sz=176&amp;hl=en&amp;start=2&amp;tbnid=msHQVleQ2TrFPM:&amp;tbnh=100&amp;tbnw=133&amp;prev=/images%3Fq%3Dexplosion%26gbv%3D2%26hl%3Den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drawingmatthewclark.com/Centaur.jpg&amp;imgrefurl=http://www.drawingmatthewclark.com/narnia07.html&amp;usg=__x176CbbTfVAKK5CT36RGpjRpCKU=&amp;h=329&amp;w=350&amp;sz=37&amp;hl=en&amp;start=4&amp;tbnid=LipVOcy6TaP7CM:&amp;tbnh=113&amp;tbnw=120&amp;prev=/images%3Fq%3Ddead%2Bcentaur%26gbv%3D2%26hl%3Den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g.photobucket.com/albums/v300/BigVEE/GoW/olympus_hc6.jpg&amp;imgrefurl=http://www.gamespot.com/pages/unions/forums/show_msgs.php%3Ftopic_id%3D24771339%26union_id%3D8168%26page%3D6&amp;usg=__0OxXWaDnCouCGvqvlIrVstz8jxU=&amp;h=427&amp;w=544&amp;sz=219&amp;hl=en&amp;start=12&amp;tbnid=PxxHDFcw-DjWGM:&amp;tbnh=104&amp;tbnw=133&amp;prev=/images%3Fq%3Dmount%2Bolympus%26gbv%3D2%26hl%3Den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greece.mrdonn.org/greekgods/NeptunePoseidon.gif&amp;imgrefurl=http://www.seibertron.com/energonpub/viewtopic.php%3Ff%3D6%26t%3D33424%26start%3D0&amp;usg=__MJl5R8cWeMd-UqyOf2Fw6gh8ygM=&amp;h=450&amp;w=384&amp;sz=37&amp;hl=en&amp;start=2&amp;tbnid=aaC7VmIiijc74M:&amp;tbnh=127&amp;tbnw=108&amp;prev=/images%3Fq%3Dposeidon%2Bcartoon%26gbv%3D2%26hl%3Den%26sa%3DX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4" Type="http://schemas.openxmlformats.org/officeDocument/2006/relationships/image" Target="../media/image1.jpeg"/><Relationship Id="rId5" Type="http://schemas.openxmlformats.org/officeDocument/2006/relationships/hyperlink" Target="http://images.google.com/imgres?imgurl=http://images.clipartof.com/small/5696-Greek-God-Of-Wine-Dionysus-Dionysos-Bacchus-Clipart-Illustration.jpg&amp;imgrefurl=http://www.clipartof.com/details/clipart/5696.html&amp;usg=__in5qdp2cjsUCnQeJOba1tsys1vw=&amp;h=420&amp;w=450&amp;sz=96&amp;hl=en&amp;start=9&amp;tbnid=yBp47ICXcPpBmM:&amp;tbnh=119&amp;tbnw=127&amp;prev=/images%3Fq%3Ddionysus%2Bgreek%2Bgod%26gbv%3D2%26hl%3Den%26sa%3DX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ennessy.id.au/quentingeorge/archives/JupiterZeus.gif&amp;imgrefurl=http://www.hennessy.id.au/quentingeorge/archives/2008_08.html&amp;usg=__wu7WKGWi_IIhK0D-NKlnxy3PCtA=&amp;h=450&amp;w=349&amp;sz=33&amp;hl=en&amp;start=6&amp;tbnid=4B2c7aT_Lwn2BM:&amp;tbnh=127&amp;tbnw=98&amp;prev=/images%3Fq%3Dzeu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hyperlink" Target="http://images.google.com/imgres?imgurl=http://greece.mrdonn.org/greekgods/PlutoHades.gif&amp;imgrefurl=http://greece.mrdonn.org/greekgods/hades.html&amp;usg=__-fczhM4r3AFypnfSN-MMsjSoBsU=&amp;h=450&amp;w=335&amp;sz=42&amp;hl=en&amp;start=11&amp;tbnid=JJ1WkqT4QCCX1M:&amp;tbnh=127&amp;tbnw=95&amp;prev=/images%3Fq%3Dhades%26gbv%3D2%26hl%3Den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us: Greek god of Awes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657600"/>
            <a:ext cx="64771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us isn’t really the Greek god of awesome.  He is the King of the gods, ruler of the universe, and god of weath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t0.gstatic.com/images?q=tbn:4B2c7aT_Lwn2BM:http://www.hennessy.id.au/quentingeorge/archives/JupiterZeu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4419720"/>
            <a:ext cx="1533600" cy="19843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0" y="8380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des doesn’t like being King of the Underworl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0" y="1676520"/>
            <a:ext cx="5334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ason he is, is because when I overthrew my father and rescued my brothers and sisters from his stomach, Poseidon, Hades, and I cast lots to see who got wh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0" y="358128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became king of the gods, Hades became ruler of the underworld, and Poseidon became ruler of the se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http://www.xena.nu/styx.jpg"/>
          <p:cNvPicPr/>
          <p:nvPr/>
        </p:nvPicPr>
        <p:blipFill>
          <a:blip r:embed="rId1"/>
          <a:stretch/>
        </p:blipFill>
        <p:spPr>
          <a:xfrm>
            <a:off x="2286000" y="171468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http://t0.gstatic.com/images?q=tbn:4B2c7aT_Lwn2BM:http://www.hennessy.id.au/quentingeorge/archives/JupiterZeus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4873680"/>
            <a:ext cx="1533240" cy="19843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0" y="2057400"/>
            <a:ext cx="220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defeating my father Kronos, I locked him and the other Titans in Tartar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5334120" y="36576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5029200" y="3733920"/>
            <a:ext cx="192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://t0.gstatic.com/images?q=tbn:4B2c7aT_Lwn2BM:http://www.hennessy.id.au/quentingeorge/archives/JupiterZeu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0"/>
            <a:ext cx="1533600" cy="19843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4419720" y="3049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6" descr="http://t0.gstatic.com/images?q=tbn:-CIkQGFzkJYshM:http://poseidon.strategyplanet.gamespy.com/images/concept/athen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2971800"/>
            <a:ext cx="811080" cy="16225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457200" y="3808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some of my child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9" descr="http://t0.gstatic.com/images?q=tbn:UzHsjbQAyAfCuM:http://greece.mrdonn.org/greekgods/ApolloApollo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523880" y="2971800"/>
            <a:ext cx="1200240" cy="1450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http://t2.gstatic.com/images?q=tbn:6CUCh6X8kdTfiM:http://poseidon.strategyplanet.gamespy.com/images/concept/artemis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895480" y="3124080"/>
            <a:ext cx="1063800" cy="16002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"/>
          <p:cNvSpPr/>
          <p:nvPr/>
        </p:nvSpPr>
        <p:spPr>
          <a:xfrm>
            <a:off x="304920" y="34290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304920" y="2590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1523880" y="25909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ol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2743200" y="2590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em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4038480" y="25909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9" descr="http://t3.gstatic.com/images?q=tbn:DPvjEvfY-Mnh-M:http://images.elfwood.com/art/e/y/eydelman/hermes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038480" y="3048120"/>
            <a:ext cx="1177920" cy="1485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0" descr="http://t0.gstatic.com/images?q=tbn:yBp47ICXcPpBmM:http://images.clipartof.com/small/5696-Greek-God-Of-Wine-Dionysus-Dionysos-Bacchus-Clipart-Illustration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181480" y="3262320"/>
            <a:ext cx="1219320" cy="1143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21"/>
          <p:cNvSpPr/>
          <p:nvPr/>
        </p:nvSpPr>
        <p:spPr>
          <a:xfrm>
            <a:off x="5105520" y="2666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onys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3" descr="http://t3.gstatic.com/images?q=tbn:e8b__RmyZB74lM:http://lnx.ginevra2000.it/Disney/princesses1/Hercules33.gif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553080" y="3048120"/>
            <a:ext cx="1292400" cy="13827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24"/>
          <p:cNvSpPr/>
          <p:nvPr/>
        </p:nvSpPr>
        <p:spPr>
          <a:xfrm>
            <a:off x="6477120" y="2666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c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26" descr="http://t1.gstatic.com/images?q=tbn:uSBFH3dSQCDKTM:http://northport.k12.ny.us/~enms/ahern/roaming3/Ares%2520God%2520of%2520War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7924680" y="2971800"/>
            <a:ext cx="1035000" cy="16574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7"/>
          <p:cNvSpPr/>
          <p:nvPr/>
        </p:nvSpPr>
        <p:spPr>
          <a:xfrm>
            <a:off x="7924680" y="2514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http://t0.gstatic.com/images?q=tbn:4B2c7aT_Lwn2BM:http://www.hennessy.id.au/quentingeorge/archives/JupiterZeu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685800"/>
            <a:ext cx="1533600" cy="19843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0" y="114300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symbols are an oak tree, a bull, and  an eag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http://t0.gstatic.com/images?q=tbn:Vz1U2RZZn0OL_M:http://www.belmonttreesurgeon.co.uk/_borders/Tree_Types/Oak_Tre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3765600"/>
            <a:ext cx="2209680" cy="1914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http://t1.gstatic.com/images?q=tbn:Ac85eOQQjRhQvM:http://www.cksinfo.com/clipart/animals/bulls/bull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124080" y="3851280"/>
            <a:ext cx="2210040" cy="1798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http://t3.gstatic.com/images?q=tbn:SMCzPLRLEZNfJM:http://www.rspb.org.uk/Images/golden%2520eagle_300_tcm9-139839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33520" y="3505320"/>
            <a:ext cx="221904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http://www.odysseyadventures.ca/articles/olympia/zeus_statue.jpg"/>
          <p:cNvPicPr/>
          <p:nvPr/>
        </p:nvPicPr>
        <p:blipFill>
          <a:blip r:embed="rId1"/>
          <a:stretch/>
        </p:blipFill>
        <p:spPr>
          <a:xfrm>
            <a:off x="4419720" y="0"/>
            <a:ext cx="435456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http://t0.gstatic.com/images?q=tbn:4B2c7aT_Lwn2BM:http://www.hennessy.id.au/quentingeorge/archives/JupiterZeus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3809880"/>
            <a:ext cx="1768680" cy="22892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7"/>
          <p:cNvSpPr/>
          <p:nvPr/>
        </p:nvSpPr>
        <p:spPr>
          <a:xfrm>
            <a:off x="380880" y="2362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Statue of Zeus(me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304920" y="297180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one of the Ancient Wonders of the Wor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1828800" y="38862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I am awes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304920" y="152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066680" y="990720"/>
            <a:ext cx="6782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concludes Zeus: Greek god of Awes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6" descr="http://t0.gstatic.com/images?q=tbn:4B2c7aT_Lwn2BM:http://www.hennessy.id.au/quentingeorge/archives/JupiterZeu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4114800"/>
            <a:ext cx="1533600" cy="19843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2971800" y="3124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E EVERY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http://t0.gstatic.com/images?q=tbn:4B2c7aT_Lwn2BM:http://www.hennessy.id.au/quentingeorge/archives/JupiterZeu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4114800"/>
            <a:ext cx="1533600" cy="19843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3048120" y="35053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go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3276720" y="34290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mea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3" descr="http://t0.gstatic.com/images?q=tbn:4B2c7aT_Lwn2BM:http://www.hennessy.id.au/quentingeorge/archives/JupiterZeu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4114800"/>
            <a:ext cx="1533600" cy="198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http://t0.gstatic.com/images?q=tbn:4B2c7aT_Lwn2BM:http://www.hennessy.id.au/quentingeorge/archives/JupiterZeu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4114800"/>
            <a:ext cx="1533600" cy="19843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2971800" y="35053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right, I guess you left me no cho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ttp://t0.gstatic.com/images?q=tbn:4B2c7aT_Lwn2BM:http://www.hennessy.id.au/quentingeorge/archives/JupiterZeu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4114800"/>
            <a:ext cx="1533600" cy="1984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http://t2.gstatic.com/images?q=tbn:dWnuMOqKB713bM:http://www.polyvore.com/cgi/img-thing%3F.out%3Djpg%26size%3Dl%26tid%3D446772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-228600"/>
            <a:ext cx="7086600" cy="708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http://t0.gstatic.com/images?q=tbn:4B2c7aT_Lwn2BM:http://www.hennessy.id.au/quentingeorge/archives/JupiterZeu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457200"/>
            <a:ext cx="1533600" cy="19843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4267080" y="2286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, I’m Zeus. I’m a Greek g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3886200" y="7621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have the ability to throw thunder bol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3886200" y="12952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4724280" y="12952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h look a centaur!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9" descr="http://t3.gstatic.com/images?q=tbn:08ifSI-BlgdUBM:http://rlv.zcache.com/little_cartoon_centaur_postcard-p239248103875444361trdg_40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4572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http://t3.gstatic.com/images?q=tbn:C5_HctTwwp3bgM:http://1.bp.blogspot.com/__dO31_PK2kE/RlsOd35YMwI/AAAAAAAAAvc/NTMTebUXS_E/s400/LightningBoltTatoo_400x400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3200400"/>
            <a:ext cx="1417680" cy="141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http://t0.gstatic.com/images?q=tbn:msHQVleQ2TrFPM:http://kingmagic.files.wordpress.com/2007/01/creations-explosion-troyes-france-600091.jpg"/>
          <p:cNvPicPr/>
          <p:nvPr/>
        </p:nvPicPr>
        <p:blipFill>
          <a:blip r:embed="rId1"/>
          <a:stretch/>
        </p:blipFill>
        <p:spPr>
          <a:xfrm>
            <a:off x="838080" y="1208160"/>
            <a:ext cx="7010640" cy="52689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2133720" y="0"/>
            <a:ext cx="601956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BOOM!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2819520" y="20574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981080" y="10666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ibliograp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57200" y="2057400"/>
            <a:ext cx="76201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 Religions. Parrinder, Geoffrey. Newnes Books, 198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us-Greek God Zeus. 2009. http://www.buzzle.com. 9/3/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k Mythology Link. Parada, Carlos. 1997. http://homepage.mac.com. 9/2/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http://t0.gstatic.com/images?q=tbn:msHQVleQ2TrFPM:http://kingmagic.files.wordpress.com/2007/01/creations-explosion-troyes-france-60009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208160"/>
            <a:ext cx="7010640" cy="52689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914400" y="0"/>
            <a:ext cx="8001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BOOM!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t0.gstatic.com/images?q=tbn:4B2c7aT_Lwn2BM:http://www.hennessy.id.au/quentingeorge/archives/JupiterZeu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457200"/>
            <a:ext cx="1533600" cy="1984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http://t1.gstatic.com/images?q=tbn:LipVOcy6TaP7CM:http://www.drawingmatthewclark.com/Centaur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438280" y="5062680"/>
            <a:ext cx="1905120" cy="1795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1"/>
          <p:cNvSpPr/>
          <p:nvPr/>
        </p:nvSpPr>
        <p:spPr>
          <a:xfrm>
            <a:off x="4267080" y="6858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, Ha got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t0.gstatic.com/images?q=tbn:4B2c7aT_Lwn2BM:http://www.hennessy.id.au/quentingeorge/archives/JupiterZeu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457200"/>
            <a:ext cx="1533600" cy="19843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4495680" y="3049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way where was 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267080" y="114300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h yeah, I’m Zeus. I live on Mount Olympus with the other god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4267080" y="243828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e on I’ll show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http://t3.gstatic.com/images?q=tbn:PxxHDFcw-DjWGM:http://img.photobucket.com/albums/v300/BigVEE/GoW/olympus_hc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246240"/>
            <a:ext cx="8458200" cy="6611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t0.gstatic.com/images?q=tbn:4B2c7aT_Lwn2BM:http://www.hennessy.id.au/quentingeorge/archives/JupiterZeus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8120" y="0"/>
            <a:ext cx="1533240" cy="198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http://t3.gstatic.com/images?q=tbn:aaC7VmIiijc74M:http://greece.mrdonn.org/greekgods/NeptunePoseidon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3657600"/>
            <a:ext cx="1753920" cy="2060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t0.gstatic.com/images?q=tbn:4B2c7aT_Lwn2BM:http://www.hennessy.id.au/quentingeorge/archives/JupiterZeus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3429000"/>
            <a:ext cx="1533600" cy="19843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533520" y="1143000"/>
            <a:ext cx="487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look who it is, it’s my brother Poseid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7" descr="http://t0.gstatic.com/images?q=tbn:yBp47ICXcPpBmM:http://images.clipartof.com/small/5696-Greek-God-Of-Wine-Dionysus-Dionysos-Bacchus-Clipart-Illustration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705720" y="3962520"/>
            <a:ext cx="1981080" cy="18572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3429000" y="198108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y Zeus you missed Dionysus’ party last night. It was aweso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6781680" y="30481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Y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t0.gstatic.com/images?q=tbn:4B2c7aT_Lwn2BM:http://www.hennessy.id.au/quentingeorge/archives/JupiterZeu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3429000"/>
            <a:ext cx="1533600" cy="19843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762120" y="205740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onysus is the god of wine as you may have guessed. Now let’s go check on the rest of my fam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t0.gstatic.com/images?q=tbn:4B2c7aT_Lwn2BM:http://www.hennessy.id.au/quentingeorge/archives/JupiterZeu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73680"/>
            <a:ext cx="1533600" cy="1984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http://www.nationalparkreservations.com/images/mammothcave/mammoth_cave.jpg"/>
          <p:cNvPicPr/>
          <p:nvPr/>
        </p:nvPicPr>
        <p:blipFill>
          <a:blip r:embed="rId3"/>
          <a:stretch/>
        </p:blipFill>
        <p:spPr>
          <a:xfrm>
            <a:off x="2286000" y="0"/>
            <a:ext cx="6858000" cy="71136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9"/>
          <p:cNvSpPr/>
          <p:nvPr/>
        </p:nvSpPr>
        <p:spPr>
          <a:xfrm>
            <a:off x="0" y="167652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brother, Hades, is ruler of the underwor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0" y="35053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’s it going in there H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6781680" y="3581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 hate thi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3" descr="http://t2.gstatic.com/images?q=tbn:JJ1WkqT4QCCX1M:http://greece.mrdonn.org/greekgods/PlutoHades.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81680" y="4038480"/>
            <a:ext cx="1371600" cy="183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3:27:09Z</dcterms:created>
  <dc:creator>student</dc:creator>
  <dc:description/>
  <dc:language>en-US</dc:language>
  <cp:lastModifiedBy>SPACS</cp:lastModifiedBy>
  <dcterms:modified xsi:type="dcterms:W3CDTF">2009-11-10T18:51:24Z</dcterms:modified>
  <cp:revision>9</cp:revision>
  <dc:subject/>
  <dc:title>PowerPoint Presentation</dc:title>
</cp:coreProperties>
</file>